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28.wmf" ContentType="image/x-wmf"/>
  <Override PartName="/ppt/media/image37.jpeg" ContentType="image/jpeg"/>
  <Override PartName="/ppt/media/image30.png" ContentType="image/pn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.wmf" ContentType="image/x-wmf"/>
  <Override PartName="/ppt/media/image34.jpeg" ContentType="image/jpeg"/>
  <Override PartName="/ppt/media/image7.jpeg" ContentType="image/jpeg"/>
  <Override PartName="/ppt/media/image35.png" ContentType="image/png"/>
  <Override PartName="/ppt/media/image40.jpeg" ContentType="image/jpeg"/>
  <Override PartName="/ppt/media/image4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14A-E962-45E6-980C-03D4C14C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EDE-FC4D-469D-B6F8-7F4D90DB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E4D-175A-4DEA-B1ED-DC91419F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745-DB39-4C92-8BC2-C85C24E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511C-9AC7-4FB9-8152-34CDC85C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785A-00FD-422A-B3D0-9441F42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ECEF-3675-4130-B7D6-1146CDD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94DD-845C-480E-A6A8-19816F2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50D3-1FBA-43AC-BB64-289AFE4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B0B2-876F-41D1-9AB5-1E063ABE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B21-983F-4BE7-8F6D-42E9264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23F-3BF9-4995-81A3-443273D0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912-7837-4E94-AEE7-6C56783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9B96-3930-4FBC-9283-D7FAB3E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CA6-3FF6-4C14-8EFE-D8FDC5D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673-55AD-4A8C-9460-5CA8E07D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74FA-7C1C-4F65-B979-4FFE99AF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538-680C-423B-9652-CBA4AD63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3B6-F3BC-4227-B91C-36BF610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65E-F54F-48B9-B6B4-FBC03192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EBA-ACF4-4557-8B1E-9727F20A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A58-83CA-4688-9278-49485C6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E5D-0E05-4D7C-924F-F6D2E4D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73D-AFE3-453F-8ABE-84F54AD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588-FE89-45FF-AB9F-80407C7456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18F-2D46-493D-9E72-158540602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blcoindex.htm?PM=ss12_inventors" TargetMode="External"/><Relationship Id="rId2" Type="http://schemas.openxmlformats.org/officeDocument/2006/relationships/hyperlink" Target="http://inventors.about.com/library/blcoindex.htm?PM=ss12_inventors" TargetMode="External"/><Relationship Id="rId3" Type="http://schemas.openxmlformats.org/officeDocument/2006/relationships/hyperlink" Target="http://inventors.about.com/library/blcoindex.htm?PM=ss12_inventors" TargetMode="External"/><Relationship Id="rId4" Type="http://schemas.openxmlformats.org/officeDocument/2006/relationships/hyperlink" Target="http://inventors.about.com/library/blcoindex.htm?PM=ss12_inventors" TargetMode="External"/><Relationship Id="rId5" Type="http://schemas.openxmlformats.org/officeDocument/2006/relationships/hyperlink" Target="http://inventors.about.com/library/blcoindex.htm?PM=ss12_inventors" TargetMode="External"/><Relationship Id="rId6" Type="http://schemas.openxmlformats.org/officeDocument/2006/relationships/hyperlink" Target="http://inventors.about.com/library/blcoindex.htm?PM=ss12_inventors" TargetMode="External"/><Relationship Id="rId7" Type="http://schemas.openxmlformats.org/officeDocument/2006/relationships/hyperlink" Target="http://inventors.about.com/library/blcoindex.htm?PM=ss12_inventors" TargetMode="External"/><Relationship Id="rId8" Type="http://schemas.openxmlformats.org/officeDocument/2006/relationships/hyperlink" Target="http://inventors.about.com/library/blcoindex.htm?PM=ss12_inventors" TargetMode="External"/><Relationship Id="rId9" Type="http://schemas.openxmlformats.org/officeDocument/2006/relationships/hyperlink" Target="http://inventors.about.com/library/blcoindex.htm?PM=ss12_inventors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zámítástechnika történe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„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örténetnek soha nincs olyan kezdete, ami előtt semmi lényeges nem történt…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H. H. Goldst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„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élységesen mély a múltnak kútja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Thomas Mann)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49F-42DF-4B7B-81ED-B39DA16138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épek a számítógép-ókorbó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John Atanasoff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1903-199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liffor Berr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1918-1963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1939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elektronikus gé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552760" cy="202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003640" y="3936960"/>
            <a:ext cx="3805560" cy="2668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68360" y="4076640"/>
            <a:ext cx="417492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943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olossu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an Turing, Max Newma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igma visszafejtés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50 évre titkosítva, szétszed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ső elektronikus, digitális számítógép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D04-65A5-4E5D-A893-EFAFF6A6E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épek a számítógép-ókorbó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422064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urta I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kalkulátor (19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5 tizedesjegy pontos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chaniku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521160" cy="2189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4360" y="162864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ENIAC ünnepélyes át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946. február 15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403280" y="3645000"/>
            <a:ext cx="212400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392-420E-4656-A162-7622369AEA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zámítógép-generációk / programozá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836640"/>
          <a:ext cx="8785440" cy="4530600"/>
        </p:xfrm>
        <a:graphic>
          <a:graphicData uri="http://schemas.openxmlformats.org/drawingml/2006/table">
            <a:tbl>
              <a:tblPr/>
              <a:tblGrid>
                <a:gridCol w="1513080"/>
                <a:gridCol w="4343400"/>
                <a:gridCol w="29289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generáció (1946-195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csöves gépek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~10</a:t>
                      </a:r>
                      <a:r>
                        <a:rPr b="0" lang="hu-H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űv./sec., nagy energiaigény, alacsony megbízhatósá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épi kódú programozá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asszintű nyelv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generáció(1958-196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élvezetős gépek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0</a:t>
                      </a:r>
                      <a:r>
                        <a:rPr b="0" lang="hu-H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űv./sec., méret csökken, megbízhatóság n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vető programszerkezetek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yelvek: ALGOL, Fortran, Co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generáció(1965-19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ált áramkörö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0</a:t>
                      </a:r>
                      <a:r>
                        <a:rPr b="0" lang="hu-H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űv./sec.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kturált programozás Operációs rendszerek Nyelvek: Pascal, Sim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generáció(1970-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kroprocesszorok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0</a:t>
                      </a:r>
                      <a:r>
                        <a:rPr b="0" lang="hu-H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űv./sec., drámai méret/ár csökkenés, 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emélyi gép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mazói szoftver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lak, ikon (GUI) Felhasználó-irányultsá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564000" y="5734080"/>
            <a:ext cx="1944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5877000"/>
            <a:ext cx="1944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580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609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6669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6491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EF9-4B43-4D88-8316-4EEB35591F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1. Képek a számítógép-középkorbó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003640" y="765000"/>
            <a:ext cx="2521080" cy="1997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3024360" cy="1951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905120" cy="1873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00000" y="9079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gene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ENIAC programozói néhány kisebb alkatréssz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78748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gene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 36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486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gene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P-21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8E0-DB43-40D3-ABDC-87B0ECFED0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Főbb szakaszok</a:t>
            </a: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L. G. Tesler nyomá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91520" cy="4781520"/>
        </p:xfrm>
        <a:graphic>
          <a:graphicData uri="http://schemas.openxmlformats.org/drawingml/2006/table">
            <a:tbl>
              <a:tblPr/>
              <a:tblGrid>
                <a:gridCol w="1183680"/>
                <a:gridCol w="1185480"/>
                <a:gridCol w="1183680"/>
                <a:gridCol w="1184040"/>
                <a:gridCol w="1185120"/>
                <a:gridCol w="1185480"/>
                <a:gridCol w="118404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l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z-nál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yze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é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-as é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teles adatfel-dolgoz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ító-gép-te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kért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áren-deltsé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fanu-merik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es é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ztott idej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inál-szob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kem-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üggősé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, vek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érhető-sé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as é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zta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róasz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rk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ügget-lensé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tok, gráf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-nít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-es é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álóz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zgat-ha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opor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bad-sá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rás, hang, ké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mu-nikáci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381-9789-4F9E-B6C1-B21C39E85A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219640" y="1444680"/>
            <a:ext cx="2978280" cy="19843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66560" y="141300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64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é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Douglas Engelbart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3716280"/>
            <a:ext cx="49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1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el 4004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kroprocesszo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-„chip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3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 mm, 2300 tranzisztor; ma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4 42 millió t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loppy dis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Alan Shugart, IB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incheste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IBM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980-C87D-4D9F-8952-A17963F522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202360" y="1600200"/>
            <a:ext cx="2928960" cy="2189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2664000" cy="2209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9640" y="1413000"/>
            <a:ext cx="46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4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ta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Ed Rober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személyi számítógép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07664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6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pple 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Steve Wozniak, Steve Jobs)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mmodore PE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643-02D6-499B-9B6F-5B319A6022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062520" cy="2052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256200" cy="2036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150804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8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pple 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Steve Wozniak, Steve Job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isiCa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Dan Bricklin &amp; Bob Frankst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9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ordS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 Rubenstein, R. Barnaby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4149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81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Osborn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„hordozható” gé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AA9-46D4-4013-8F52-E0E7440A35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232000" cy="2511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5280" y="134136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81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BM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4,77 MHz, 16 kB, floppy, $1,5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crosoft MS-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QDOS, Tim Pat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"Quick and Dirty Operating System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$50,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84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pple Macintos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raphical User Interface (G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$2,49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619-23BF-4351-8B6E-2EB5523CB4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mélyi számítógépe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624400" cy="2182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651640" y="4005360"/>
            <a:ext cx="2125440" cy="2255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95280" y="1557360"/>
            <a:ext cx="49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 AT („286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mai számítógép atyj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bb program egymás mellett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űköd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B, színes EGA moni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314172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85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indows 1.0 (bukás!, DE: Aldu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gemaker, Excel, Word,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0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indows 3.0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2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nux (Linus Torvalds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4508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3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pple Newto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551664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4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ent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5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F16-F7F3-42F6-91A1-E452F12248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zámítógépek történ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1916280"/>
            <a:ext cx="749016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42100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2800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12000" y="256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1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munik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2205000"/>
            <a:ext cx="360360" cy="4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60640"/>
            <a:ext cx="568980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3429000"/>
            <a:ext cx="554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3284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2860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29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mo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3573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4005360"/>
            <a:ext cx="468180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4508640"/>
            <a:ext cx="44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4365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01080" y="4365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mítógép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458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5084640"/>
            <a:ext cx="338616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558972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01080" y="544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544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5157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C-k,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5661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67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3068640"/>
            <a:ext cx="1150920" cy="7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4076640"/>
            <a:ext cx="2087640" cy="792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76720" y="2421000"/>
            <a:ext cx="446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1080" y="2421000"/>
            <a:ext cx="1429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72360" y="3429000"/>
            <a:ext cx="7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72360" y="4581360"/>
            <a:ext cx="71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11640" y="3429000"/>
            <a:ext cx="28814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364000" y="4653000"/>
            <a:ext cx="936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221-C8FA-43ED-B138-2CE37CD942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. Hálózato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125360"/>
          <a:ext cx="8229600" cy="52740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„</a:t>
                      </a: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putnyiksokk”. USA: ARPA (Advanced Research Projects Agenc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nulmány egy központ nélküli csomagkapcsolt hálózatró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égy központi géppel megkezdi működését az ARPANE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-mail megszületése (Ray Tomlison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ARPANET első külföldi kapcsolatai: Anglia, Norvég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CP (Transmission Control Protocol) és az IP (Internet Protoc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ARPANET-ből kiválik a MIL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velandban üzembe helyezik az első Freenet szolgáltatá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Internet worm „átrágja” magát az egész Hálón. IR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RN létrehozza a WWW-t (World Wide Web). (Vannevar Bush, Memex 1945; Ted Nelson, 1965 Xanadu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3CC-00BF-48C5-B767-FA834420E3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álózat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olyt.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197000"/>
          <a:ext cx="8229600" cy="5213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zajlik az első élő rádió-, majd tv adá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készül a Mosaic, az első grafikus web-böngésző. Megjelennek az első WWW keresők. Megkezdi adásait az Internet Talk Radi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Interneten megjelennek az online-áruházak, cyber-bankok. Arizonában megszületik az első spam-ellenes törvén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tscape és a Microsoft között kitör a „böngészőháború"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első nagykiterjedésű „Cyberwar”, (~Szerbia-Koszov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indul Internet2, ill. a  IPv6 működése. Napster zenecserélő diadalmenete és buká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I@Home projekt: Interneten együttműködő gépek erősebbek mint a legerősebb Cray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év slágere a „blogok” megjelenés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SQL Slammer féreg kb. 10 perc alatt terjed el a világon és bénítja meg az 5 legfontosabb DNS szervert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210-704F-4206-AC4E-500ABFAF7E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Internet-boom 1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162080" y="1197000"/>
          <a:ext cx="6819840" cy="52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197000"/>
                    <a:ext cx="68198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419-21B9-4074-A2B4-B40F6C3035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Internet-boom 2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Website-ok szá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39800" y="2276640"/>
          <a:ext cx="7662960" cy="372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276640"/>
                    <a:ext cx="766296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5FC5-2FAE-4272-AF91-885F19C83B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Az Internet „térképe”</a:t>
            </a:r>
            <a:br>
              <a:rPr sz="4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forrás: Opte pro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666880" y="196056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492-CDE6-4188-A48E-DCAEAC141A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. Magyarok itt is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1824120" cy="24051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1774800" cy="2582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4000" y="1413000"/>
            <a:ext cx="597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umann Jáno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1903-195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ohn von Neuman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First Draft of a Report on the EDVAC” (19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. A számítógép legyen teljesen elektronik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. Külön vezérlő és végrehajtó egysége leg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3. Kettes számrendszert használj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. Az adatok és a programok ugyanabban a belső tárban legyen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4437000"/>
            <a:ext cx="611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emény Jáno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1926 - 199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John G. Kemen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umann tanítványa, Einstein munkatá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időbeosztásos rendszer (time sha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z első emberbarát programozási nyelv: a BAS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AF2-8C0E-44BE-8360-F5C2FED90E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yarok itt is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394080" cy="2189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384720" cy="2152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4000" y="1341360"/>
            <a:ext cx="46814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óf Andrá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1936-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Andy Gro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Intel főnö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IAC: tizenhétezer elektroncső,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el 286-os: 130 ezer tranzisztor,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486-os: 1,2 milli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entium Pro: 5,5 milli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79, Time magazin: „az év embere”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4149720"/>
            <a:ext cx="5400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fj. Simonyi Károl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1948 -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Charles Simony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YSIWY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ord, Excel, Wind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mber, aki Bill Gates-t gazdaggá tette.”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A09-67F3-4BC3-94A7-81E70347B23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gyarok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ég mindi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Juhász István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(1894-198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AMMA-Juhász lőelemképző, 19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ktromechanikus analóg számítógé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Közraktár utca 20.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2102040" cy="2735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4384800"/>
            <a:ext cx="4321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lmár Lászl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905-197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fogós logikai gép (195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egedi katicabogár (196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ula-vezérlésű számítógé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940360" y="4486320"/>
            <a:ext cx="2519280" cy="18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0F-3ECB-4F1D-94B0-D2A0B2FE6C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gyarok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ég mind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ánosi Mar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CD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9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zettás floppy , B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400120" cy="1747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95280" y="3645000"/>
            <a:ext cx="3745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oska Tamá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(1940-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nalogikai számítógé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992 Roska és Chu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NN Univerzális Gé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Cellular Neural Net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rzékelő számítógép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4343400" cy="24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D97-B608-4BAF-9C20-6F31E1812B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7. Egy kis LKG info-történelem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095640" cy="234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084480" cy="2354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50920" y="1413000"/>
            <a:ext cx="49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83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School-Computer HT 1080Z/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Z80-as processzor órajele 1.7 MHz, a RAM 16 kB, ROM-ban BASIC interpreter, szalagos háttértár, fekete-fehér tévé, (128x48-as "grafika"), 58 ezer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tólabor, szakkö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3933720"/>
            <a:ext cx="52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i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db gép, 15 négyzetméteres „szaktantere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zakkö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FF0-D1F3-466A-BC3E-0FEC2E805E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ommunikáció története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ülöp Géza nyomán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A beszéd forradal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~ 50 ezer é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r megszüle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pasztalatok átad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írás forradalm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5 ezer é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umér ékírás, egyiptomi hieroglifa, föníciai betűírá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áció függetlenné válik az emlékezett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mberiség emlékeze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ő és tér legyő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A53-92D8-43B5-AE97-4849F482B1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Egy kis LKG info-történelem</a:t>
            </a: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43280" cy="2371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50920" y="1268280"/>
            <a:ext cx="48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86.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C+4-esek (10 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álózat”, kabinet, 1 floppy-drive (180 kB), 1 nyomt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akultáció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933720"/>
            <a:ext cx="52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. IBM XT (6 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4.77 MHz, 640 Kbyte RAM, 32 Mbyte merevlemez + egy Epson FX-1050-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jabb kabinet, fakultáció, indul a szt tagoza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övey Software Kupa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121-1C08-4051-81C8-6F78D58F89F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Egy kis LKG info-történe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990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IBM AT-terem, „kötelező” inf. tárgy 9.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vfolya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992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3 gépterem, Novell, Internet (havi 30 óra,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28,8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995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486-osok, színes monitorra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997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„szórt” hálózat, bérelt vonal, LKG-website,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 mindenkinek, LKG-netik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998.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uliNet-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003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Innovatív iskola (ENIS-tagsá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tthon: 92% PC; 63%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004.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LKG a „Hónap Digitális Iskoláj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C1C-91BC-4686-AB3E-2279DE9BFE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. A jövő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981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rdetés 1986-bó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-16/W1 (IBM PC XT kompatibilis): 439 000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-16/MT (IBM PC AT kompatibilis): 850 000 F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izetés ~7000 Ft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62 hó, 5 év / 121 hó, 10 év!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2205000"/>
            <a:ext cx="8642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76640"/>
            <a:ext cx="8642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t hiszem, hogy a világpiacon talán ha öt számítógépre van igén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Thomas Watson, az IBM elnöke, 1943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jövőben a számítógépek súlya nem haladhatja meg a másfél tonná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Popular Mechanics, 1949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tosíthatom önöket, hogy az adatfeldolgozás egy divathóbort, ami nem fog eltartani ez év végéig sem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Prentice Hall, 1957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mmi okot nem látok arra, hogy bárki számítógépet szerezzen be otthonra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Ken Olson, a Digital Equipment igazgatója, 1977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640 kilobájt memória elég kell, hogy legyen bárki számára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Bill Gates, Microsoft, 1981.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D63-59AA-43B7-A2F9-2BB07F30A48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övő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45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eneráció (? - ?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ska Tamás:</a:t>
                      </a: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„az első hullám a mikroprocesszorok megjelenése volt, amikor olcsó lett a digitális számítási teljesítmény. Ez vezetett a nyolcvanas években a </a:t>
                      </a: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c-iparhoz</a:t>
                      </a: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Azután a nyolcvanas évek végén megjelent az olcsó lézer, olcsók lettek a nagy sávszélességű berendezések és az átvitel. Így jutottunk el a kilencvenes években a távközlés forradalmához, az internet iparhoz. Most pedig a szenzorok forradalmának kezdetén vagyunk, amikor olcsón lehet előállítani különböző, nagyon sokrétű célt szolgáló ,,intelligens'' - azaz processzort és tárolót tartalmazó - érzékelőket. A legegyszerűbbek a nagy felbontóképességű kamerák, de szinte minden, még a szaglás is feldolgozható velük, már most is beszélnek például elektronikus orról.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5AA-E66D-4FE7-821E-3FBCAD21F8E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rodalom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löp Géza: Ember és információ, Múzsák, 19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arx György: A MARSLAKÓK ÉRKEZÉSE, Akadémiai Kiadó, 200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rmann H. Goldstine: A számítógép Pascaltól Neumannig (Műszak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Könyvkiadó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he Virtual Museum of Compu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ttp://vmoc.museophile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he History of Computers 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://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inventors.about.com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/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library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/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blcoindex.htm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?PM=ss12_</a:t>
            </a:r>
            <a:r>
              <a:rPr b="0" lang="hu-HU" sz="16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inven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obbes' Internet Timeline v7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ttp://www.zakon.org/robert/internet/timeline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előző évezred számítógép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ttp://oldmachines.ini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omputer History 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ttp://www.computerhistory.org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www.leovey.hu/infbz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FC4-66E8-4966-BBAC-41F7817A20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ommunikáció történe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y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A könyvnyomtatás forradalm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500 é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utenberg-1440, de: 868 – Kína: Gyémánt Sutra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ció tömeges terj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A távközlés forradalm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100 é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ll-1876, Marconi-1894, Forest-1910, Zworykin-19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információ behálózza a Föld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risé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Az elektronika forradalm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 50 é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ációs társadal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ális írástudás”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„digitális analfabét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ális szakadé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BBA-5012-46C2-8223-B1906D537D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formációs társadalom, digitális szakadék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57160" y="1413000"/>
          <a:ext cx="7427880" cy="47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13000"/>
                    <a:ext cx="74278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0F1-4F56-424F-B234-2128DB8AC0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formációs társadalom, digitális szakadék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26920" y="1557360"/>
          <a:ext cx="758196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8196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21E-0DD8-4147-A57C-22D9782785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SZÁMÍTÁS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technika történe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0920" y="1268280"/>
          <a:ext cx="8640720" cy="475776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zkö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emé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lentősé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15. s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kusz</a:t>
                      </a:r>
                      <a:br>
                        <a:rPr sz="1800"/>
                      </a:b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zoroba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oritmikus gondolkod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-18. s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kus számológép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ickard, Pascal, Leibnit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i munka gépesíté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 s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ia-gé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bage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i folyamat automatizálá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 s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itikus-gé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bage, Ada Byr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zális eszk. programozhatósá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yukkárty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lleri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ációtárolás, adatfeldolgozá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9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és gép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lton, Z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vezérl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~19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ikus gép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mann, Ecker, Mauch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mann-elv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4464000" y="59500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62164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rozatgyártás, számítógép generációk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ozás, szoftver-történele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BDE-31ED-499E-834D-F39D726203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1 Képek a számítógép-ókorbó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0" y="4076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nalytical Eng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Charles Babbag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1791-187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Ada Byro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(1815-185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programoz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62864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1623-1662) gé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rályi adószedő apja szám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sszeadás és kivonás végezhet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 is működik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94280" y="1557360"/>
            <a:ext cx="3192480" cy="2189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2682720" cy="2217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059280" y="3933720"/>
            <a:ext cx="135540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7D9-C54F-435B-A844-AE02B05C7A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épek a számítógép-ókorbó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erman Hollerit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(1860-1929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890-es népszámlálás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abulating Machine Compan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232000" cy="18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203720" cy="2930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3716280"/>
            <a:ext cx="4248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race Hopper, Howard Aike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rk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rvard Egyetem 1939-194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lékből épült f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ízes szám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800 km huza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számítástechnika történe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F40-8AA2-49E7-BF64-1C164E78F1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18:57Z</dcterms:created>
  <dc:creator>Bánhegyesi Zoltán</dc:creator>
  <dc:description/>
  <dc:language>en-US</dc:language>
  <cp:lastModifiedBy>LKG</cp:lastModifiedBy>
  <dcterms:modified xsi:type="dcterms:W3CDTF">2005-03-30T07:20:34Z</dcterms:modified>
  <cp:revision>47</cp:revision>
  <dc:subject/>
  <dc:title>A számítógépek története </dc:title>
</cp:coreProperties>
</file>