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3DD-F4E6-4F00-9C9E-1B858556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DDC-8806-4CD1-A9EC-0442116D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BB5-3812-4433-A3F3-D55625E2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7F9-D6A5-4F85-AE66-5AC5DDE5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3A1-F99D-41A2-9B7C-A7134D95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BAB-A80B-4EF1-B159-22F933FA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3AF-CD0E-44E8-81F9-62ECF58D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3BF-68BF-4AFA-A320-3D2BC352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860-4D6E-42D4-AB15-75C7A449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A22-A6AD-4742-89E1-1529B85B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6E3-A9CB-47FA-94EB-312E0191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03D-7F94-48E6-9669-F1E82DD2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6BCF-3FEA-49CD-9B11-D1494AE26D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D09A-71F0-4B5C-81E7-53526233F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elmgdf/mszg/Mszg1Okt0203v1/Lapok/SHARED/Fogalsz.htm#Processzor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elmgdf/mszg/Mszg1Okt0203v1/Lapok/SHARED/Fogalsz.htm#Processzor" TargetMode="External"/><Relationship Id="rId2" Type="http://schemas.openxmlformats.org/officeDocument/2006/relationships/hyperlink" Target="file:///elmgdf/mszg/Mszg1Okt0203v1/Lapok/Part4/4_2a.htm" TargetMode="External"/><Relationship Id="rId3" Type="http://schemas.openxmlformats.org/officeDocument/2006/relationships/hyperlink" Target="file:///elmgdf/mszg/Mszg1Okt0203v1/Lapok/Part4/4_3.htm" TargetMode="External"/><Relationship Id="rId4" Type="http://schemas.openxmlformats.org/officeDocument/2006/relationships/hyperlink" Target="file:///elmgdf/mszg/Mszg1Okt0203v1/Lapok/Part4/4_3.htm" TargetMode="External"/><Relationship Id="rId5" Type="http://schemas.openxmlformats.org/officeDocument/2006/relationships/hyperlink" Target="file:///elmgdf/mszg/Mszg1Okt0203v1/Lapok/Part4/4_3.htm" TargetMode="External"/><Relationship Id="rId6" Type="http://schemas.openxmlformats.org/officeDocument/2006/relationships/hyperlink" Target="file:///elmgdf/mszg/Mszg1Okt0203v1/Lapok/SHARED/Fogalsz.htm#Utas&#237;t&#225;s" TargetMode="External"/><Relationship Id="rId7" Type="http://schemas.openxmlformats.org/officeDocument/2006/relationships/hyperlink" Target="file:///elmgdf/mszg/Mszg1Okt0203v1/Lapok/Part4/4_4.htm" TargetMode="External"/><Relationship Id="rId8" Type="http://schemas.openxmlformats.org/officeDocument/2006/relationships/hyperlink" Target="file:///elmgdf/mszg/Mszg1Okt0203v1/Lapok/Part4/4_7a.htm" TargetMode="External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elmgdf/mszg/Mszg1Okt0203v1/Lapok/SHARED/Fogalsz.htm#Personal%20Computer" TargetMode="External"/><Relationship Id="rId2" Type="http://schemas.openxmlformats.org/officeDocument/2006/relationships/hyperlink" Target="file:///elmgdf/mszg/Mszg1Okt0203v1/Lapok/SHARED/Fogalsz.htm#BIOS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elmgdf/mszg2/SHARED/fogalsz.htm#ISA%20busz" TargetMode="External"/><Relationship Id="rId2" Type="http://schemas.openxmlformats.org/officeDocument/2006/relationships/hyperlink" Target="file:///elmgdf/mszg2/SHARED/fogalsz.htm#PCI%20busz" TargetMode="External"/><Relationship Id="rId3" Type="http://schemas.openxmlformats.org/officeDocument/2006/relationships/hyperlink" Target="file:///elmgdf/mszg2/SHARED/fogalsz.htm#Pentium%20g&#233;pcsal&#225;d" TargetMode="External"/><Relationship Id="rId4" Type="http://schemas.openxmlformats.org/officeDocument/2006/relationships/hyperlink" Target="file:///elmgdf/mszg2/SHARED/fogalsz.htm#Pentium%20g&#233;pcsal&#225;d" TargetMode="External"/><Relationship Id="rId5" Type="http://schemas.openxmlformats.org/officeDocument/2006/relationships/hyperlink" Target="file:///elmgdf/mszg2/SHARED/fogalsz.htm#AGP%20busz" TargetMode="External"/><Relationship Id="rId6" Type="http://schemas.openxmlformats.org/officeDocument/2006/relationships/hyperlink" Target="file:///elmgdf/mszg2/SHARED/fogalsz.htm#Monitorvez&#233;rl&#337;%20k&#225;rtya" TargetMode="External"/><Relationship Id="rId7" Type="http://schemas.openxmlformats.org/officeDocument/2006/relationships/hyperlink" Target="file:///elmgdf/mszg2/SHARED/fogalsz.htm#USB" TargetMode="External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elmgdf/mszg2/SHARED/fogalsz.htm#ISA%20szabv&#225;ny" TargetMode="External"/><Relationship Id="rId2" Type="http://schemas.openxmlformats.org/officeDocument/2006/relationships/hyperlink" Target="file:///elmgdf/mszg2/SHARED/fogalsz.htm#286-os%20PC" TargetMode="External"/><Relationship Id="rId3" Type="http://schemas.openxmlformats.org/officeDocument/2006/relationships/hyperlink" Target="file:///elmgdf/mszg2/SHARED/fogalsz.htm#Aszinkron" TargetMode="External"/><Relationship Id="rId4" Type="http://schemas.openxmlformats.org/officeDocument/2006/relationships/hyperlink" Target="file:///elmgdf/mszg2/SHARED/fogalsz.htm#Multiplex&#225;lt%20c&#237;m-%20&#233;s%20adat&#225;tvitel" TargetMode="External"/><Relationship Id="rId5" Type="http://schemas.openxmlformats.org/officeDocument/2006/relationships/hyperlink" Target="file:///elmgdf/mszg2/SHARED/fogalsz.htm#Multiplex&#225;lt%20c&#237;m-%20&#233;s%20adat&#225;tvitel" TargetMode="External"/><Relationship Id="rId6" Type="http://schemas.openxmlformats.org/officeDocument/2006/relationships/hyperlink" Target="file:///elmgdf/mszg2/SHARED/fogalsz.htm#S&#237;nciklus" TargetMode="External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elmgdf/mszg2/SHARED/fogalsz.htm#Pentium%20g&#233;pcsal&#225;d" TargetMode="External"/><Relationship Id="rId2" Type="http://schemas.openxmlformats.org/officeDocument/2006/relationships/hyperlink" Target="file:///elmgdf/mszg2/SHARED/fogalsz.htm#Pentium%20g&#233;pcsal&#225;d" TargetMode="External"/><Relationship Id="rId3" Type="http://schemas.openxmlformats.org/officeDocument/2006/relationships/hyperlink" Target="file:///elmgdf/mszg2/SHARED/fogalsz.htm#Grafikus%20felhaszn&#225;l&#243;i%20fel&#252;let" TargetMode="External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elmgdf/mszg2/SHARED/fogalsz.htm#3D%20grafikus%20program" TargetMode="External"/><Relationship Id="rId2" Type="http://schemas.openxmlformats.org/officeDocument/2006/relationships/hyperlink" Target="file:///elmgdf/mszg2/SHARED/fogalsz.htm#Monitorvez&#233;rl&#337;%20k&#225;rtya" TargetMode="External"/><Relationship Id="rId3" Type="http://schemas.openxmlformats.org/officeDocument/2006/relationships/hyperlink" Target="http://www.intel.com/" TargetMode="External"/><Relationship Id="rId4" Type="http://schemas.openxmlformats.org/officeDocument/2006/relationships/hyperlink" Target="file:///elmgdf/mszg2/SHARED/fogalsz.htm#Pentium%20II%20mikroprocesszor" TargetMode="External"/><Relationship Id="rId5" Type="http://schemas.openxmlformats.org/officeDocument/2006/relationships/hyperlink" Target="file:///elmgdf/mszg2/SHARED/fogalsz.htm#Pentium%20II%20mikroprocesszor" TargetMode="External"/><Relationship Id="rId6" Type="http://schemas.openxmlformats.org/officeDocument/2006/relationships/hyperlink" Target="file:///elmgdf/mszg2/SHARED/fogalsz.htm#Front%20Side%20Bus" TargetMode="External"/><Relationship Id="rId7" Type="http://schemas.openxmlformats.org/officeDocument/2006/relationships/hyperlink" Target="file:///elmgdf/mszg2/SHARED/fogalsz.htm#Front%20Side%20Bus" TargetMode="External"/><Relationship Id="rId8" Type="http://schemas.openxmlformats.org/officeDocument/2006/relationships/hyperlink" Target="file:///elmgdf/mszg2/SHARED/fogalsz.htm#Front%20Side%20Bus" TargetMode="Externa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elmgdf/mszg2/SHARED/fogalsz.htm#Soros%20adat&#225;tvitel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elmgdf/mszg2/SHARED/fogalsz.htm#Plug%20and%20Play" TargetMode="External"/><Relationship Id="rId2" Type="http://schemas.openxmlformats.org/officeDocument/2006/relationships/hyperlink" Target="file:///elmgdf/mszg2/SHARED/fogalsz.htm#Plug%20and%20Play" TargetMode="External"/><Relationship Id="rId3" Type="http://schemas.openxmlformats.org/officeDocument/2006/relationships/hyperlink" Target="file:///elmgdf/mszg2/SHARED/fogalsz.htm#Plug%20and%20Play" TargetMode="External"/><Relationship Id="rId4" Type="http://schemas.openxmlformats.org/officeDocument/2006/relationships/hyperlink" Target="file:///elmgdf/mszg2/SHARED/fogalsz.htm#Plug%20and%20Play" TargetMode="External"/><Relationship Id="rId5" Type="http://schemas.openxmlformats.org/officeDocument/2006/relationships/hyperlink" Target="file:///elmgdf/mszg2/SHARED/fogalsz.htm#Plug%20and%20Play" TargetMode="Externa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elmgdf/mszg2/SHARED/fogalsz.htm#Perif&#233;ria" TargetMode="External"/><Relationship Id="rId2" Type="http://schemas.openxmlformats.org/officeDocument/2006/relationships/hyperlink" Target="file:///elmgdf/mszg2/SHARED/fogalsz.htm#H&#225;tt&#233;rt&#225;r" TargetMode="External"/><Relationship Id="rId3" Type="http://schemas.openxmlformats.org/officeDocument/2006/relationships/hyperlink" Target="file:///elmgdf/mszg2/SHARED/fogalsz.htm#I/O%20eszk&#246;z" TargetMode="External"/><Relationship Id="rId4" Type="http://schemas.openxmlformats.org/officeDocument/2006/relationships/hyperlink" Target="file:///elmgdf/mszg2/SHARED/fogalsz.htm#S&#237;nrendszer" TargetMode="External"/><Relationship Id="rId5" Type="http://schemas.openxmlformats.org/officeDocument/2006/relationships/hyperlink" Target="file:///elmgdf/mszg2/SHARED/fogalsz.htm#Interf&#233;sz" TargetMode="External"/><Relationship Id="rId6" Type="http://schemas.openxmlformats.org/officeDocument/2006/relationships/hyperlink" Target="file:///elmgdf/mszg2/SHARED/fogalsz.htm#Adapter" TargetMode="External"/><Relationship Id="rId7" Type="http://schemas.openxmlformats.org/officeDocument/2006/relationships/hyperlink" Target="file:///elmgdf/mszg2/SHARED/fogalsz.htm#Pufferregiszter" TargetMode="External"/><Relationship Id="rId8" Type="http://schemas.openxmlformats.org/officeDocument/2006/relationships/hyperlink" Target="file:///elmgdf/mszg2/SHARED/fogalsz.htm#Parancsregiszter" TargetMode="External"/><Relationship Id="rId9" Type="http://schemas.openxmlformats.org/officeDocument/2006/relationships/hyperlink" Target="file:///elmgdf/mszg2/SHARED/fogalsz.htm#&#193;llapotjelz&#337;%20regiszter%20%28processzor%29" TargetMode="External"/><Relationship Id="rId10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elmgdf/mszg2/SHARED/fogalsz.htm#Alaplapi%20&#225;ramk&#246;rk&#233;szlet" TargetMode="External"/><Relationship Id="rId2" Type="http://schemas.openxmlformats.org/officeDocument/2006/relationships/hyperlink" Target="file:///elmgdf/mszg2/SHARED/fogalsz.htm#Soros%20port" TargetMode="Externa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0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lmgdf/mszg/Mszg1Okt0203v1/Lapok/Part2/2_4_1d.htm" TargetMode="External"/><Relationship Id="rId2" Type="http://schemas.openxmlformats.org/officeDocument/2006/relationships/hyperlink" Target="file:///elmgdf/mszg/Mszg1Okt0203v1/Lapok/Part2/2_4_1c.htm" TargetMode="External"/><Relationship Id="rId3" Type="http://schemas.openxmlformats.org/officeDocument/2006/relationships/hyperlink" Target="file:///elmgdf/mszg/Mszg1Okt0203v1/Lapok/Part2/2_4_1a.htm" TargetMode="External"/><Relationship Id="rId4" Type="http://schemas.openxmlformats.org/officeDocument/2006/relationships/hyperlink" Target="file:///elmgdf/mszg/Mszg1Okt0203v1/Lapok/Part2/2_4_2b.htm" TargetMode="External"/><Relationship Id="rId5" Type="http://schemas.openxmlformats.org/officeDocument/2006/relationships/hyperlink" Target="file:///elmgdf/mszg/Mszg1Okt0203v1/Lapok/Part2/2_4_2c.htm" TargetMode="External"/><Relationship Id="rId6" Type="http://schemas.openxmlformats.org/officeDocument/2006/relationships/hyperlink" Target="file:///elmgdf/mszg/Mszg1Okt0203v1/Lapok/Part2/2_4_2d.htm" TargetMode="External"/><Relationship Id="rId7" Type="http://schemas.openxmlformats.org/officeDocument/2006/relationships/hyperlink" Target="file:///elmgdf/mszg/Mszg1Okt0203v1/Lapok/Part2/2_4_2e.htm" TargetMode="External"/><Relationship Id="rId8" Type="http://schemas.openxmlformats.org/officeDocument/2006/relationships/hyperlink" Target="file:///elmgdf/mszg/Mszg1Okt0203v1/Lapok/Part2/2_4_4a.htm" TargetMode="External"/><Relationship Id="rId9" Type="http://schemas.openxmlformats.org/officeDocument/2006/relationships/hyperlink" Target="file:///elmgdf/mszg/Mszg1Okt0203v1/Lapok/Part2/2_4_4b.htm" TargetMode="External"/><Relationship Id="rId10" Type="http://schemas.openxmlformats.org/officeDocument/2006/relationships/hyperlink" Target="file:///elmgdf/mszg/Mszg1Okt0203v1/Lapok/Part2/2_4_3a.htm" TargetMode="External"/><Relationship Id="rId11" Type="http://schemas.openxmlformats.org/officeDocument/2006/relationships/hyperlink" Target="file:///elmgdf/mszg/Mszg1Okt0203v1/Lapok/Part2/2_5_1.htm" TargetMode="External"/><Relationship Id="rId12" Type="http://schemas.openxmlformats.org/officeDocument/2006/relationships/hyperlink" Target="file:///elmgdf/mszg/Mszg1Okt0203v1/Lapok/Part2/2_5_3a.htm" TargetMode="External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számítógép felépíté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umann-elvű számítógép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személyi) számítógép részei és jellemző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ifériák típusai és főbb jellemzői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személyi) számítógép részeinek összekapcsolá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álózat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87C-6DFA-44CA-87E7-04517C17C9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12507-1713-4AD9-A5F3-D465343F2D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g. Neumannon túl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eumann elvű architektúrák lényegi továbbfejlesztését a teljesítménynövelés piaci igénye kényszeríttette ki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teljesítménynövelésnek alapvetően két módszere van: nem strukturális és strukturális gyorsít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) Nem strukturális gyorsítás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melynek lehetőség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órajel frekvenciájának növelés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program optimalizált fordítás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ennek különösen a RISC processzoroknál van jelentősé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) Strukturális gyorsítás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melynek formá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árhuzamosítás a CPU-n belü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vektorszámítógép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pipeline feldolgoz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szuperskalár processzor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társprocesszor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multiprocesszoros architektúrák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(több „hagyományos” CPU-val és  ALU-v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Nem hagyományos elven működő számítógép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neurális háló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D8C-5345-4A70-95ED-E04109E179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0BAC0-C3A4-4B63-BCDF-F2095C82EB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A számítógép rész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C szokásos alkalmazása minimálisan a következő főbb funkcionális részegységek meglétét feltételez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z adatfeldolgozást végző, valamint a részegységek összehangolt működésé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zérlő egysé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amely maga a szűkebb értelemben vett számítógé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z adatok átmeneti vagy huzamosabb ideig történő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árolásár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zolgáló eszközök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atbevitel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zolgáló eszközök vagy input egységek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atmegjelenítés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zolgáló eszközök vagy output egységek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ommunikáció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kapcsolatokra szolgáló eszközök vagy input/output egységek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nek megfelelően egy PC-s munkahely alapkonfigurációja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zámítógépházbó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az abban találhat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özponti egységbő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néhány fontosabb hely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fériábó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nitor, billentyűzet, egér, nyomtató), valamint a helyi és távoli hálózattal történő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mmunikáció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ztosító eszközökből (hálózati kártya, modem) á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24A-B447-459F-9B87-64B72B8B8E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E1F96-010F-44A6-8DBD-FC7FAE5166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5010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B2D-BCF0-42EB-B3E2-D7FBF85941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3A8AA-A2EB-44D4-975E-B23C9E6553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251280" y="692280"/>
            <a:ext cx="8473680" cy="5639400"/>
            <a:chOff x="251280" y="692280"/>
            <a:chExt cx="8473680" cy="5639400"/>
          </a:xfrm>
        </p:grpSpPr>
        <p:grpSp>
          <p:nvGrpSpPr>
            <p:cNvPr id="71" name=""/>
            <p:cNvGrpSpPr/>
            <p:nvPr/>
          </p:nvGrpSpPr>
          <p:grpSpPr>
            <a:xfrm>
              <a:off x="251280" y="938160"/>
              <a:ext cx="8168760" cy="5393520"/>
              <a:chOff x="251280" y="938160"/>
              <a:chExt cx="8168760" cy="5393520"/>
            </a:xfrm>
          </p:grpSpPr>
          <p:sp>
            <p:nvSpPr>
              <p:cNvPr id="72" name=""/>
              <p:cNvSpPr/>
              <p:nvPr/>
            </p:nvSpPr>
            <p:spPr>
              <a:xfrm>
                <a:off x="1420920" y="2991960"/>
                <a:ext cx="1574640" cy="1118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hu-H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hu-HU" sz="4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30600" y="2991960"/>
                <a:ext cx="2413080" cy="1118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Memóri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602400" y="2991960"/>
                <a:ext cx="1575000" cy="1118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I/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636920" y="12531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56000" y="1263240"/>
                <a:ext cx="6216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885080" y="1281960"/>
                <a:ext cx="0" cy="168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2779920" y="2724840"/>
                <a:ext cx="0" cy="26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799000" y="2734560"/>
                <a:ext cx="103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46600" y="2753640"/>
                <a:ext cx="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2551320" y="2317320"/>
                <a:ext cx="0" cy="67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70400" y="2326680"/>
                <a:ext cx="149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75200" y="2345760"/>
                <a:ext cx="0" cy="62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2322720" y="1907640"/>
                <a:ext cx="0" cy="108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41800" y="1917000"/>
                <a:ext cx="446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18400" y="1936080"/>
                <a:ext cx="0" cy="10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094120" y="1580040"/>
                <a:ext cx="0" cy="140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13200" y="1590120"/>
                <a:ext cx="4921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047000" y="1609200"/>
                <a:ext cx="0" cy="135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994120" y="2409120"/>
                <a:ext cx="1003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94120" y="2001240"/>
                <a:ext cx="1155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M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365720" y="1591560"/>
                <a:ext cx="723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65720" y="1264680"/>
                <a:ext cx="723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965920" y="938160"/>
                <a:ext cx="723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46160" y="355212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1280" y="3291840"/>
                <a:ext cx="858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Ó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55680" y="4123800"/>
                <a:ext cx="7164360" cy="1226880"/>
              </a:xfrm>
              <a:custGeom>
                <a:avLst/>
                <a:gdLst/>
                <a:ahLst/>
                <a:rect l="l" t="t" r="r" b="b"/>
                <a:pathLst>
                  <a:path w="4513" h="773">
                    <a:moveTo>
                      <a:pt x="192" y="0"/>
                    </a:moveTo>
                    <a:lnTo>
                      <a:pt x="192" y="360"/>
                    </a:lnTo>
                    <a:lnTo>
                      <a:pt x="144" y="360"/>
                    </a:lnTo>
                    <a:lnTo>
                      <a:pt x="240" y="514"/>
                    </a:lnTo>
                    <a:lnTo>
                      <a:pt x="0" y="514"/>
                    </a:lnTo>
                    <a:lnTo>
                      <a:pt x="0" y="772"/>
                    </a:lnTo>
                    <a:lnTo>
                      <a:pt x="4512" y="772"/>
                    </a:lnTo>
                    <a:lnTo>
                      <a:pt x="4512" y="514"/>
                    </a:lnTo>
                    <a:lnTo>
                      <a:pt x="3744" y="514"/>
                    </a:lnTo>
                    <a:lnTo>
                      <a:pt x="3744" y="154"/>
                    </a:lnTo>
                    <a:lnTo>
                      <a:pt x="3792" y="154"/>
                    </a:lnTo>
                    <a:lnTo>
                      <a:pt x="3696" y="0"/>
                    </a:lnTo>
                    <a:lnTo>
                      <a:pt x="3648" y="0"/>
                    </a:lnTo>
                    <a:lnTo>
                      <a:pt x="3552" y="154"/>
                    </a:lnTo>
                    <a:lnTo>
                      <a:pt x="3600" y="154"/>
                    </a:lnTo>
                    <a:lnTo>
                      <a:pt x="3600" y="514"/>
                    </a:lnTo>
                    <a:lnTo>
                      <a:pt x="1824" y="514"/>
                    </a:lnTo>
                    <a:lnTo>
                      <a:pt x="1824" y="154"/>
                    </a:lnTo>
                    <a:lnTo>
                      <a:pt x="1872" y="154"/>
                    </a:lnTo>
                    <a:lnTo>
                      <a:pt x="1776" y="0"/>
                    </a:lnTo>
                    <a:lnTo>
                      <a:pt x="1728" y="0"/>
                    </a:lnTo>
                    <a:lnTo>
                      <a:pt x="1632" y="154"/>
                    </a:lnTo>
                    <a:lnTo>
                      <a:pt x="1680" y="154"/>
                    </a:lnTo>
                    <a:lnTo>
                      <a:pt x="1680" y="514"/>
                    </a:lnTo>
                    <a:lnTo>
                      <a:pt x="288" y="514"/>
                    </a:lnTo>
                    <a:lnTo>
                      <a:pt x="384" y="360"/>
                    </a:lnTo>
                    <a:lnTo>
                      <a:pt x="336" y="360"/>
                    </a:lnTo>
                    <a:lnTo>
                      <a:pt x="336" y="0"/>
                    </a:lnTo>
                    <a:lnTo>
                      <a:pt x="192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55680" y="4123800"/>
                <a:ext cx="7164360" cy="2207880"/>
              </a:xfrm>
              <a:custGeom>
                <a:avLst/>
                <a:gdLst/>
                <a:ahLst/>
                <a:rect l="l" t="t" r="r" b="b"/>
                <a:pathLst>
                  <a:path w="4513" h="1391">
                    <a:moveTo>
                      <a:pt x="816" y="0"/>
                    </a:moveTo>
                    <a:lnTo>
                      <a:pt x="720" y="154"/>
                    </a:lnTo>
                    <a:lnTo>
                      <a:pt x="768" y="154"/>
                    </a:lnTo>
                    <a:lnTo>
                      <a:pt x="768" y="978"/>
                    </a:lnTo>
                    <a:lnTo>
                      <a:pt x="720" y="978"/>
                    </a:lnTo>
                    <a:lnTo>
                      <a:pt x="816" y="1132"/>
                    </a:lnTo>
                    <a:lnTo>
                      <a:pt x="0" y="1132"/>
                    </a:lnTo>
                    <a:lnTo>
                      <a:pt x="0" y="1390"/>
                    </a:lnTo>
                    <a:lnTo>
                      <a:pt x="4512" y="1390"/>
                    </a:lnTo>
                    <a:lnTo>
                      <a:pt x="4512" y="1132"/>
                    </a:lnTo>
                    <a:lnTo>
                      <a:pt x="4224" y="1132"/>
                    </a:lnTo>
                    <a:lnTo>
                      <a:pt x="4320" y="978"/>
                    </a:lnTo>
                    <a:lnTo>
                      <a:pt x="4272" y="978"/>
                    </a:lnTo>
                    <a:lnTo>
                      <a:pt x="4272" y="154"/>
                    </a:lnTo>
                    <a:lnTo>
                      <a:pt x="4320" y="154"/>
                    </a:lnTo>
                    <a:lnTo>
                      <a:pt x="4224" y="0"/>
                    </a:lnTo>
                    <a:lnTo>
                      <a:pt x="4176" y="0"/>
                    </a:lnTo>
                    <a:lnTo>
                      <a:pt x="4080" y="154"/>
                    </a:lnTo>
                    <a:lnTo>
                      <a:pt x="4128" y="154"/>
                    </a:lnTo>
                    <a:lnTo>
                      <a:pt x="4128" y="978"/>
                    </a:lnTo>
                    <a:lnTo>
                      <a:pt x="4080" y="978"/>
                    </a:lnTo>
                    <a:lnTo>
                      <a:pt x="4176" y="1132"/>
                    </a:lnTo>
                    <a:lnTo>
                      <a:pt x="2448" y="1132"/>
                    </a:lnTo>
                    <a:lnTo>
                      <a:pt x="2352" y="1132"/>
                    </a:lnTo>
                    <a:lnTo>
                      <a:pt x="2448" y="978"/>
                    </a:lnTo>
                    <a:lnTo>
                      <a:pt x="2400" y="978"/>
                    </a:lnTo>
                    <a:lnTo>
                      <a:pt x="2400" y="154"/>
                    </a:lnTo>
                    <a:lnTo>
                      <a:pt x="2448" y="154"/>
                    </a:lnTo>
                    <a:lnTo>
                      <a:pt x="2352" y="0"/>
                    </a:lnTo>
                    <a:lnTo>
                      <a:pt x="2304" y="0"/>
                    </a:lnTo>
                    <a:lnTo>
                      <a:pt x="2208" y="154"/>
                    </a:lnTo>
                    <a:lnTo>
                      <a:pt x="2256" y="154"/>
                    </a:lnTo>
                    <a:lnTo>
                      <a:pt x="2256" y="978"/>
                    </a:lnTo>
                    <a:lnTo>
                      <a:pt x="2208" y="978"/>
                    </a:lnTo>
                    <a:lnTo>
                      <a:pt x="2304" y="1132"/>
                    </a:lnTo>
                    <a:lnTo>
                      <a:pt x="864" y="1132"/>
                    </a:lnTo>
                    <a:lnTo>
                      <a:pt x="960" y="978"/>
                    </a:lnTo>
                    <a:lnTo>
                      <a:pt x="912" y="978"/>
                    </a:lnTo>
                    <a:lnTo>
                      <a:pt x="912" y="154"/>
                    </a:lnTo>
                    <a:lnTo>
                      <a:pt x="960" y="154"/>
                    </a:lnTo>
                    <a:lnTo>
                      <a:pt x="864" y="0"/>
                    </a:lnTo>
                    <a:lnTo>
                      <a:pt x="816" y="0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57160" y="4434840"/>
                <a:ext cx="1568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ÍMBUS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58240" y="5415840"/>
                <a:ext cx="1853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DATBUS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094120" y="692280"/>
              <a:ext cx="6630840" cy="2452320"/>
              <a:chOff x="2094120" y="692280"/>
              <a:chExt cx="6630840" cy="2452320"/>
            </a:xfrm>
          </p:grpSpPr>
          <p:sp>
            <p:nvSpPr>
              <p:cNvPr id="102" name=""/>
              <p:cNvSpPr/>
              <p:nvPr/>
            </p:nvSpPr>
            <p:spPr>
              <a:xfrm>
                <a:off x="2094120" y="692280"/>
                <a:ext cx="6630840" cy="2452320"/>
              </a:xfrm>
              <a:custGeom>
                <a:avLst/>
                <a:gdLst/>
                <a:ahLst/>
                <a:rect l="l" t="t" r="r" b="b"/>
                <a:pathLst>
                  <a:path w="4177" h="1545">
                    <a:moveTo>
                      <a:pt x="650" y="0"/>
                    </a:moveTo>
                    <a:lnTo>
                      <a:pt x="0" y="1544"/>
                    </a:lnTo>
                    <a:lnTo>
                      <a:pt x="463" y="926"/>
                    </a:lnTo>
                    <a:lnTo>
                      <a:pt x="4176" y="926"/>
                    </a:lnTo>
                    <a:lnTo>
                      <a:pt x="4176" y="0"/>
                    </a:lnTo>
                    <a:lnTo>
                      <a:pt x="650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04720" y="758520"/>
                <a:ext cx="531288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kroprocessz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z adatfeldolgozást végző eszköz, melly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nden logikai feladat megoldhat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E23-AEDA-411C-94D5-1A26AE6ED21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A5BCE-FA8A-40F4-8886-67C726CED4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51280" y="692280"/>
            <a:ext cx="8473680" cy="5867280"/>
            <a:chOff x="251280" y="692280"/>
            <a:chExt cx="8473680" cy="5867280"/>
          </a:xfrm>
        </p:grpSpPr>
        <p:grpSp>
          <p:nvGrpSpPr>
            <p:cNvPr id="106" name=""/>
            <p:cNvGrpSpPr/>
            <p:nvPr/>
          </p:nvGrpSpPr>
          <p:grpSpPr>
            <a:xfrm>
              <a:off x="251280" y="692280"/>
              <a:ext cx="8169120" cy="5867280"/>
              <a:chOff x="251280" y="692280"/>
              <a:chExt cx="8169120" cy="5867280"/>
            </a:xfrm>
          </p:grpSpPr>
          <p:sp>
            <p:nvSpPr>
              <p:cNvPr id="107" name=""/>
              <p:cNvSpPr/>
              <p:nvPr/>
            </p:nvSpPr>
            <p:spPr>
              <a:xfrm>
                <a:off x="1420920" y="2925720"/>
                <a:ext cx="1575000" cy="1219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hu-H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hu-HU" sz="4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630960" y="2925720"/>
                <a:ext cx="2412720" cy="1219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Memóri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602760" y="2925720"/>
                <a:ext cx="1574640" cy="1219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I/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1636920" y="1036800"/>
                <a:ext cx="0" cy="188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56000" y="1046160"/>
                <a:ext cx="6216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885440" y="1065240"/>
                <a:ext cx="0" cy="183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779920" y="2636640"/>
                <a:ext cx="0" cy="28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99000" y="2646360"/>
                <a:ext cx="103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46600" y="2665440"/>
                <a:ext cx="0" cy="235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551320" y="2192400"/>
                <a:ext cx="0" cy="73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70400" y="2201760"/>
                <a:ext cx="149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75200" y="2220840"/>
                <a:ext cx="0" cy="67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2322720" y="1747440"/>
                <a:ext cx="0" cy="117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41800" y="1757520"/>
                <a:ext cx="446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18400" y="1776600"/>
                <a:ext cx="0" cy="112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2094120" y="1391760"/>
                <a:ext cx="0" cy="153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113200" y="1401840"/>
                <a:ext cx="4921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47000" y="1420920"/>
                <a:ext cx="0" cy="1479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94120" y="2292480"/>
                <a:ext cx="1003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94120" y="1847880"/>
                <a:ext cx="115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M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65720" y="1403280"/>
                <a:ext cx="723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65720" y="1047960"/>
                <a:ext cx="723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965920" y="692280"/>
                <a:ext cx="723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46520" y="35355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1280" y="3251160"/>
                <a:ext cx="858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Ó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56040" y="4157640"/>
                <a:ext cx="7164360" cy="1335240"/>
              </a:xfrm>
              <a:custGeom>
                <a:avLst/>
                <a:gdLst/>
                <a:ahLst/>
                <a:rect l="l" t="t" r="r" b="b"/>
                <a:pathLst>
                  <a:path w="4513" h="841">
                    <a:moveTo>
                      <a:pt x="192" y="0"/>
                    </a:moveTo>
                    <a:lnTo>
                      <a:pt x="192" y="392"/>
                    </a:lnTo>
                    <a:lnTo>
                      <a:pt x="144" y="392"/>
                    </a:lnTo>
                    <a:lnTo>
                      <a:pt x="240" y="560"/>
                    </a:lnTo>
                    <a:lnTo>
                      <a:pt x="0" y="560"/>
                    </a:lnTo>
                    <a:lnTo>
                      <a:pt x="0" y="840"/>
                    </a:lnTo>
                    <a:lnTo>
                      <a:pt x="4512" y="840"/>
                    </a:lnTo>
                    <a:lnTo>
                      <a:pt x="4512" y="560"/>
                    </a:lnTo>
                    <a:lnTo>
                      <a:pt x="3744" y="560"/>
                    </a:lnTo>
                    <a:lnTo>
                      <a:pt x="3744" y="168"/>
                    </a:lnTo>
                    <a:lnTo>
                      <a:pt x="3792" y="168"/>
                    </a:lnTo>
                    <a:lnTo>
                      <a:pt x="3696" y="0"/>
                    </a:lnTo>
                    <a:lnTo>
                      <a:pt x="3648" y="0"/>
                    </a:lnTo>
                    <a:lnTo>
                      <a:pt x="3552" y="168"/>
                    </a:lnTo>
                    <a:lnTo>
                      <a:pt x="3600" y="168"/>
                    </a:lnTo>
                    <a:lnTo>
                      <a:pt x="3600" y="560"/>
                    </a:lnTo>
                    <a:lnTo>
                      <a:pt x="1824" y="560"/>
                    </a:lnTo>
                    <a:lnTo>
                      <a:pt x="1824" y="168"/>
                    </a:lnTo>
                    <a:lnTo>
                      <a:pt x="1872" y="168"/>
                    </a:lnTo>
                    <a:lnTo>
                      <a:pt x="1776" y="0"/>
                    </a:lnTo>
                    <a:lnTo>
                      <a:pt x="1728" y="0"/>
                    </a:lnTo>
                    <a:lnTo>
                      <a:pt x="1632" y="168"/>
                    </a:lnTo>
                    <a:lnTo>
                      <a:pt x="1680" y="168"/>
                    </a:lnTo>
                    <a:lnTo>
                      <a:pt x="1680" y="560"/>
                    </a:lnTo>
                    <a:lnTo>
                      <a:pt x="288" y="560"/>
                    </a:lnTo>
                    <a:lnTo>
                      <a:pt x="384" y="392"/>
                    </a:lnTo>
                    <a:lnTo>
                      <a:pt x="336" y="392"/>
                    </a:lnTo>
                    <a:lnTo>
                      <a:pt x="336" y="0"/>
                    </a:lnTo>
                    <a:lnTo>
                      <a:pt x="192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56040" y="4157640"/>
                <a:ext cx="7164360" cy="2401920"/>
              </a:xfrm>
              <a:custGeom>
                <a:avLst/>
                <a:gdLst/>
                <a:ahLst/>
                <a:rect l="l" t="t" r="r" b="b"/>
                <a:pathLst>
                  <a:path w="4513" h="1513">
                    <a:moveTo>
                      <a:pt x="816" y="0"/>
                    </a:moveTo>
                    <a:lnTo>
                      <a:pt x="720" y="168"/>
                    </a:lnTo>
                    <a:lnTo>
                      <a:pt x="768" y="168"/>
                    </a:lnTo>
                    <a:lnTo>
                      <a:pt x="768" y="1064"/>
                    </a:lnTo>
                    <a:lnTo>
                      <a:pt x="720" y="1064"/>
                    </a:lnTo>
                    <a:lnTo>
                      <a:pt x="816" y="1232"/>
                    </a:lnTo>
                    <a:lnTo>
                      <a:pt x="0" y="1232"/>
                    </a:lnTo>
                    <a:lnTo>
                      <a:pt x="0" y="1512"/>
                    </a:lnTo>
                    <a:lnTo>
                      <a:pt x="4512" y="1512"/>
                    </a:lnTo>
                    <a:lnTo>
                      <a:pt x="4512" y="1232"/>
                    </a:lnTo>
                    <a:lnTo>
                      <a:pt x="4224" y="1232"/>
                    </a:lnTo>
                    <a:lnTo>
                      <a:pt x="4320" y="1064"/>
                    </a:lnTo>
                    <a:lnTo>
                      <a:pt x="4272" y="1064"/>
                    </a:lnTo>
                    <a:lnTo>
                      <a:pt x="4272" y="168"/>
                    </a:lnTo>
                    <a:lnTo>
                      <a:pt x="4320" y="168"/>
                    </a:lnTo>
                    <a:lnTo>
                      <a:pt x="4224" y="0"/>
                    </a:lnTo>
                    <a:lnTo>
                      <a:pt x="4176" y="0"/>
                    </a:lnTo>
                    <a:lnTo>
                      <a:pt x="4080" y="168"/>
                    </a:lnTo>
                    <a:lnTo>
                      <a:pt x="4128" y="168"/>
                    </a:lnTo>
                    <a:lnTo>
                      <a:pt x="4128" y="1064"/>
                    </a:lnTo>
                    <a:lnTo>
                      <a:pt x="4080" y="1064"/>
                    </a:lnTo>
                    <a:lnTo>
                      <a:pt x="4176" y="1232"/>
                    </a:lnTo>
                    <a:lnTo>
                      <a:pt x="2448" y="1232"/>
                    </a:lnTo>
                    <a:lnTo>
                      <a:pt x="2352" y="1232"/>
                    </a:lnTo>
                    <a:lnTo>
                      <a:pt x="2448" y="1064"/>
                    </a:lnTo>
                    <a:lnTo>
                      <a:pt x="2400" y="1064"/>
                    </a:lnTo>
                    <a:lnTo>
                      <a:pt x="2400" y="168"/>
                    </a:lnTo>
                    <a:lnTo>
                      <a:pt x="2448" y="168"/>
                    </a:lnTo>
                    <a:lnTo>
                      <a:pt x="2352" y="0"/>
                    </a:lnTo>
                    <a:lnTo>
                      <a:pt x="2304" y="0"/>
                    </a:lnTo>
                    <a:lnTo>
                      <a:pt x="2208" y="168"/>
                    </a:lnTo>
                    <a:lnTo>
                      <a:pt x="2256" y="168"/>
                    </a:lnTo>
                    <a:lnTo>
                      <a:pt x="2256" y="1064"/>
                    </a:lnTo>
                    <a:lnTo>
                      <a:pt x="2208" y="1064"/>
                    </a:lnTo>
                    <a:lnTo>
                      <a:pt x="2304" y="1232"/>
                    </a:lnTo>
                    <a:lnTo>
                      <a:pt x="864" y="1232"/>
                    </a:lnTo>
                    <a:lnTo>
                      <a:pt x="960" y="1064"/>
                    </a:lnTo>
                    <a:lnTo>
                      <a:pt x="912" y="1064"/>
                    </a:lnTo>
                    <a:lnTo>
                      <a:pt x="912" y="168"/>
                    </a:lnTo>
                    <a:lnTo>
                      <a:pt x="960" y="168"/>
                    </a:lnTo>
                    <a:lnTo>
                      <a:pt x="864" y="0"/>
                    </a:lnTo>
                    <a:lnTo>
                      <a:pt x="816" y="0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57160" y="4495680"/>
                <a:ext cx="1568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ÍMBUS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358240" y="5562720"/>
                <a:ext cx="1853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DATBUS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08720" y="779400"/>
              <a:ext cx="4116240" cy="2401920"/>
              <a:chOff x="4608720" y="779400"/>
              <a:chExt cx="4116240" cy="24019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8720" y="779400"/>
                <a:ext cx="4116240" cy="2401920"/>
              </a:xfrm>
              <a:custGeom>
                <a:avLst/>
                <a:gdLst/>
                <a:ahLst/>
                <a:rect l="l" t="t" r="r" b="b"/>
                <a:pathLst>
                  <a:path w="2593" h="1513">
                    <a:moveTo>
                      <a:pt x="192" y="0"/>
                    </a:moveTo>
                    <a:lnTo>
                      <a:pt x="48" y="840"/>
                    </a:lnTo>
                    <a:lnTo>
                      <a:pt x="0" y="1512"/>
                    </a:lnTo>
                    <a:lnTo>
                      <a:pt x="239" y="784"/>
                    </a:lnTo>
                    <a:lnTo>
                      <a:pt x="2592" y="784"/>
                    </a:lnTo>
                    <a:lnTo>
                      <a:pt x="2592" y="0"/>
                    </a:lnTo>
                    <a:lnTo>
                      <a:pt x="192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62880" y="851040"/>
                <a:ext cx="379224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emória - Operatív tá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indent="28908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atok, utasítások tárolás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8E4-406B-4333-A1E1-4DD4A8BD757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92898-BA3C-4BF0-A202-E10C63896B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24360" y="692280"/>
            <a:ext cx="8245080" cy="5792760"/>
            <a:chOff x="324360" y="692280"/>
            <a:chExt cx="8245080" cy="5792760"/>
          </a:xfrm>
        </p:grpSpPr>
        <p:grpSp>
          <p:nvGrpSpPr>
            <p:cNvPr id="141" name=""/>
            <p:cNvGrpSpPr/>
            <p:nvPr/>
          </p:nvGrpSpPr>
          <p:grpSpPr>
            <a:xfrm>
              <a:off x="324360" y="1063800"/>
              <a:ext cx="8245080" cy="5421240"/>
              <a:chOff x="324360" y="1063800"/>
              <a:chExt cx="8245080" cy="5421240"/>
            </a:xfrm>
          </p:grpSpPr>
          <p:sp>
            <p:nvSpPr>
              <p:cNvPr id="142" name=""/>
              <p:cNvSpPr/>
              <p:nvPr/>
            </p:nvSpPr>
            <p:spPr>
              <a:xfrm>
                <a:off x="1505160" y="3127680"/>
                <a:ext cx="1589040" cy="1125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hu-H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hu-HU" sz="4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735360" y="3127680"/>
                <a:ext cx="2435400" cy="1125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Memóri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34160" y="3127680"/>
                <a:ext cx="1590840" cy="1125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I/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722600" y="1381320"/>
                <a:ext cx="0" cy="174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41680" y="1390680"/>
                <a:ext cx="627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29800" y="1409760"/>
                <a:ext cx="0" cy="169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876760" y="2858760"/>
                <a:ext cx="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895840" y="2868840"/>
                <a:ext cx="1044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53160" y="2887920"/>
                <a:ext cx="0" cy="21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2646360" y="2447640"/>
                <a:ext cx="0" cy="67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665440" y="2457720"/>
                <a:ext cx="150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83200" y="2476800"/>
                <a:ext cx="0" cy="62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414880" y="2037960"/>
                <a:ext cx="0" cy="108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3960" y="2048040"/>
                <a:ext cx="450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53400" y="2067120"/>
                <a:ext cx="0" cy="10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2184480" y="1709640"/>
                <a:ext cx="0" cy="1414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3560" y="1719360"/>
                <a:ext cx="496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83440" y="1738440"/>
                <a:ext cx="0" cy="1363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92760" y="2543400"/>
                <a:ext cx="1012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92760" y="2132280"/>
                <a:ext cx="1166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M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76960" y="1721160"/>
                <a:ext cx="730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76960" y="1392480"/>
                <a:ext cx="730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93000" y="1063800"/>
                <a:ext cx="730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7160" y="3689640"/>
                <a:ext cx="35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24360" y="3427560"/>
                <a:ext cx="858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Ó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38480" y="4265640"/>
                <a:ext cx="7230960" cy="1233720"/>
              </a:xfrm>
              <a:custGeom>
                <a:avLst/>
                <a:gdLst/>
                <a:ahLst/>
                <a:rect l="l" t="t" r="r" b="b"/>
                <a:pathLst>
                  <a:path w="4555" h="777">
                    <a:moveTo>
                      <a:pt x="193" y="0"/>
                    </a:moveTo>
                    <a:lnTo>
                      <a:pt x="193" y="362"/>
                    </a:lnTo>
                    <a:lnTo>
                      <a:pt x="145" y="362"/>
                    </a:lnTo>
                    <a:lnTo>
                      <a:pt x="242" y="517"/>
                    </a:lnTo>
                    <a:lnTo>
                      <a:pt x="0" y="517"/>
                    </a:lnTo>
                    <a:lnTo>
                      <a:pt x="0" y="776"/>
                    </a:lnTo>
                    <a:lnTo>
                      <a:pt x="4554" y="776"/>
                    </a:lnTo>
                    <a:lnTo>
                      <a:pt x="4554" y="517"/>
                    </a:lnTo>
                    <a:lnTo>
                      <a:pt x="3778" y="517"/>
                    </a:lnTo>
                    <a:lnTo>
                      <a:pt x="3778" y="155"/>
                    </a:lnTo>
                    <a:lnTo>
                      <a:pt x="3827" y="155"/>
                    </a:lnTo>
                    <a:lnTo>
                      <a:pt x="3730" y="0"/>
                    </a:lnTo>
                    <a:lnTo>
                      <a:pt x="3681" y="0"/>
                    </a:lnTo>
                    <a:lnTo>
                      <a:pt x="3585" y="155"/>
                    </a:lnTo>
                    <a:lnTo>
                      <a:pt x="3633" y="155"/>
                    </a:lnTo>
                    <a:lnTo>
                      <a:pt x="3633" y="517"/>
                    </a:lnTo>
                    <a:lnTo>
                      <a:pt x="1840" y="517"/>
                    </a:lnTo>
                    <a:lnTo>
                      <a:pt x="1840" y="155"/>
                    </a:lnTo>
                    <a:lnTo>
                      <a:pt x="1889" y="155"/>
                    </a:lnTo>
                    <a:lnTo>
                      <a:pt x="1792" y="0"/>
                    </a:lnTo>
                    <a:lnTo>
                      <a:pt x="1744" y="0"/>
                    </a:lnTo>
                    <a:lnTo>
                      <a:pt x="1647" y="155"/>
                    </a:lnTo>
                    <a:lnTo>
                      <a:pt x="1695" y="155"/>
                    </a:lnTo>
                    <a:lnTo>
                      <a:pt x="1695" y="517"/>
                    </a:lnTo>
                    <a:lnTo>
                      <a:pt x="290" y="517"/>
                    </a:lnTo>
                    <a:lnTo>
                      <a:pt x="387" y="362"/>
                    </a:lnTo>
                    <a:lnTo>
                      <a:pt x="339" y="362"/>
                    </a:lnTo>
                    <a:lnTo>
                      <a:pt x="339" y="0"/>
                    </a:lnTo>
                    <a:lnTo>
                      <a:pt x="193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38480" y="4265640"/>
                <a:ext cx="7230960" cy="2219400"/>
              </a:xfrm>
              <a:custGeom>
                <a:avLst/>
                <a:gdLst/>
                <a:ahLst/>
                <a:rect l="l" t="t" r="r" b="b"/>
                <a:pathLst>
                  <a:path w="4555" h="1398">
                    <a:moveTo>
                      <a:pt x="823" y="0"/>
                    </a:moveTo>
                    <a:lnTo>
                      <a:pt x="726" y="155"/>
                    </a:lnTo>
                    <a:lnTo>
                      <a:pt x="775" y="155"/>
                    </a:lnTo>
                    <a:lnTo>
                      <a:pt x="775" y="983"/>
                    </a:lnTo>
                    <a:lnTo>
                      <a:pt x="726" y="983"/>
                    </a:lnTo>
                    <a:lnTo>
                      <a:pt x="823" y="1138"/>
                    </a:lnTo>
                    <a:lnTo>
                      <a:pt x="0" y="1138"/>
                    </a:lnTo>
                    <a:lnTo>
                      <a:pt x="0" y="1397"/>
                    </a:lnTo>
                    <a:lnTo>
                      <a:pt x="4554" y="1397"/>
                    </a:lnTo>
                    <a:lnTo>
                      <a:pt x="4554" y="1138"/>
                    </a:lnTo>
                    <a:lnTo>
                      <a:pt x="4263" y="1138"/>
                    </a:lnTo>
                    <a:lnTo>
                      <a:pt x="4360" y="983"/>
                    </a:lnTo>
                    <a:lnTo>
                      <a:pt x="4311" y="983"/>
                    </a:lnTo>
                    <a:lnTo>
                      <a:pt x="4311" y="155"/>
                    </a:lnTo>
                    <a:lnTo>
                      <a:pt x="4360" y="155"/>
                    </a:lnTo>
                    <a:lnTo>
                      <a:pt x="4263" y="0"/>
                    </a:lnTo>
                    <a:lnTo>
                      <a:pt x="4214" y="0"/>
                    </a:lnTo>
                    <a:lnTo>
                      <a:pt x="4117" y="155"/>
                    </a:lnTo>
                    <a:lnTo>
                      <a:pt x="4166" y="155"/>
                    </a:lnTo>
                    <a:lnTo>
                      <a:pt x="4166" y="983"/>
                    </a:lnTo>
                    <a:lnTo>
                      <a:pt x="4117" y="983"/>
                    </a:lnTo>
                    <a:lnTo>
                      <a:pt x="4214" y="1138"/>
                    </a:lnTo>
                    <a:lnTo>
                      <a:pt x="2470" y="1138"/>
                    </a:lnTo>
                    <a:lnTo>
                      <a:pt x="2373" y="1138"/>
                    </a:lnTo>
                    <a:lnTo>
                      <a:pt x="2470" y="983"/>
                    </a:lnTo>
                    <a:lnTo>
                      <a:pt x="2422" y="983"/>
                    </a:lnTo>
                    <a:lnTo>
                      <a:pt x="2422" y="155"/>
                    </a:lnTo>
                    <a:lnTo>
                      <a:pt x="2470" y="155"/>
                    </a:lnTo>
                    <a:lnTo>
                      <a:pt x="2373" y="0"/>
                    </a:lnTo>
                    <a:lnTo>
                      <a:pt x="2325" y="0"/>
                    </a:lnTo>
                    <a:lnTo>
                      <a:pt x="2228" y="155"/>
                    </a:lnTo>
                    <a:lnTo>
                      <a:pt x="2277" y="155"/>
                    </a:lnTo>
                    <a:lnTo>
                      <a:pt x="2277" y="983"/>
                    </a:lnTo>
                    <a:lnTo>
                      <a:pt x="2228" y="983"/>
                    </a:lnTo>
                    <a:lnTo>
                      <a:pt x="2325" y="1138"/>
                    </a:lnTo>
                    <a:lnTo>
                      <a:pt x="872" y="1138"/>
                    </a:lnTo>
                    <a:lnTo>
                      <a:pt x="968" y="983"/>
                    </a:lnTo>
                    <a:lnTo>
                      <a:pt x="920" y="983"/>
                    </a:lnTo>
                    <a:lnTo>
                      <a:pt x="920" y="155"/>
                    </a:lnTo>
                    <a:lnTo>
                      <a:pt x="968" y="155"/>
                    </a:lnTo>
                    <a:lnTo>
                      <a:pt x="872" y="0"/>
                    </a:lnTo>
                    <a:lnTo>
                      <a:pt x="823" y="0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77760" y="4578480"/>
                <a:ext cx="1568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ÍMBUS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78840" y="5564160"/>
                <a:ext cx="1853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DATBUS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4880" y="692280"/>
              <a:ext cx="6798960" cy="2465280"/>
              <a:chOff x="614880" y="692280"/>
              <a:chExt cx="6798960" cy="2465280"/>
            </a:xfrm>
          </p:grpSpPr>
          <p:sp>
            <p:nvSpPr>
              <p:cNvPr id="172" name=""/>
              <p:cNvSpPr/>
              <p:nvPr/>
            </p:nvSpPr>
            <p:spPr>
              <a:xfrm>
                <a:off x="720720" y="692280"/>
                <a:ext cx="6693120" cy="2465280"/>
              </a:xfrm>
              <a:custGeom>
                <a:avLst/>
                <a:gdLst/>
                <a:ahLst/>
                <a:rect l="l" t="t" r="r" b="b"/>
                <a:pathLst>
                  <a:path w="4216" h="1553">
                    <a:moveTo>
                      <a:pt x="3558" y="0"/>
                    </a:moveTo>
                    <a:lnTo>
                      <a:pt x="4215" y="1552"/>
                    </a:lnTo>
                    <a:lnTo>
                      <a:pt x="3747" y="931"/>
                    </a:lnTo>
                    <a:lnTo>
                      <a:pt x="0" y="931"/>
                    </a:lnTo>
                    <a:lnTo>
                      <a:pt x="0" y="0"/>
                    </a:lnTo>
                    <a:lnTo>
                      <a:pt x="355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614880" y="758880"/>
                <a:ext cx="4181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rifériá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indent="28908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atok és programok bevite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indent="28908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z eredmény megjeleníté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D41-F7CA-4D14-BF2F-A43DD3B471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73DF5-2F6D-4CDA-A32A-1A56AEF085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 A PC központi egységének felépítése és részegységeinek funkcionális felad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66920" y="1650960"/>
            <a:ext cx="4897440" cy="417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DE8-AB73-4176-89E0-67F03BA16A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A6847-744B-479D-9C5A-CE82D766FD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a. A processzor részei és ezek kapcsolat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z egyes processzorok felépítéséb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jelentős eltéréseket tapasztalhatunk, de mindegyikre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jellemzőek a következő legfontosabb architekturális építőelem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vezérlőegység (CU = </a:t>
            </a: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ontrol </a:t>
            </a: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i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ritmetikai és logikai egység (ALU = </a:t>
            </a: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rithmetic </a:t>
            </a: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ogic </a:t>
            </a: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i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regiszterkészl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szillesztő egység (BIU = </a:t>
            </a: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us </a:t>
            </a: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terface </a:t>
            </a: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i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címszámító és védelmi egység (AU = </a:t>
            </a: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ess </a:t>
            </a: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i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első gyorsítótár (L1 cach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z előző négy részegység kommunikációját biztosító eszközök (mikroszámítógépeknél a belső sínrendsz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249-D866-42D6-AE4C-34243198BF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12C59-F215-4AC5-A8E9-4866D9E083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1.b. A processzor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85960" y="2014560"/>
            <a:ext cx="3598560" cy="485640"/>
          </a:xfrm>
          <a:prstGeom prst="rightArrow">
            <a:avLst>
              <a:gd name="adj1" fmla="val 50000"/>
              <a:gd name="adj2" fmla="val 1854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67240" y="1890720"/>
            <a:ext cx="2158920" cy="7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93920" y="3643200"/>
            <a:ext cx="2158920" cy="7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65800" y="3610080"/>
            <a:ext cx="2158920" cy="71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67240" y="5170320"/>
            <a:ext cx="2158920" cy="7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67240" y="2602080"/>
            <a:ext cx="485640" cy="1011240"/>
          </a:xfrm>
          <a:prstGeom prst="upArrow">
            <a:avLst>
              <a:gd name="adj1" fmla="val 50000"/>
              <a:gd name="adj2" fmla="val 5203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41680" y="3719520"/>
            <a:ext cx="927000" cy="487440"/>
          </a:xfrm>
          <a:custGeom>
            <a:avLst/>
            <a:gdLst/>
            <a:ahLst/>
            <a:rect l="l" t="t" r="r" b="b"/>
            <a:pathLst>
              <a:path w="584" h="307">
                <a:moveTo>
                  <a:pt x="0" y="153"/>
                </a:moveTo>
                <a:lnTo>
                  <a:pt x="117" y="306"/>
                </a:lnTo>
                <a:lnTo>
                  <a:pt x="117" y="229"/>
                </a:lnTo>
                <a:lnTo>
                  <a:pt x="466" y="229"/>
                </a:lnTo>
                <a:lnTo>
                  <a:pt x="466" y="306"/>
                </a:lnTo>
                <a:lnTo>
                  <a:pt x="583" y="153"/>
                </a:lnTo>
                <a:lnTo>
                  <a:pt x="466" y="0"/>
                </a:lnTo>
                <a:lnTo>
                  <a:pt x="466" y="76"/>
                </a:lnTo>
                <a:lnTo>
                  <a:pt x="117" y="76"/>
                </a:lnTo>
                <a:lnTo>
                  <a:pt x="117" y="0"/>
                </a:lnTo>
                <a:lnTo>
                  <a:pt x="0" y="15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05320" y="4329000"/>
            <a:ext cx="487440" cy="854280"/>
          </a:xfrm>
          <a:custGeom>
            <a:avLst/>
            <a:gdLst/>
            <a:ahLst/>
            <a:rect l="l" t="t" r="r" b="b"/>
            <a:pathLst>
              <a:path w="307" h="538">
                <a:moveTo>
                  <a:pt x="153" y="0"/>
                </a:moveTo>
                <a:lnTo>
                  <a:pt x="306" y="107"/>
                </a:lnTo>
                <a:lnTo>
                  <a:pt x="229" y="107"/>
                </a:lnTo>
                <a:lnTo>
                  <a:pt x="229" y="430"/>
                </a:lnTo>
                <a:lnTo>
                  <a:pt x="306" y="430"/>
                </a:lnTo>
                <a:lnTo>
                  <a:pt x="153" y="537"/>
                </a:lnTo>
                <a:lnTo>
                  <a:pt x="0" y="430"/>
                </a:lnTo>
                <a:lnTo>
                  <a:pt x="76" y="430"/>
                </a:lnTo>
                <a:lnTo>
                  <a:pt x="76" y="107"/>
                </a:lnTo>
                <a:lnTo>
                  <a:pt x="0" y="107"/>
                </a:lnTo>
                <a:lnTo>
                  <a:pt x="15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16400" y="1968480"/>
            <a:ext cx="243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kkumul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43760" y="2619360"/>
            <a:ext cx="485640" cy="1011240"/>
          </a:xfrm>
          <a:prstGeom prst="downArrow">
            <a:avLst>
              <a:gd name="adj1" fmla="val 50000"/>
              <a:gd name="adj2" fmla="val 5211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32640" y="1967040"/>
            <a:ext cx="1738080" cy="485640"/>
          </a:xfrm>
          <a:prstGeom prst="rightArrow">
            <a:avLst>
              <a:gd name="adj1" fmla="val 50000"/>
              <a:gd name="adj2" fmla="val 8957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349360"/>
            <a:ext cx="281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atbusz bem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78720" y="2273400"/>
            <a:ext cx="1596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atbusz kim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73200" y="3797280"/>
            <a:ext cx="190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zt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3782880"/>
            <a:ext cx="182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45000" y="530532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zérlőegy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9F4-0718-4A05-BF82-2656C82EC4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E4668-F96A-4EC7-84A7-9339DDD948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1.c. A processzor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248520" cy="2405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55640" y="4292640"/>
            <a:ext cx="73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szter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yors működésű átmeneti tárol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BAD-D843-4577-84E6-DF58F2D1D6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3ED92-E6D3-49C5-80DE-EB9E41A760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„v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hard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) eredeti angol jelentése „kemény áru” (vas-áru). Lényegében ez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számítógépet alkotó, kézzel fogható eszközök összefoglaló neve, a számítógép elektronikus áramköreit, mechanikus berendezéseit, kábeleit, csatlakozásait és perifériáit nevezzük í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2681280"/>
            <a:ext cx="403848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5A3-2EE8-4200-85C6-81FCD95EE2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70C4E-93A3-4E4A-927A-FB9B131359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d. Mikroprocesszorok csoporto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óhosszúság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 .. 64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tasításformátu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ISC,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tasításkészlet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00 ..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iklusidő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.77 .. 400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ímezhető memória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64 kB .. 4 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uszrendsze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8 .. 64 bit,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8 .. 66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EFA-3A47-4E9A-B26A-5B8DBDB90A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DAA15-C11F-43E5-91B3-FEE674B9B5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70720" cy="4620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1.e. Processzo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D8F-AE79-4C94-A913-BED3A2DDDF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02F7B-B953-42BD-B087-850C18AC50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2. Tárak, tároló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számítógép különböző típusú adattároló-egységei a </a:t>
            </a:r>
            <a:r>
              <a:rPr b="0" lang="hu-H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cesszo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mellett meghatározó jelentőségűek a hatékony műveletvégrehajtásban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árolószervezésnek a legfontosabb elve: azokat az adatokat, melyekre a műveletvégrehajtás során gyakran van szükség, a processzor „közelében”, gyors elérésű tárolókon kell elhelyez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82B-7898-421B-AF57-A753C96529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5EE10-8B1B-4861-A29D-79CA6595B1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2.2.a. A tárolóhierarc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cesszor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tartalmazza a </a:t>
            </a: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giszterek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t, melyek egyenként általában 32, 16 bit információ átmeneti tárolását végzik és ezek a számítógép leggyorsabb (ugyanakkor legdrágább) tárolóegység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yorsító (</a:t>
            </a: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che</a:t>
            </a: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) tárak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tárolókapacitása – melyek a futó programból a processzor számára leggyakrabban szükséges </a:t>
            </a: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tasítás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okat és adatokat tartalmazzák – már két nagyságrenddel nagyobb a regiszterekénél, ugyanakkor az adatok kiolvasása kb. 2-szer annyi időt igényel, mint a regisztertárakná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őtár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– mely az aktuálisan végrehajtott programot és ennek adatait tárolja – már kb. 10-szer lassúbb a regisztereknél, ugyanakkor viszont adattároló képessége 100.000-szer nagyob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 programvégrehajtáshoz aktuálisan nem szükséges adatokat tároljuk a </a:t>
            </a: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áttértárolók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on, ezek általában mágneslemezek. Ezek tárolókapacitása 10 milliószor nagyobb a regiszterekénél, viszont 5 milliószor lassúbbak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547640" y="1413000"/>
            <a:ext cx="5162760" cy="18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26C-1A7E-456F-8ECE-E70F0F951B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A1845-2557-4ADA-B6C4-09A7709B17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2.b. Az adattárolás fő problémá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a processzornak a főtárból kell adatot kiolvasni, akkor már komoly várakozásokra kényszerü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a processzornak a műveletvégrehajtáshoz olyan adatra van szüksége, melyet a háttértárolóról kell kiolvasni, akkor már „elviselhetetlen” ideig kell várakozni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lassú periféria műveletvégrehajtási ideje a processzor számára gyakorlatilag végtelennek tűni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ért a háttértárakat és a lassú perifériákat önálló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vezérlőegységekke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átmeneti puffer (buffer) tárolókkal kell ellátni, melyek biztosítják, hogy ezek az eszközök az I/O műveleteket relatívan a processzortól függetlenül képesek legyenek végrehajta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65F-0671-4954-AE7F-94D221CD12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48F1C-02E4-4D9D-863B-A306E64A2A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.2.c. A tárolóhierarchia egyes szintjei közötti adatáram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z adatok csak egymásra következő tárolóhierarchia szintek között mozgathatók egy lépésben (Nem lehet „kihagyni” egy szintet)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40072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F06-C966-4442-AE32-5D201A4CB0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3C90A-1BC6-4134-A6FB-1A9929149D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2.d. A számítógép belső memóriá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ámítógép központi egységéne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őtároló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zt nevezik még: munkatárolónak, belső memóriának, központi tárnak, operatív tárnak, fizikai memóriának vagy csak egyszerű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án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) az aktuálisan futó programfolyamatokhoz tartozó az adatok és programok átmeneti tárolására szolgál. Működésének lényegét tekintve a belső memóriának két alaptípusa van: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4C8-D3C6-42BE-8071-24F02B7DAF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887EB-D843-4E4F-9EC8-227819D3C3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2.e. Memória típusok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3300"/>
                </a:solidFill>
                <a:latin typeface="Arial"/>
              </a:rPr>
              <a:t>RO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Read Only Mem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Üzemszerűen csak olvas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rtalmát kikapcsoláskor sem veszti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l. BIOS, 64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ltozata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EPROM, P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3300"/>
                </a:solidFill>
                <a:latin typeface="Arial"/>
              </a:rPr>
              <a:t>RA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Random Access Mem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Írható, olvas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ikapcsoláskor elveszik a tart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l. Operatív tár, 6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ltozata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RAM, EDORAM, FPRAM, SD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743-D2C5-4F5A-B7A3-5BD40777BC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234E1-6D1D-40A8-A9C9-1F79D3508C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2.f. A ROM különböző típu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OM (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ad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ly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mory = csak olvasható memória) gyárilag beprogramozott, csak olvasható és a felhasználó által megváltoztathatatlan memória. Tartalma a számítógép kikapcsolása után is megőrződ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OM-ban tároljuk például az operációs rendszer fixen programozott részét (például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C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knél a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t =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sic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put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tput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ystem-et). A hagyományos ROM-ok tartalmát gyártáskor határozzák meg (beégetik), ezek tartalma többé már nem módosítható. A programozható ROM-okban tárolt adatok a hagyományos ROM-okkal szemben egyszer vagy többször megváltoztathatók. Ezek legfontosabb típus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ROM = programozható ROM. Ebbe a memóriatípusba a felhasználó egyetlen alkalommal beírhatja a számára állandóan megőrzendő adatokat vagy programokat. Ezt követően a PROM tartalma már nem változtatható;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EPROM = </a:t>
            </a: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rasable </a:t>
            </a: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rogrammable ROM tároló az adatokat elektromos töltés formájában őrzi meg. Ez a ROM tároló ibolyántúli (UV) fénnyel törölhető és újra írható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hhez természetesen megfelelő készülék és szakértelem szükség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EPROM = </a:t>
            </a:r>
            <a:r>
              <a:rPr b="0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ctrically </a:t>
            </a:r>
            <a:r>
              <a:rPr b="0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asable </a:t>
            </a:r>
            <a:r>
              <a:rPr b="0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ogrammable ROM tárolók újraprogramozásuk előtt egy elektronikus impulzussal törölhetők. Ellentétben az EPROM-al e tárolótípus igen drág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453-745A-434E-8F65-03F0CF4347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3D1E1-9CB6-433E-94B5-7F5902006F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2.g. A RAM felépítése és működ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AM (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ndom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cess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mory = véletlen elérésű memória) a programok által írható és olvasható memória. Tartalma a számítógép kikapcsolása után visszavonhatatlanul elvés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ámítógépekben a RAM tárolókat írható-olvasható munkamemóriának használjuk, nagyságuk és sebességük meghatározó jelentőségű a teljes számítógépes rendszer teljesítménye szempontjáb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AM chipek memóriakapacitását Mbit-ben szokás megadni. Meghatározott, 2-hatvány darabszámú chip-ből kerülnek összeállításra a memóriamodulok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627280" y="4581360"/>
            <a:ext cx="3191040" cy="13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1B9-6A2A-47E9-9A68-0FEEE0BDB4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2780E-7989-4D75-8B0D-ED214ADFB0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A Neumann elv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számítógép működését tárolt program vezérli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vezérlés control-flow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vezérlésáramlásos)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rendszerű, ami azt jelenti, hogy a gép a program utasításait egymás után sorban hajtja végre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hhez a számítógép önálló részegysége a vezérlőegység (CU = Command Unit) egy utasításszámláló regisztert (PC = Program Counter) tartalmaz, melyben a következő utasítás tárolóbeli címét táro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gép belső tárolójában a program utasításai és a végrehajtásukhoz szükséges adatok egyaránt megtalálható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közös utasítás és adattárolás, a program felülírhatja magá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z aritmetikai és logikai művelete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programutasítások)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végrehajtását önálló részegység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ALU = Arithmetic Logic Unit)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végzi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z adatok és programok beolvasására és megjelenítésére önálló egységek (perifériák) szolgálnak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497-B915-4E0F-BA75-D001D7080C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5ECEB-537E-4E58-913A-D2E089E6AD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2.h. Egyéb memória típu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3300"/>
                </a:solidFill>
                <a:latin typeface="Arial"/>
              </a:rPr>
              <a:t>CMOS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Üzemszerűen olvasható, ritkán írjuk (SET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rtalmát kikapcsoláskor sem veszti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l. 1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elhasználá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DD paraméterek tárolása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3300"/>
                </a:solidFill>
                <a:latin typeface="Arial"/>
              </a:rPr>
              <a:t>Statikus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Írható, olvasható, NAGYON G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ikapcsoláskor elveszik a tart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l. Cache, L1 (32 kB), L2 (512 k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sszociatív táro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373-D903-421F-9F04-87D26ADFC84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A764A-612E-44D2-BF27-6E9FC003A8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3. A háttértároló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ágneslemezes tárol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revle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jlékonylem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kai tároló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DF8-C10C-403A-BA5B-10BFF55DD9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F4217-7B47-4B00-A9B5-1485E477A0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021800" cy="5616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3.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435-A6D6-4CA8-94F7-F3E60D0B73B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3E8A0-F65C-4436-9F7F-84DA734F3F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396720"/>
            <a:ext cx="7320240" cy="592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A58-A746-4A8D-9A2C-0DB5399CE202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6E2C8-40F7-40B8-8B6B-A2B55A8664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00000" y="438120"/>
            <a:ext cx="750096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8D4-6141-4C78-B6EF-08FE9E36E0D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A5977-0EB3-4899-BDB2-4DE8382DBB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826920" y="588960"/>
            <a:ext cx="7675560" cy="54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DA1-43CC-4685-8493-1185D2069138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BAB87-C289-44D7-81DF-B24C9523FC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95400" y="450720"/>
            <a:ext cx="7464240" cy="571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602-91DA-44D7-89C2-35F4448228BB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4D2A3-ACD5-457A-82B3-42087C6975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04760" y="733320"/>
            <a:ext cx="7132680" cy="5391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3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245-791A-4183-9681-2601BF65E8A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9FE5B-8E00-47B7-8013-A9F7472E24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9640" y="534960"/>
            <a:ext cx="8209080" cy="5892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3.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623-C3EF-47A0-8D4F-544527F7229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3F034-4FAE-466F-8BB4-D896928AB3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26920" y="482760"/>
            <a:ext cx="7272360" cy="5722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3.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E31-5810-4315-80ED-4F0296D31AD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A0DC9-2D5F-4BC2-8348-533DD5C80A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a. A számítógép elvi felépíté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08000" y="1557360"/>
          <a:ext cx="4886640" cy="488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557360"/>
                    <a:ext cx="488664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32C-3B89-432D-80D3-AA1D80BE96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8A181-F3CC-44E8-969B-AE2120093C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4. Az I/O buszrendszerekről általáb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orai PC-kben egyetlen buszrendszer kapcsolta össze a processzort, a memóriát és az I/O eszközöket. Ekkor még a processzor és a memória relatíve kis sebessége miatt a sínrendszer és az összes rákapcsolt eszköz a CPU órajelével kommuniká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172120" y="3186000"/>
            <a:ext cx="2990880" cy="13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8BE-AD07-4D66-B00B-91B38C482DE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6AEF7-49A5-4C83-8969-CE8022C9F6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4.a. Az I/O buszrendszer 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SA busz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, amely régi, lassú és  ma már elavult sínrendsz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CI busz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, amely a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entium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gépcsalád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a tartozó számítógépek 1990-es évekbeli általánosan használt I/O buszrendsz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GP busz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, amelyet a 3D grafika elterjedésével egyre nagyobb adatátviteli teljesítményt igénylő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onitorvezérlő kártyá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k kiszolgálásához fejlesztettek 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SB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, amely egy nagy teljesítményű soros busszal csatlakoztatja a központi egységhez a kis és közepes teljesítményű adatátvitelt igénylő eszközöket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3604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modern PC-ben általában a következő I/O buszok valamilyen kombinált alkalmazásával találkozhatun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9CD-1EDD-4A4C-99B6-764D2E146A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20BA3-57DA-4A65-8E79-CD0DB1E95B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4.b. Buszok kapcsolódá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498780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11280" y="2205000"/>
            <a:ext cx="232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/O buszok egy bridge áramkörrel kapcsolódnak a rendszerbuszhoz, amely az alaplapi vezérlőáramkör-készlet része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811-128B-4D13-9CB0-A2C81E2FCE1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E0EC4-6EDF-4320-9935-2AA2A45354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4.c. Mikroszámítógép sínrendszerre épülő struktúr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63480" y="1811160"/>
          <a:ext cx="781524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811160"/>
                    <a:ext cx="78152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2D9-1ACE-4FAF-868C-DCE314EC5B8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C8534-0F31-41A4-970C-AA47BD17CD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4.d. Az ISA bus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SA szabv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(Industry Standard Architechture) az Intel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80286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os processzorával működő PC/AT 16 bites adatbuszát alapul véve 1982-ben alkották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pecifikáció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gy 16 bites összeköttetést határoz meg, 8 MHz órajellel,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zinkron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működéssel és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ultiplexált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cím- és adatátvitel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l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egy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ínciklu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viszi át a címet és a következő a 16 bites adatcsomag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ultiplexált működés miatt az ISA 16 Mbájt/sec elméleti adatátviteli sebessége a felére csökken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gyakorlatban a kb. 2-5 Mbájt/sec átviteli teljesítmény is alig érhető 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1519200" y="1625760"/>
            <a:ext cx="610560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499-6044-4485-B613-5562F583BCB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C2EA9-DB4F-44CE-AED2-C60C5528AB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4.e. A PCI szabvány és fejlődé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agyobb teljesítményű processzorokat alkalmazó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ntium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gépcsalá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egjelenése, a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rafikus felhasználói felüle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sználatának általánossá válása jelentősen megnövelte az I/O buszrendszer adatátviteli teljesítményével kapcsolatos igényeket. Lényeges követelménnyé vált, hogy a sínrendszer "intelligens" legyen, azaz például meghatározott feltételek mellett a processzortól relatíve függetlenül is képes legyen működ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ai és az 1990-es évek PC-iben I/O buszrendszerként a PCI (Peripherial Component Interconnect, azaz a perifériákat összekötő) sínt használjá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D45-868A-40EA-963F-F654B48FDCF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30B24-193A-43C4-8210-64C7B22EFE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4.f. Egy tipikus PCI sínes konfigur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76240" y="1838160"/>
            <a:ext cx="5591520" cy="40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6FD-7438-442F-8EC6-D6C228188FE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2F804-D733-4F82-8E07-3AA32CD1E3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4.g. Az AG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1990-es évek második felében a nagyfelbontású monitorok, a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3D grafik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különösen a folyamatos mozgóképeket előállító játékprogramok) miatt a monitoron megjelenített kép felépítéséhez már igen nagy tömegű adatot kellett továbbítani az I/O buszon a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onitorvezérlő kártyá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t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entium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I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rocesszorcsaládhoz vezette be a gyorsított grafikus portra vonatkozó sínszabványt, az AGP-t (AGP = Accelerated Graphics Port), amely közvetlen (pont-pont), nagy teljesítményű adatátviteli kapcsolatot létesített a rendszermemória (a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Front-Side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Bu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 és a monitorvezérlő kártya közöt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5076720" y="1916280"/>
            <a:ext cx="3467160" cy="32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CDD-571B-473C-869F-1249170B46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55765-C115-4D5F-A9FA-224240655B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4.h. Az US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USB a kis és közepes teljesítményű adatátvitelt igénylő eszközöket egy nagy teljesítményű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ros adatátvit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l csatlakoztatja a számítógép központi egységéh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7180200" cy="255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D75-860A-4DE3-A93E-98ACC5A4B22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EDA1A-8C40-41F5-BC3B-68B60416E9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4.i. Az USB jellemző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iered star topológia (emeletes csillagfelépítés);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12 Mbit/sec átviteli sebessé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elvileg 127 USB-eszköz kiszolgálása egy szinten, max. 5 db hu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oros adatátvit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szközök sorosan felfűzhetők (csak ha két kaput tartalmazna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lehetővé teszi a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ug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lay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perifériatelepíté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szközök tápellátása USB-kábelen keresztül lehetséges (kis áramfelvételt igénylő perifériá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2124000" y="1197000"/>
            <a:ext cx="4805280" cy="21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C1A-4B5F-4B20-AAD2-51B5761C5B0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56E73-715F-4999-BDEE-16737ED218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b. Neumann-ciklus, elv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781992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D14-B9F6-47C5-8AB5-804C7000B3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5939A-D9F6-408F-AD13-C1D54DDAF3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5. Az I/O eszköz interfész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vel az egyes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ifériá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 és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áttértároló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 sebessége és működése igen eltérő, ezért az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/O eszköz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k és a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ínrendsze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zé olyan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terfész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szközöket (csatoló,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dapte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vezérlőegység) kell beiktatni, amelyek ezek együttműködését és összekapcsolhatóságát biztosítjá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nterfészek legfontosabb feladata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ínrendszer és perifériák sebessége közötti különbségek áthidalása az adatok   átmeneti tárolásával (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ufferregiszt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k igénybevételéve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erifériák működésére vonatkozó utasítások fogadása és átmeneti tárolása (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arancsregiszt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k álta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/O eszközök állapotáról programok (processzor) informálása (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állapotregiszt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ken keresztül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F07-E191-48EB-B3FE-D1208CE142B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F3DD4-B2CB-4875-B05D-D7433F228C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5.a. Az I/O eszköz interfészek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527120" y="1600200"/>
            <a:ext cx="6089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2B1-2DAD-4924-BB7C-A25097379129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7D65F-48F2-40F7-9CC1-5CC56798C7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5.b. Az I/O adatátvitel típus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Programozott átvite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l az összes műve-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tet a mikroszámítógép programja ve-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ér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Megszakí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al kezdeményezett adatát-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telnél az adatátvitelt a perifériától szár-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zó megszakítás kérés indít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Közvetlen memória hozzáféré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DMA) 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setén az adatátvitel a periféria és a me-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ória között, a CPU kikerülésével való-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ul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A8C-574E-4F36-909B-A2DEDF773D5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23136-8F82-44C6-B710-884E01E43C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5.c. A megszakítási 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nem lenne megszakítási rendszer, akkor például a processzornak állandóan ellenőriznie kellene, hogy a felhasználó nem nyomott-e le egy billentyűt a billentyűze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leütünk egy billentyűt, akkor az ennek megfelelő 8 bites, ún. scan kód kerül továbbításra a billentyűzet-vezérlőhöz. Ez addig vár, amíg a soros kábelen a bitsorozat meg nem érkezik. Ha ez megtörtént, a billentyűzet-vezérlő az IRQ (Interrupt Request) vezérlővonalon keresztül megszakítást kér a megszakítás-vezérlőtől, amelyet az a CPU-hoz továbbít. A CPU egy BIOS-rutin meghívásával olvassa be a billentyű kódjá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B98-CA38-4206-BE2C-B3D4ADFD79B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56504-2611-4876-9808-6E6D3097B4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.d. Megszakítást kiváltó események és kezelés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szakítási rendszer kiépítését az teszi szükségessé, hogy a számítógépes programok végrehajtása során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felléphetnek olyan események, melyek kezelése csak az utasításvégrehajtás „normális” menetének átmeneti felfüggesztésével lehetséges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zek bekövetkezhetn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eghatározott programhibák eseté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így például a program egy aritmetikai műveletben 0-val akar osztan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eghatározott műveletek befejezésekor, melyek bekövetkezésére számítani lehet, de ezek időpontja pontosan nem tervezhet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erre tipikus példa az, amikor egy periféria jelzi, hogy egy input vagy output műveletet befejezet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ándékosan, azaz programvezérelt mód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mikor például a programhibák felderítése céljából a programfutást lépésenként megszakítjuk annak érdekében, hogy megtekintsük a tárolótartalmaka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eljesen véletlenszerűen és váratlanul (ilyen például egy súlyos hardver hiba vagy áramkimaradás)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8CA-A735-408A-B359-44B92720644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8B1E5-6771-4832-BE59-90B39728A2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.e. Az alaplapra integrált vezérlések és csatoló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ítógép </a:t>
            </a:r>
            <a:r>
              <a:rPr b="0" lang="hu-H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aplapi áramkörkészlet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ébe integrált vezérlések és csatoló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zött általában a következőket találhatjuk m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ros por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COM1, COM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árhuzamos por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LPT1, LPT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illentyűzetvezérlő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S/2 egér- és billentyűzetpo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flopivezérlő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EIDE-merevlemezcsatol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integrált hangfeldolgozó egység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Audio Codec '9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USB host adap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LAN-adapter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helyi hálózat csatolój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E4E-6C13-40D7-AFAA-3CC30E72104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FC7AF-C48B-4E5C-ABD4-FE465BE45B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4.f. A soros po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soros port az adatbitek egymás utáni (soros) átvitelét teszi lehetővé egyazon vonalon.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bből rögtön következik, hogy ez egy viszonylag lassú, de gazdaságos átvitel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z adatok párhuzamos-soros átalakítását, valamint ezek küldését és fogadását egy UART áramkör végzi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oros portra csatlakoztatható eszközö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ér, modem, ISDN kártya, soros csatlakozójú nyomtató, másik számítógép, stb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71840" y="1601640"/>
            <a:ext cx="40003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8AD-2E0B-40A0-B34C-02009BB33BAD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3D4DD-71C2-4F97-9BA9-4D25642686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4.g. A párhuzamos po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párhuzamos interfész egyszerre (párhuzamosan) küld egy 8 bites adatot a vevő felé, mindegyik bitet külön vezetéken. Az adatvonalak mellett szükséges két vezérlőjel alkalmazása is a </a:t>
            </a: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handshaking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(kézfogás) megvalósításá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49520" y="1600200"/>
            <a:ext cx="4044960" cy="21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801-4B73-403C-957B-A2BB016002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A61D9-F42A-4742-BCE8-D820FD1B79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4.h. Az IDE csatoló és a lemezvezérlé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IDE = Integrated Drive Electronics, azaz integrált meghajtó elektronika. Ez azt jelenti, hogy a mágneslemez vezérléséhez szükséges elektronikát fizikailag a lemezegységgel egybeépítik, így növelve az adatátviteli sebességet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476360" y="3537000"/>
            <a:ext cx="5357880" cy="25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945-4CF6-415A-9A33-F2CABBB2F25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D97D4-2A8A-47E7-80DB-8D982AFB5F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4.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47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B7E-9947-481F-AA66-7554522BB6B7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79D6B-BAA1-4936-99A5-F0436EC143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c. Kitér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EF3-BB79-4735-9494-B89A438212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529C7-ABEC-491E-926A-BF185AE5E8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48840" cy="49546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3. Periféri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EC3-CF29-4D12-AA0B-B04D7EE3E78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E02EB-5876-41D0-B0FF-2994B028FC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a. Folytatá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tp://www.gdf-ri.hu/pub/gdf/Targy/Mikrosz/Mszg2Okt0208v1/Lapok/part7/menu7.ht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ttp://ilias3.gdf-ri.hu/content/lm_presentation.php?ref_id=7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ttp://mek.oszk.hu/01200/01230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F45-B8A2-43BF-AA88-D11BBEBDD6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DBBFC-45AA-49BD-9B71-4CF62A9907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d. A számítógépek osztályozás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számítógéprendszereket különböző szempontok szerint csoportosíthatjuk. Ezek közül a legfontosabb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eljesítmény szerint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kro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kis-),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özép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agyszámítógépe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z utasítás- és adatfolyamok száma szerint: </a:t>
            </a:r>
            <a:r>
              <a:rPr b="0" i="1" lang="hu-H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IS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egy utasítás-, egy adatfolyam),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IM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egy utasítás-, több adatfolyam),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IS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több utasítás-, egy adatfolyam) és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M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több utasítás-, több adatfolyam) gép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z utasításkészlet szerint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mplex és egyszerűsített utasításkészletű gépek (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ISC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ISC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számítógép működési elve szerint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Neumann és nem Neumann elvű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rchitektúrá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z egyidőben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kiszolgált felhasználók száma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kiszolgálás időbelisége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szeri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A2F-D0BE-4623-BA39-EB830551C1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F4C63-1507-48ED-9D2A-FC5C45071D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5240" cy="4781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e. Nagyszámítógép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993-8506-437F-8060-23572F9D1D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D7EA0-529E-47EB-9CBC-46E06E4655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f. A számítógép teljesítményét meghatározó tényező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ámítógépekben található chipek ciklusokban működnek, valamilyen frekvenciával. Erre azért van szükség, mert a feszültség szintek csak bizonyos idő után állnak be a bináris 0-nak vagy 1-nek megfelelő értékre. A ciklikus működés az órajel vagy meghajtó frekvencia használatával érhető 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ámítógéprendszerek teljesítményét nyilván egy adott feladat elvégzéséhez szükséges idővel hasonlíthatjuk össze. Ha egy feladat végrehajtási idejét „F”-el jelöljük, akk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 = C • T • 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hol C =  az egy utasításra eső átlagos ciklusszá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 =  az egy ciklushoz szükséges idő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U  =  a feladatvégrehajtáshoz szükséges utasítás szá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t figyelembe vév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gy számítógéprendszer teljesítményét a következő módon növelhetjü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U csökkentése  Þ  Hatékony programozás és fordítóprogra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 csökkentése  Þ  Magasabb órajel frekvencia, ez áramköri  fejlesztést jele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 csökkentése  Þ  Párhuzamosítás az utasításvégrehajtásban, azaz az</a:t>
            </a:r>
            <a:br>
              <a:rPr sz="1800"/>
            </a:b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 architektúra fejlesztése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gfele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F06-0300-44A3-8860-8DEAC2899F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CAFDE-0FE2-4240-8AEC-313CE74B66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10:37:30Z</dcterms:created>
  <dc:creator>LKG</dc:creator>
  <dc:description/>
  <dc:language>en-US</dc:language>
  <cp:lastModifiedBy>Leövey Klára Gimnázium</cp:lastModifiedBy>
  <dcterms:modified xsi:type="dcterms:W3CDTF">2005-03-21T10:35:41Z</dcterms:modified>
  <cp:revision>36</cp:revision>
  <dc:subject/>
  <dc:title>A számítógép felépítése</dc:title>
</cp:coreProperties>
</file>