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1356-3844-45D2-A720-AFE6C5BDE7A6}" type="slidenum">
              <a:rPr b="0" i="1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6712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8868960"/>
            <a:ext cx="297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86932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9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1AF-F625-4A60-B6F1-72BF60C6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3787920"/>
            <a:ext cx="784836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E0B-9279-45AE-ADF4-D112B019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560" y="213336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78792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560" y="378792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A5D-48F0-426F-9A5E-FA606FDE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252684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7560" y="2133360"/>
            <a:ext cx="252684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1120" y="2133360"/>
            <a:ext cx="252684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3787920"/>
            <a:ext cx="252684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7560" y="3787920"/>
            <a:ext cx="252684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1120" y="3787920"/>
            <a:ext cx="252684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453-E49F-4BE3-BEDA-2E1BF17F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31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12B-330B-4208-A0DC-A11991C1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CDC-11F7-4FE2-A1B9-8BB09E79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382968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560" y="2133360"/>
            <a:ext cx="382968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145-D33E-4E6C-A22A-F1F9C800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B99-0B4A-4399-8803-C6E42079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D24-6B67-4D5B-A371-37CE2517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560" y="2133360"/>
            <a:ext cx="382968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378792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502-5B47-4EA3-BC46-0600362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382968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560" y="213336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560" y="378792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514-AA4D-4EE0-B145-661017C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560" y="2133360"/>
            <a:ext cx="382968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787920"/>
            <a:ext cx="7848360" cy="151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E89-BA30-4802-BC99-128C748A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438E-E90E-48E8-BE8A-961C0D644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4000" y="2133360"/>
            <a:ext cx="784836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9160" indent="-209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09160" indent="-209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9160" indent="-209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9160" indent="-209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9160" indent="-209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9160" indent="-2091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Operációs rendszerek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Az </a:t>
            </a:r>
            <a:r>
              <a:rPr b="1" lang="hu-HU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OS-ekről</a:t>
            </a:r>
            <a:r>
              <a:rPr b="1" lang="hu-H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általáb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OS-ek része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Állománykezelé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Felhasználói felül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5BF-58D4-4682-90D6-1666CF5691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16360" y="4941720"/>
            <a:ext cx="2967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szakításkeze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4365720"/>
            <a:ext cx="1244520" cy="1015920"/>
          </a:xfrm>
          <a:prstGeom prst="roundRect">
            <a:avLst>
              <a:gd name="adj" fmla="val 12486"/>
            </a:avLst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52640"/>
            <a:ext cx="7061400" cy="43164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alkalmaz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5600" y="1628640"/>
            <a:ext cx="7061400" cy="3845160"/>
          </a:xfrm>
          <a:prstGeom prst="roundRect">
            <a:avLst>
              <a:gd name="adj" fmla="val 12486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SZERM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ER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589720"/>
            <a:ext cx="7061040" cy="43164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2205000"/>
            <a:ext cx="4186080" cy="2592360"/>
          </a:xfrm>
          <a:prstGeom prst="roundRect">
            <a:avLst>
              <a:gd name="adj" fmla="val 12486"/>
            </a:avLst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00680" y="2492280"/>
            <a:ext cx="39621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őforrás 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2349360"/>
            <a:ext cx="1244520" cy="648000"/>
          </a:xfrm>
          <a:prstGeom prst="roundRect">
            <a:avLst>
              <a:gd name="adj" fmla="val 12486"/>
            </a:avLst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242100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ütemez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3068640"/>
            <a:ext cx="1244520" cy="719280"/>
          </a:xfrm>
          <a:prstGeom prst="roundRect">
            <a:avLst>
              <a:gd name="adj" fmla="val 12486"/>
            </a:avLst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3141720"/>
            <a:ext cx="933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ze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3860640"/>
            <a:ext cx="1244520" cy="719280"/>
          </a:xfrm>
          <a:prstGeom prst="roundRect">
            <a:avLst>
              <a:gd name="adj" fmla="val 12486"/>
            </a:avLst>
          </a:prstGeom>
          <a:solidFill>
            <a:srgbClr val="ff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4000" y="4005360"/>
            <a:ext cx="933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Állomá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zel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1700280"/>
            <a:ext cx="3313080" cy="490320"/>
          </a:xfrm>
          <a:prstGeom prst="roundRect">
            <a:avLst>
              <a:gd name="adj" fmla="val 12486"/>
            </a:avLst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700280"/>
            <a:ext cx="3098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szerhív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1700280"/>
            <a:ext cx="3313440" cy="490320"/>
          </a:xfrm>
          <a:prstGeom prst="roundRect">
            <a:avLst>
              <a:gd name="adj" fmla="val 12486"/>
            </a:avLst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álas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8560" y="4941720"/>
            <a:ext cx="3116160" cy="519120"/>
          </a:xfrm>
          <a:prstGeom prst="roundRect">
            <a:avLst>
              <a:gd name="adj" fmla="val 12486"/>
            </a:avLst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17600" y="4941720"/>
            <a:ext cx="2967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zközmeghaj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4941720"/>
            <a:ext cx="3116520" cy="519120"/>
          </a:xfrm>
          <a:prstGeom prst="roundRect">
            <a:avLst>
              <a:gd name="adj" fmla="val 12486"/>
            </a:avLst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szakít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268280"/>
            <a:ext cx="0" cy="648000"/>
          </a:xfrm>
          <a:prstGeom prst="line">
            <a:avLst/>
          </a:prstGeom>
          <a:ln w="633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596360" y="1268280"/>
            <a:ext cx="0" cy="648000"/>
          </a:xfrm>
          <a:prstGeom prst="line">
            <a:avLst/>
          </a:prstGeom>
          <a:ln w="633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z operációs rendszer részei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6659640" y="6093000"/>
            <a:ext cx="503280" cy="549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000"/>
              <a:gd name="textAreaBottom" fmla="*/ 516600 h 549000"/>
            </a:gdLst>
            <a:ahLst/>
            <a:rect l="textAreaLeft" t="textAreaTop" r="textAreaRight" b="textAreaBottom"/>
            <a:pathLst>
              <a:path w="21600" h="23561">
                <a:moveTo>
                  <a:pt x="0" y="0"/>
                </a:moveTo>
                <a:lnTo>
                  <a:pt x="21600" y="0"/>
                </a:lnTo>
                <a:lnTo>
                  <a:pt x="21600" y="23561"/>
                </a:lnTo>
                <a:lnTo>
                  <a:pt x="0" y="23561"/>
                </a:lnTo>
                <a:close/>
              </a:path>
              <a:path fill="lightenLess" w="21600" h="235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1">
                <a:moveTo>
                  <a:pt x="21600" y="0"/>
                </a:moveTo>
                <a:lnTo>
                  <a:pt x="21600" y="23561"/>
                </a:lnTo>
                <a:lnTo>
                  <a:pt x="20200" y="22161"/>
                </a:lnTo>
                <a:lnTo>
                  <a:pt x="20200" y="1400"/>
                </a:lnTo>
                <a:close/>
              </a:path>
              <a:path fill="darkenLess" w="21600" h="23561">
                <a:moveTo>
                  <a:pt x="21600" y="23561"/>
                </a:moveTo>
                <a:lnTo>
                  <a:pt x="0" y="23561"/>
                </a:lnTo>
                <a:lnTo>
                  <a:pt x="1400" y="22161"/>
                </a:lnTo>
                <a:lnTo>
                  <a:pt x="20200" y="22161"/>
                </a:lnTo>
                <a:close/>
              </a:path>
              <a:path fill="lighten" w="21600" h="23561">
                <a:moveTo>
                  <a:pt x="0" y="235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1"/>
                </a:lnTo>
                <a:close/>
              </a:path>
              <a:path fill="darken" w="21600" h="23561">
                <a:moveTo>
                  <a:pt x="10800" y="4817"/>
                </a:moveTo>
                <a:lnTo>
                  <a:pt x="13376" y="7429"/>
                </a:lnTo>
                <a:lnTo>
                  <a:pt x="13376" y="5688"/>
                </a:lnTo>
                <a:lnTo>
                  <a:pt x="15152" y="5688"/>
                </a:lnTo>
                <a:lnTo>
                  <a:pt x="15152" y="9204"/>
                </a:lnTo>
                <a:lnTo>
                  <a:pt x="17763" y="11780"/>
                </a:lnTo>
                <a:lnTo>
                  <a:pt x="16109" y="11780"/>
                </a:lnTo>
                <a:lnTo>
                  <a:pt x="16109" y="18970"/>
                </a:lnTo>
                <a:lnTo>
                  <a:pt x="5491" y="18970"/>
                </a:lnTo>
                <a:lnTo>
                  <a:pt x="5491" y="11780"/>
                </a:lnTo>
                <a:lnTo>
                  <a:pt x="3837" y="11780"/>
                </a:lnTo>
                <a:close/>
              </a:path>
              <a:path fill="darkenLess" w="21600" h="23561">
                <a:moveTo>
                  <a:pt x="13376" y="7429"/>
                </a:moveTo>
                <a:lnTo>
                  <a:pt x="13376" y="5688"/>
                </a:lnTo>
                <a:lnTo>
                  <a:pt x="15152" y="5688"/>
                </a:lnTo>
                <a:lnTo>
                  <a:pt x="15152" y="9204"/>
                </a:lnTo>
                <a:close/>
              </a:path>
              <a:path fill="darkenLess" w="21600" h="23561">
                <a:moveTo>
                  <a:pt x="9877" y="15279"/>
                </a:moveTo>
                <a:lnTo>
                  <a:pt x="11723" y="15279"/>
                </a:lnTo>
                <a:lnTo>
                  <a:pt x="11723" y="18970"/>
                </a:lnTo>
                <a:lnTo>
                  <a:pt x="16109" y="18970"/>
                </a:lnTo>
                <a:lnTo>
                  <a:pt x="16109" y="11780"/>
                </a:lnTo>
                <a:lnTo>
                  <a:pt x="5491" y="11780"/>
                </a:lnTo>
                <a:lnTo>
                  <a:pt x="5491" y="18970"/>
                </a:lnTo>
                <a:lnTo>
                  <a:pt x="9877" y="1897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1E0-0DB5-4C52-BDEA-2E3448DF56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ndszerhívások, válaszo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ndszerhívások azok a programutasítások, amelyekkel programunkból operációs rendszeri szolgáltatásokat tudunk kérni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8B2-4349-4915-9A11-DE6DD92A65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Ütemezés szükségesség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673760" cy="363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71640" y="5013360"/>
            <a:ext cx="63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összes futási idő (majdnem) a felére csökk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PU és az I/O eszköz kihasználtsága 100%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: plusz tevékenységeket kell végezn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548-9FC6-4726-A298-20050D2DE8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lyamatleíró/vezérlő blokk</a:t>
            </a:r>
            <a:br>
              <a:rPr sz="32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Process Control Block - PCB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831000" cy="401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148428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lyamatok közül egyidejűle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ak e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that, tehát a többinek valamire várnia kell (I/O eszköz, CPU, memória stb.), tehát egy várakozási sorba kell áll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96A-5AD9-4CD1-B793-7C05C1C9F8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lyamatok állapota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10364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ÁSRA KÉS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ár csak a CPU hiányz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szakítot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ÁRAKOZI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vábbi erőforrás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LFÜGGESZTET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rőforrás nélk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3076560" cy="436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5F9-128A-466E-84FF-B33267571B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árkezel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0200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45F-940C-4583-8A37-8627ABFB28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etölt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413000"/>
            <a:ext cx="84582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betölt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load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helyezi be a memóriába a végrehajtható programot, a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báziscím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krét értéket kap, és elkészül a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folyamatleíró blok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Ezzel válik a végrehajtható programbó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lyam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tatikusan betöltöt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program pazarló módon kezeli a memóriát, mert minden részlete egyszerre bekerül a memóriába. Pl. a rend-szerkönyvtár elemei annyiszor kerülnek a memóriába, ahányszor a program hívja őke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dinamikusan szerkeszthető könyvtára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DL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megoldják a statikus használat problémáját, mert ezek a rutinok csak hivatkozás esetén kerülnek a memóriába, bekerülésük után több program is használhatja ő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0A4-6578-4583-B57F-D8DAE173C6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irtuális tárkezel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lyamat lapjai közül nem mindegyik van a memóriában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bbi a háttértáron várakozik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a folyamat által igényeltek kerülnek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őnyö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lós memóriánál nagyobb lehet a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öbb folyamat futhat egyszer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orsabb a betöltődés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4C8-9D0F-4CBE-8D3A-3E8D8A97AF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édelem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84836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gmentálá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tsuk a programjainkat LOGIKAI egységekre (lapozás: fizikai egységekre tördelé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zzel megoldható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folyamaton belül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kai egységek védel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gymástó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lyamatok védelme egymástó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 biztosítva az esetleges együttműködés lehetőségé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 operációs rendsz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édelme a felhasználóktó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558972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7308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5463" y="3794"/>
                </a:lnTo>
                <a:lnTo>
                  <a:pt x="5463" y="17806"/>
                </a:lnTo>
                <a:lnTo>
                  <a:pt x="38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E34-353E-496C-9DAD-A90959B88C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zközmeghajtók, periféria-kezel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86480" cy="38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0000ff"/>
                </a:solidFill>
                <a:latin typeface="Arial"/>
              </a:rPr>
              <a:t>Klasszikus perifériák”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 billentyűzet, monitor, lemez, st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klasszikus perifériákat az alaplapon kikapcsolás esetén is megmaradó programkód (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BIOS = Basic Input Output System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 kezeli, amely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az operációs rendszertől független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erifériák beállítási lehetősége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. „Kézi” beállítások: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onfig.s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. Automatikus beállítások: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lu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lay (Pn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3. Félautomata beállítások: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„Scan for new devic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BD7-86E6-41B3-921A-CE36DD9AAF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elhasznált, ajánlott irodalom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31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inden megtalálható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ww.leovey.hu/infbz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79E-1CAF-4951-AEFF-796EF37FEE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zközmeghajtók, periféria-kezelés 2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001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séges hardver felület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merevlemezeket, CD olvasókat olyan vezérlővel szerelik fel, mely kifele egységesen viselkedik, leegyszerűsödik ezen perifériák kezelése. Ilyen vezérlő az pl. az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IDE: Integrated Device Electronic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gyártótól származó eszközmeghajtó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yártók eszközmeghajtót (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device driv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t) biztosítanak, hogy eszközük illeszkedjen az operációs rendszer szabványos felületéhez (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HAL: Hardware Abstraction Lay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, ami lehetővé teszi az eszköznek a számí-tógépbe történő beépítését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telligens perifériá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 a perifériák az operációs rendszer kérdéseire értelmes válaszokat adnak, így az operációs rendszer külső beavatkozás nélkül tudja ezeket a perifériákat használni (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Plug&amp;Pla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661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8636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6791" y="3794"/>
                </a:lnTo>
                <a:lnTo>
                  <a:pt x="6791" y="17806"/>
                </a:lnTo>
                <a:lnTo>
                  <a:pt x="512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581-079F-4398-ADCC-DB22F0CA1D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gszakítások fajtá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szakítás (Interrup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erifériák jelzése a processzor számára (pl. adatátvitel vé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ivételek (Excep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rocesszorműveletek során keletkező hibák esetén (pl. rossz címszámítás, osztás 0-v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em maszkolható megszakítások (NM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úlyos hardver (pl. RAM, tápfeszültség) hi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apda (Szoftver megszakítás, Tr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elhasználói folyamatoktól érkező rendszerhívás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460-30F3-4F5B-AF92-0E87C92447B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egszakítás-kezelés lépése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615440" cy="413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24720" y="5229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4E5-1766-478F-8F5D-D5EE06708D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3. Állománykezel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! Számítástechnika </a:t>
            </a:r>
            <a:r>
              <a:rPr b="1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fájlok kezelése 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ájl (file) = saját névvel rendelkező számítógépe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lomány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(program, szöveg, kép, stb.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űvelete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étrehozás, mentés, megnyitá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elhasználói prg.,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ás, kiíratá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elhasználói prg.,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ásolás, mozgatá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S, segédp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nevezés, törlé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S, segédp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ttat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S, segédp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mörítés, konverzió, stb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gédp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ovábbítás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-mail, ftp, böngés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88E-2E5E-4467-B672-9D0DD1EB44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z állománykezelés alapfogalma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49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1. Logikai állománykezelé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Állomány (fálj), elneve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talógus (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tet (volume, ~drive, ~d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lérési út, keresési útvonal (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2. Fizikai állománykezelés (lemezkezelé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emezek (disk), partíciók (part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lokkok, cluster-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Boot record, MBR, Root,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6877080" y="573408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" w="21600" h="23988">
                <a:moveTo>
                  <a:pt x="10800" y="5031"/>
                </a:moveTo>
                <a:lnTo>
                  <a:pt x="13376" y="7642"/>
                </a:lnTo>
                <a:lnTo>
                  <a:pt x="13376" y="5901"/>
                </a:lnTo>
                <a:lnTo>
                  <a:pt x="15152" y="5901"/>
                </a:lnTo>
                <a:lnTo>
                  <a:pt x="15152" y="9418"/>
                </a:lnTo>
                <a:lnTo>
                  <a:pt x="17763" y="11994"/>
                </a:lnTo>
                <a:lnTo>
                  <a:pt x="16109" y="11994"/>
                </a:lnTo>
                <a:lnTo>
                  <a:pt x="16109" y="19183"/>
                </a:lnTo>
                <a:lnTo>
                  <a:pt x="5491" y="19183"/>
                </a:lnTo>
                <a:lnTo>
                  <a:pt x="5491" y="11994"/>
                </a:lnTo>
                <a:lnTo>
                  <a:pt x="3837" y="11994"/>
                </a:lnTo>
                <a:close/>
              </a:path>
              <a:path fill="darkenLess" w="21600" h="23988">
                <a:moveTo>
                  <a:pt x="13376" y="7642"/>
                </a:moveTo>
                <a:lnTo>
                  <a:pt x="13376" y="5901"/>
                </a:lnTo>
                <a:lnTo>
                  <a:pt x="15152" y="5901"/>
                </a:lnTo>
                <a:lnTo>
                  <a:pt x="15152" y="9418"/>
                </a:lnTo>
                <a:close/>
              </a:path>
              <a:path fill="darkenLess" w="21600" h="23988">
                <a:moveTo>
                  <a:pt x="9877" y="15493"/>
                </a:moveTo>
                <a:lnTo>
                  <a:pt x="11723" y="15493"/>
                </a:lnTo>
                <a:lnTo>
                  <a:pt x="11723" y="19183"/>
                </a:lnTo>
                <a:lnTo>
                  <a:pt x="16109" y="19183"/>
                </a:lnTo>
                <a:lnTo>
                  <a:pt x="16109" y="11994"/>
                </a:lnTo>
                <a:lnTo>
                  <a:pt x="5491" y="11994"/>
                </a:lnTo>
                <a:lnTo>
                  <a:pt x="5491" y="19183"/>
                </a:lnTo>
                <a:lnTo>
                  <a:pt x="9877" y="1918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06F-6BC7-45BC-9ECB-0B91748B09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Állományo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3274920"/>
            <a:ext cx="8610840" cy="2386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elnevezési lehetőségek operációs rendszertől függene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Windows:   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Bevezetés a számítástechnikába.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OS:           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BEVEZETE.DOC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(8+3 !!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Unix: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u-HU" sz="2400" spc="-1" strike="noStrike">
                <a:solidFill>
                  <a:srgbClr val="ff3300"/>
                </a:solidFill>
                <a:latin typeface="Courier New"/>
              </a:rPr>
              <a:t>Bevezetes.a.szamitastechnik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1040" y="1454040"/>
            <a:ext cx="8597880" cy="1663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Állomány (fájl,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áttértárolón elhelyezett összefüggő adatok együ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ezelt, összetartozó, névvel rendelkező csoport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30B-0C6A-42E5-B7EC-B83E1D61A6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z állományok jellemzői 1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881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aphelyzetb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olsó módosítás időpon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ret (byte, kbyte,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útu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rchivá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sak olvas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ndszerfáj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jtett fáj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388-2769-4824-8392-CA4ED903CD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z állományok jellemzői 2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84836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Hálózati (több felhasználós) környezetb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ulajd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lhasználói jogosultság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lvasás (Read -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Írás (Write - 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étrehozás (Create -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égrehajtás (eXecute -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örlés (Erase -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lemzők módosítása (Modify -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zzáférés módosítása (Access control -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CF7-4784-4E7B-92E2-782560BB1F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z MS-DOS elnevezési szabálya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8469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ájlnév kötelezően két részből á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ső rész a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név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mi 1 - 8 karakterből á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ásodik rész a ’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po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után lévő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kiterjeszt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ami 0 - 3 karakterből állha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évben lehetnek betűk, számok, speciális karakter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incsenek megkülönböztetve a nagy- és kisbetű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kezetes karakterek esetenként használhatók, de célszerű ezek használatát kerül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om, exe, b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végrehajtható, ún. programállomány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xt, doc, ..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zövegállomány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gif, pcx, ..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grafikus állomány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bf, db, ...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datállományok,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E8C-8681-4F6E-AB19-C87861F451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Windows 9x elnevezési szabálya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8360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ettő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lnevezés-rendszert használ a dokumentum-orientált szemlélet és a DOS kompatibilitás miatt. Van egy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hosszú Windows név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és egy </a:t>
            </a:r>
            <a:r>
              <a:rPr b="0" lang="hu-HU" sz="2400" spc="-1" strike="noStrike">
                <a:solidFill>
                  <a:srgbClr val="ff3300"/>
                </a:solidFill>
                <a:latin typeface="Arial"/>
              </a:rPr>
              <a:t>rövid DOS né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Windows név legfeljebb 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arakter hosszú, tetszőleges karakterekből álló né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OS név 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8 + 3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arakterből á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Windows névből készül a DOS né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in 9x (hosszú)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z ezeregy éjszaka meséi.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lózat használata esetén fontoljuk meg a használatá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in 9x (rövid)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ZEZER~1.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7A4-1B47-4B83-8AE3-70168BCA9F7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1. Az operációs rendszerről általába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82436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operációs rendszer az alkalmazások és a hardv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közö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lálható, és eltakarja az alkalmazások elől az egyes hardverek különbözőségé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operációs rendszer minden hardverből egysége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virtuális gép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állít elő. Ezért az alkalmazásokat általában az operációs rendszerekhez készítik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774960" cy="22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5AA-B611-4C9C-B925-C01F020644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A UNIX (Linux) elnevezési szabálya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ájlnév hossza maximum </a:t>
            </a: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255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karakter. Tetszőleges számú ponttal elválasztott részből állha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UNIX </a:t>
            </a: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megkülönbözteti a kis- és nagybetűket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Ékezetes betűket nem célszerű használ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sználhatók, de kerülendők a </a:t>
            </a: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speciális karaktere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.Ezeregy.Ejszaka.Mesei.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02E-01D1-4F12-82CF-42F55082BE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Katalógusok (könyvtárak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373356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öbbféle katalógus-rendszer létez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szin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étszin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erarchikus (fa struktú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905120"/>
            <a:ext cx="8521560" cy="1587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Katalógus (direct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ly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állomá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amely adatokat, programok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rtalmazó állományok jellemzőit tartalmazz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hetővé teszi csoportosításu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0D4-D655-4DC1-AA41-611B0A6CE6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Kötete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gy fizikai lemez általában egy kötet, de könnyen lehetnek eltérése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lölésük (a DOS világban)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: … Z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lsődleges floppy az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ásodlagos floppy 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lsődleges merevlemez 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álózat általában az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: … Z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rtományt kapj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76520"/>
            <a:ext cx="8521560" cy="1815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Kötet (volu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Logikai egység, melynek segítségével a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operációs rendszer háttértárolóit kez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DFC-44A3-47DF-9792-2963E54ADF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ivatkozáso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Abszolút hivatkozá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ötet megadása után a hivatkozott állományig minden közbülső katalógust fel kell sorol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C:\WIN95\SYSTEM\US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Relatív hivatkozá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címzés az aktuális kötethez, katalógushoz képest történik (gyerek ‘.’, szülő: ‘..’, gyökér: ‘\’ vagy ’/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..\..\USR\ZSAZSA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URL (Uniform Resource Locator) (hálózatok eseté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kötetet tartalmazó gép nevét is meg kell a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</a:rPr>
              <a:t>\\EREBUS\SYS\PMAIL\WINPMAIL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F20-CECC-470D-9F09-9C3198C4CC7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élda: Relatív és abszolút fájl elér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828800"/>
            <a:ext cx="3886200" cy="3962520"/>
            <a:chOff x="380880" y="1828800"/>
            <a:chExt cx="3886200" cy="3962520"/>
          </a:xfrm>
        </p:grpSpPr>
        <p:sp>
          <p:nvSpPr>
            <p:cNvPr id="160" name=""/>
            <p:cNvSpPr/>
            <p:nvPr/>
          </p:nvSpPr>
          <p:spPr>
            <a:xfrm>
              <a:off x="380880" y="1828800"/>
              <a:ext cx="3886200" cy="1668600"/>
            </a:xfrm>
            <a:prstGeom prst="roundRect">
              <a:avLst>
                <a:gd name="adj" fmla="val 12486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3040" y="220500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3640" y="22068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5080" y="28162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1320" y="2057400"/>
              <a:ext cx="660240" cy="29376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1320" y="2670120"/>
              <a:ext cx="660240" cy="292320"/>
            </a:xfrm>
            <a:prstGeom prst="roundRect">
              <a:avLst>
                <a:gd name="adj" fmla="val 1248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8040" y="220500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98640" y="22068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0080" y="2433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78040" y="281628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59120" y="2817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60560" y="3274920"/>
              <a:ext cx="1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41640" y="2664000"/>
              <a:ext cx="912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at1.db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1640" y="3122640"/>
              <a:ext cx="912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at2.db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3280" y="2057400"/>
              <a:ext cx="233280" cy="29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8600" y="3044880"/>
              <a:ext cx="5475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3664080"/>
              <a:ext cx="3886200" cy="2127240"/>
            </a:xfrm>
            <a:prstGeom prst="roundRect">
              <a:avLst>
                <a:gd name="adj" fmla="val 12486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3040" y="396252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3640" y="396396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5080" y="45752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1320" y="3816360"/>
              <a:ext cx="660240" cy="29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1320" y="4427640"/>
              <a:ext cx="660240" cy="29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78040" y="4575240"/>
              <a:ext cx="3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59120" y="4576680"/>
              <a:ext cx="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60560" y="5032440"/>
              <a:ext cx="1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46320" y="4427640"/>
              <a:ext cx="598320" cy="29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SK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46320" y="4886280"/>
              <a:ext cx="598320" cy="2937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51120" y="45752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1120" y="503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2200" y="503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3640" y="5491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16160" y="4879800"/>
              <a:ext cx="91296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rajz.jp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16160" y="5338800"/>
              <a:ext cx="9129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tabla.x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16160" y="4421160"/>
              <a:ext cx="9129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Arial"/>
                </a:rPr>
                <a:t>szoveg.t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3280" y="3816360"/>
              <a:ext cx="233280" cy="293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\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3400" y="5268960"/>
              <a:ext cx="476280" cy="446040"/>
            </a:xfrm>
            <a:prstGeom prst="roundRect">
              <a:avLst>
                <a:gd name="adj" fmla="val 1248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0" y="190512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bszolút hivatkoz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\DATA\ADAT1.D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\TEMP\PISTA\RAJZ.J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\TEMP\JOSKA\SZOVEG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elatív hivatkoz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ADAT1.D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RAJZ.J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TEMP\JOSKA\SZOVEG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\TEMP\JOSKA\SZOVEG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DD8-90FE-46A0-87F1-A0F9280F427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Keresési útvonal (path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676160"/>
            <a:ext cx="8512200" cy="427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400" spc="-1" strike="noStrike">
                <a:solidFill>
                  <a:srgbClr val="0000ff"/>
                </a:solidFill>
                <a:latin typeface="Arial"/>
              </a:rPr>
              <a:t>PATH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operációs rendszer </a:t>
            </a: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változó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fájl elérése céljából az operációs rendszer először az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aktuális köt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n az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aktuális katalógu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keresi a fájlt. Ha nem találja egymásután felkeresi a PATH változóban felsorolt katalógusokat. Az operációs rendszer hibaüzenetet csak azután ad ki, ha sehol sem  találja meg a fáj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PATH C:\Windows;C:\DOS;C:\Windows\Comman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551664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9684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  <a:path fill="darken" w="26365" h="21600">
                <a:moveTo>
                  <a:pt x="6176" y="3794"/>
                </a:moveTo>
                <a:lnTo>
                  <a:pt x="7839" y="3794"/>
                </a:lnTo>
                <a:lnTo>
                  <a:pt x="7839" y="17806"/>
                </a:lnTo>
                <a:lnTo>
                  <a:pt x="617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2C5-8DE3-4B22-BDA3-98DFD42A11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zikai állománykezel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512200" cy="45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Master Boot Record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mezek legkülső sávjának eleje, tartalmazza a partíciók adatait, az aktív partícióra adja a vezérlé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Partíci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mezek sávjainak egy összefüggő tartománya, amely általában egy logikai kötetként jelenik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Boot rek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artíciók első sávjában lévő kis program, mely az operációs rendszer betöltését vég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(File Allocation Tab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nem összefüggően elhelyezett állománydarabok elhelyezkedését mutató táblázat (kettő van belő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101-29D3-46CF-8916-5C8DE8096B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z állományok elhelyezé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5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den partíció egy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ogikai köt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ént jelenik me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ak megfelelő módon előkészített köteten lehet állományokat tárolni. Az előkészítés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mázá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rmázáskor kerülnek a kötetre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zükséges táblázat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elkerülhet rá az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perációs rendszer m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,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yökérkatalóg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és két példányban létrejön a fájlok elhelyezését regisztráló táblázat: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059-57DD-4BCB-B668-423A7A1F9F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DOS logikai lemezszerkezet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27240" y="1378080"/>
            <a:ext cx="6462720" cy="4951080"/>
            <a:chOff x="1227240" y="1378080"/>
            <a:chExt cx="6462720" cy="4951080"/>
          </a:xfrm>
        </p:grpSpPr>
        <p:sp>
          <p:nvSpPr>
            <p:cNvPr id="206" name=""/>
            <p:cNvSpPr/>
            <p:nvPr/>
          </p:nvSpPr>
          <p:spPr>
            <a:xfrm>
              <a:off x="1647720" y="1378080"/>
              <a:ext cx="2522520" cy="33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BR, Partíciós táb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47720" y="2144880"/>
              <a:ext cx="2522520" cy="1731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ájlrends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47720" y="4238640"/>
              <a:ext cx="2522520" cy="207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ájlrendsz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47720" y="1727280"/>
              <a:ext cx="2522520" cy="404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1. Boot rec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345960" y="2598480"/>
              <a:ext cx="2168640" cy="4064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partíció (pl. 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04840" y="4900320"/>
              <a:ext cx="2451240" cy="4064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partíció (pl. Linux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47720" y="3889440"/>
              <a:ext cx="2522520" cy="406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2. Boot rec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61000" y="1866960"/>
              <a:ext cx="2028960" cy="4046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1000" y="2284560"/>
              <a:ext cx="2028960" cy="4060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61000" y="2703600"/>
              <a:ext cx="2028960" cy="4064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Root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61000" y="3122640"/>
              <a:ext cx="2028960" cy="4046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O.SYS, MSDOS.S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176720" y="1860120"/>
              <a:ext cx="14763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8160" y="3884760"/>
              <a:ext cx="1476360" cy="20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61000" y="3540240"/>
              <a:ext cx="2028960" cy="2428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Adatállományo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Alkatalógus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89E-9B75-4B0A-9E36-76329A51F23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88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z operációs rendszer betöltésének lépései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vel az operációs rendszert lemezről kell betölteni,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szükség van az operációs rendszertől független lemezkezelésre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indul az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MBR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ben lévő program. A partíciós tábla alapján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betölti az aktív partíció Boot rekordjában lévő programo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Boo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rekord programja az adott partícióra jellemző paraméterek segítségével megkeresi az operációs rendszer első állományát (MS-DOS esetében az 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IO.SY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), és továbbadja a vezérlé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operációs rendszer indul ..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B04-F842-417F-AA37-BDBFAC66E3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logikai model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000" y="2133360"/>
            <a:ext cx="7848360" cy="316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953400" cy="40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5E9-3C81-405C-85F3-AAB9E0CB7D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ogyan működik a FAT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4360" y="1341360"/>
            <a:ext cx="7162200" cy="3811680"/>
            <a:chOff x="684360" y="1341360"/>
            <a:chExt cx="7162200" cy="3811680"/>
          </a:xfrm>
        </p:grpSpPr>
        <p:sp>
          <p:nvSpPr>
            <p:cNvPr id="224" name=""/>
            <p:cNvSpPr/>
            <p:nvPr/>
          </p:nvSpPr>
          <p:spPr>
            <a:xfrm>
              <a:off x="2138400" y="2340000"/>
              <a:ext cx="15876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AT.T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38600" y="2340000"/>
              <a:ext cx="105408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5640" y="2340000"/>
              <a:ext cx="5968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410440" y="2106000"/>
              <a:ext cx="22680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32320" y="195084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kezdő clu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819520" y="1496880"/>
              <a:ext cx="760320" cy="83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31960" y="1341360"/>
              <a:ext cx="82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ájlné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1801440"/>
              <a:ext cx="53172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39040" y="210492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640" y="1495440"/>
              <a:ext cx="258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95840" y="1800000"/>
              <a:ext cx="14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3400" y="1646280"/>
              <a:ext cx="161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egyéb adato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8400" y="3558960"/>
              <a:ext cx="67320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24200" y="3558960"/>
              <a:ext cx="67320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10000" y="3558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5800" y="3558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81600" y="3558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67400" y="3558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53200" y="3558960"/>
              <a:ext cx="67320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39000" y="3558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22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80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038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896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54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12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70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32880" y="317160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8400" y="4701960"/>
              <a:ext cx="67320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4200" y="4701960"/>
              <a:ext cx="67320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0000" y="4701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5800" y="4701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81600" y="4701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7400" y="4701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0" y="4701960"/>
              <a:ext cx="673200" cy="368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9000" y="4701960"/>
              <a:ext cx="673200" cy="368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05520" y="2716200"/>
              <a:ext cx="150840" cy="83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6360" y="3935160"/>
              <a:ext cx="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3886200" y="3934800"/>
              <a:ext cx="1370160" cy="76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65840" y="3935160"/>
              <a:ext cx="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37440" y="3935160"/>
              <a:ext cx="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0560" y="3935160"/>
              <a:ext cx="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4760" y="3935160"/>
              <a:ext cx="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886200" y="3934800"/>
              <a:ext cx="684360" cy="76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572000" y="3934800"/>
              <a:ext cx="1370160" cy="76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867640" y="3934800"/>
              <a:ext cx="1369800" cy="6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360" y="225720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atalóg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jegyzé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360" y="347652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m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rtal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4360" y="461952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rtal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227640" y="566100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8670" y="10800"/>
                </a:moveTo>
                <a:lnTo>
                  <a:pt x="19175" y="3794"/>
                </a:lnTo>
                <a:lnTo>
                  <a:pt x="19175" y="17806"/>
                </a:lnTo>
                <a:close/>
              </a:path>
              <a:path fill="darken" w="24337" h="21600">
                <a:moveTo>
                  <a:pt x="5162" y="3794"/>
                </a:moveTo>
                <a:lnTo>
                  <a:pt x="6824" y="3794"/>
                </a:lnTo>
                <a:lnTo>
                  <a:pt x="6824" y="17806"/>
                </a:lnTo>
                <a:lnTo>
                  <a:pt x="516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456-DE43-429D-A8C3-299515DD5FF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4. A felhasználói felül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9128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szei, feladata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indítá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zköz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ndszermag szolgáltatásainak eléré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. perifériák, memória beállítása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ozói felül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pvető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édprogram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rendszer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jtá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akte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lhasználói felül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k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lhasználói felül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6659640" y="5589720"/>
            <a:ext cx="649080" cy="64764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48" h="21600">
                <a:moveTo>
                  <a:pt x="0" y="0"/>
                </a:moveTo>
                <a:lnTo>
                  <a:pt x="21648" y="0"/>
                </a:lnTo>
                <a:lnTo>
                  <a:pt x="21648" y="21600"/>
                </a:lnTo>
                <a:lnTo>
                  <a:pt x="0" y="21600"/>
                </a:lnTo>
                <a:close/>
              </a:path>
              <a:path fill="lightenLess" w="21648" h="21600">
                <a:moveTo>
                  <a:pt x="0" y="0"/>
                </a:moveTo>
                <a:lnTo>
                  <a:pt x="21648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8" h="21600">
                <a:moveTo>
                  <a:pt x="21648" y="0"/>
                </a:moveTo>
                <a:lnTo>
                  <a:pt x="21648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8" h="21600">
                <a:moveTo>
                  <a:pt x="21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8" h="21600">
                <a:moveTo>
                  <a:pt x="10824" y="3837"/>
                </a:moveTo>
                <a:lnTo>
                  <a:pt x="13400" y="6448"/>
                </a:ln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7" y="10800"/>
                </a:lnTo>
                <a:lnTo>
                  <a:pt x="16133" y="10800"/>
                </a:lnTo>
                <a:lnTo>
                  <a:pt x="16133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1" y="10800"/>
                </a:lnTo>
                <a:close/>
              </a:path>
              <a:path fill="darkenLess" w="21648" h="21600">
                <a:moveTo>
                  <a:pt x="13400" y="6448"/>
                </a:moveTo>
                <a:lnTo>
                  <a:pt x="13400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8" h="21600">
                <a:moveTo>
                  <a:pt x="9901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3" y="17989"/>
                </a:lnTo>
                <a:lnTo>
                  <a:pt x="16133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1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974-1D49-4CE3-8FD6-B97E66F0F6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Karakteres felhasználói felül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37576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sználatos elnevezése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, MONITOR, COMMAN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elada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indítás,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ájl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yéb operációs rendszer funkciók biztosítása a felhasználók szám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rancsok felépíté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ncs [paraméterek] [/kapcsolók] (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ncs -opciók paraméterek (UN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B01-58AD-4D7C-8448-C2D52DC8FE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rogramkezel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Programindítá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vetlen indítás (név beírása, load, r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zvetett elérés (Win: lnk; DOS: b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resési útvonalak (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áncolt (kötegelt) futtatás (*.bat, *.n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tomatikus programbetöltés (autoexec.bat; win.ini-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program környez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amét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pcsol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irányítási 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rnyezeti változ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olyamat futásának ellenőrzé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tív folyamatok listázása, leállítása, stb. (task manager, mon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15A-F487-4E03-851B-856AD0D8E6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856908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6600"/>
                </a:solidFill>
                <a:latin typeface="Arial"/>
              </a:rPr>
              <a:t>A legfontosabb MS-DOS parancsok</a:t>
            </a:r>
            <a:r>
              <a:rPr b="1" lang="hu-HU" sz="2400" spc="-1" strike="noStrike">
                <a:solidFill>
                  <a:srgbClr val="006600"/>
                </a:solidFill>
                <a:latin typeface="Arial"/>
              </a:rPr>
              <a:t> (Win-ban: cmd)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4920" y="1447560"/>
            <a:ext cx="844380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program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’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program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’ nevű fájl indít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FDISK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íciós tábla kialakítása, módosít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FORMA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A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’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’ kötet formáz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MD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ka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’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ka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’ nevű katalógus létrehoz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RD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kat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’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ka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’ nevű katalógus törlése, ha ü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DIR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aktuális katalógus listáz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CD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\ka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tás a ’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ka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’ nevű katalógus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DE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file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’</a:t>
            </a: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’ nevű fájl törl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COPY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it hova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állomány más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REN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it mire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lomány átnev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DATE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dátum lekérdezése-beállít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TIME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z idő lekérdezése-beállít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HELP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súgó előhív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Arial"/>
              </a:rPr>
              <a:t>parancs/?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ancs súgó előhív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E60-8559-42CD-88FF-64A582C40F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rafikus felhasználói felül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öbbfeladatos környezetben nagyon haszn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ipikus képviselői: 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X-Window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seményvezérelt, eszközfüggetl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7F0-1E07-4ACC-8F33-85469741E9E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Eseményvezérelt működ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4000" y="2133360"/>
            <a:ext cx="7848360" cy="3166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6981840" cy="37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952-6DC7-475E-ABF8-239FB48DF3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Eszközfüggetlen működé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jelenítő szerver az alkalmazás szabványos, eszközfüggetlen üzenetei alapján állítja össze a megjelenítendő kép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kalmazásnak nem kell ismernie a munkaállomás perifériáit, a megjelenítésről a helyi szerver gondoskodik (G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UI az alapvető objektumokat maga állítja elő az alkalmazástól kapott paraméterek alapjá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533-E79D-4615-AC49-1AD92576A5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Windows 9x jellemzői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06436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rafikus felhasználói felület (Graphic User Interface, GU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feladatos rendszer a programok - alkalmazások - ablakban jelennek me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tó alkalmazások védelme egymástó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2 bites kódú program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rtuális memória használata (lapozá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tató eszköz (egér, trackball, touchpad, touchscre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gólap (Clipboard)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lkalmazások közötti információcserér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gi MS-DOS programok is futtathatók (többnyi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mtalan segédprogramot is tartalma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streszabh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tomatikus hardverfelismerés: Plug and Play (199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ltimédiás lehetőségek, hálózatok támogatása, Internetes program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sszú fájlnevek használ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ájltörlés csak logikai, a Lomtárba kerü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99E-2BA1-4160-B40F-B364DF94B1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Windows jellemzői (a 98-on keresztül)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91280" cy="49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ebintegráció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ternet Explorer 4.0, Outlook Express, FrontPage Express, NetShow, NetMeeting, RealPl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rdverújdonságok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USB, DVD, IEEE 1394 (FireWire), digitális fényképezőgépek és videokamerák támogat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irectX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5 (főleg játékprogramoknál, teljes képernyos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ultimonito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max. 9-et köthetünk ”sorb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Win32 Driver Model specifikáció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D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pen Typ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betűtí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lapú dokumentum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AT32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indows XP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Window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s vona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esít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egységes operációs rendszer, de NT „alapú”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001. októberben jelent meg (XP ? az e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ience szóból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48E-8AE1-49B8-9682-A5723BC07F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éhány operációs rendsz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1. 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felhasználós (single user, mono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feladatos (monotasking – egy időben 1 program fut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2. 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onouser (hálózatban használva multi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ltitasking (időosztásos - time sh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3. UNIX (Linu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ltiuser (szerver + terminál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DC6-B0D4-4C17-8D69-996DC0D502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Windows 98 belső felépítése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4000" y="2133360"/>
            <a:ext cx="7848360" cy="3166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692360" y="1943280"/>
            <a:ext cx="5688000" cy="37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364-D1A5-44A4-9A5D-EB02F9BA2AA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legfontosabb Windows alkalmazáso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84000" y="2133360"/>
            <a:ext cx="7848360" cy="3166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42800" y="1928880"/>
            <a:ext cx="8258400" cy="30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EEF-C2CB-430C-AFC3-1169EB5D3C20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 Windows legfontosabb fájltípusa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AVI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udio Video Interleave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ideofil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BMP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itMaP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a Windows alap grafikus fájltíp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CHK - a ScanDisk készíti lemezterület-felszabadításk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DLL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Dinamic Link Librar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Pascal unithoz hasonl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DOC - WordPad vagy Word formázott dokument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EXE, .HLP, .INI - alkalmazásokhoz tartoz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FON, .FOT, .TTF - betűkészletek (fonto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LNK - link fájl, Windows alkalmazás programindító parancsikonja (shortcut), kb. 300 bájt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MID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usical Instrument Digital Interfac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szintetizátor ze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PIF - "nem-Windows alkalmazás" (DOS program) parancsikonja, a DOS környezet beállításait is tartalmazz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PRN - nyomtatófájl (utána copy fájlnév.prn lpt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.RTF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Rich Text Forma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formázott szövegfájl, nem tartalmazhat makróvírust!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SCR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SCReen Sav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képernyokímélo programo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WAV - hangfáj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WMF -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Windows MetaFáj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ektorgrafikus raj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95A-4CC3-4947-9E1D-B9CB855A3D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formációcsere alkalmazások közöt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1. Másol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formáció a forrástól függetlenné válik, beépül a fogadó alkalmazásba, utólag nem módosítható (legfeljebb átméretezhető, vagy törölhető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2. Beágya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t a másolás, csak utólag szerkeszthet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3. Csatol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ai kapcsolat egy fájllal, az aktuális tartalma jelenik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4. Csom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WordPad-ben, vagy a Wordben egérrel aktiválható: alkalmazás indítása vagy batch fájl futtatá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B03-A246-4411-9CC1-CD42C6371B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00"/>
                </a:solidFill>
                <a:latin typeface="Arial"/>
              </a:rPr>
              <a:t>Segédprogramok (utility)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. OS keret- (shell-) programok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S kezelésének könnyítése (menük, ikonok) OS "kiegészítése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l.:Total-, Midnight-Commander, st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. Vírusirtók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rtőzés felderítése, megszüntetése, megelőzé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l.: Antivir, VirusBuster, st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3. Tömörítő (archiváló) programok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mörítés ("becsomagolás") (10-90%) helyreállítás ("kicsomagolás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l.: ZIP, ARJ, RAR, st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4. Konverziós programok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övegformátumok között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(pl. txt-doc, html-doc, stb.);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rafikus formátumok között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(pl. bmp-gif-jpg, stb.); st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5. Egyéb programok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szt-programok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(pl. hardver, sebesség, stb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ódoló-dekodoló programok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(pl. adatátvitelhez, stb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övegszerkesztő”, lemez-matató, kommunikációs programok st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5661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EC4-4DE2-4612-9CC5-E6B62CB660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z operációs rendszer fogalma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Erőforrás szemlél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olyamatok egy olyan csoportja, amely a felhasználói folyamatok közöt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osztja az erőforrások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Felhasználói szemlél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olyamatok egy olyan csoportja, amely megkíméli a felhasználókat 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rdver kezelés nehézségeitő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llemesebb alkalmazó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rnyezet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biztosí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Erőforrá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, ami egy folyamat végrehajtásához szükséges (memória, processzor, perifériák, állományok, stb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Folya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grehajtás alatt álló program (tas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EA2-A54C-4C9B-A59C-BA6CC2460C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iről lesz szó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1841400"/>
            <a:ext cx="7061040" cy="127008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9640" y="3137040"/>
            <a:ext cx="7061040" cy="126972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áció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s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79640" y="4432320"/>
            <a:ext cx="7061040" cy="127008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1916280"/>
            <a:ext cx="1359000" cy="3568680"/>
          </a:xfrm>
          <a:custGeom>
            <a:avLst/>
            <a:gdLst>
              <a:gd name="textAreaLeft" fmla="*/ 49680 w 1359000"/>
              <a:gd name="textAreaRight" fmla="*/ 1309320 w 1359000"/>
              <a:gd name="textAreaTop" fmla="*/ 49680 h 3568680"/>
              <a:gd name="textAreaBottom" fmla="*/ 3519000 h 3568680"/>
            </a:gdLst>
            <a:ahLst/>
            <a:rect l="textAreaLeft" t="textAreaTop" r="textAreaRight" b="textAreaBottom"/>
            <a:pathLst>
              <a:path w="21600" h="56711">
                <a:moveTo>
                  <a:pt x="2697" y="0"/>
                </a:moveTo>
                <a:arcTo wR="2697" hR="2697" stAng="16200000" swAng="-5400000"/>
                <a:lnTo>
                  <a:pt x="0" y="54014"/>
                </a:lnTo>
                <a:arcTo wR="2697" hR="2697" stAng="10800000" swAng="-5400000"/>
                <a:lnTo>
                  <a:pt x="18903" y="56711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álóz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zel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oft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32360" y="3213000"/>
            <a:ext cx="1511280" cy="1054080"/>
          </a:xfrm>
          <a:prstGeom prst="roundRect">
            <a:avLst>
              <a:gd name="adj" fmla="val 12486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Állomán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ze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989000"/>
            <a:ext cx="1511280" cy="2273400"/>
          </a:xfrm>
          <a:custGeom>
            <a:avLst/>
            <a:gdLst>
              <a:gd name="textAreaLeft" fmla="*/ 55080 w 1511280"/>
              <a:gd name="textAreaRight" fmla="*/ 1456200 w 1511280"/>
              <a:gd name="textAreaTop" fmla="*/ 55080 h 2273400"/>
              <a:gd name="textAreaBottom" fmla="*/ 2218320 h 2273400"/>
            </a:gdLst>
            <a:ahLst/>
            <a:rect l="textAreaLeft" t="textAreaTop" r="textAreaRight" b="textAreaBottom"/>
            <a:pathLst>
              <a:path w="21600" h="32490">
                <a:moveTo>
                  <a:pt x="2697" y="0"/>
                </a:moveTo>
                <a:arcTo wR="2697" hR="2697" stAng="16200000" swAng="-5400000"/>
                <a:lnTo>
                  <a:pt x="0" y="29793"/>
                </a:lnTo>
                <a:arcTo wR="2697" hR="2697" stAng="10800000" swAng="-5400000"/>
                <a:lnTo>
                  <a:pt x="18903" y="32490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áció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ds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ü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73D-AB15-498A-ADF0-2BFD586D0C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Összefoglalva: az operációs rendszer…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39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fela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rdverkezelés egyszerűsít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őforrások elosz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Arial"/>
              </a:rPr>
              <a:t>Többfeladatos környezetben áthatolhatat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használói adminisztráci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azonosítás, naplózás, véde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Virtuális gép koncepció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észleges vagy teljes hardver független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3300"/>
                </a:solidFill>
                <a:latin typeface="Arial"/>
              </a:rPr>
              <a:t>Leggyakoribb képviselői (IBM PC-ken)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OS, Windows, Linux, NetWare, 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451640" y="551664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5516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56E-D87C-48C2-AA9B-F3956A3773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. Az operációs rendszer fő részei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437000"/>
            <a:ext cx="7061040" cy="127008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846440"/>
            <a:ext cx="7061040" cy="126972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használó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95920" y="1839960"/>
            <a:ext cx="1587600" cy="1282680"/>
          </a:xfrm>
          <a:prstGeom prst="roundRect">
            <a:avLst>
              <a:gd name="adj" fmla="val 12486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35600" y="1936800"/>
            <a:ext cx="13082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H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3141720"/>
            <a:ext cx="7061040" cy="1270080"/>
          </a:xfrm>
          <a:prstGeom prst="roundRect">
            <a:avLst>
              <a:gd name="adj" fmla="val 12486"/>
            </a:avLst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DSZERM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ER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rációs rendszer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D09-40D1-42BE-AC04-59EEEAE8FE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BZ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0:51:06Z</dcterms:created>
  <dc:creator>Csánky Lajos</dc:creator>
  <dc:description/>
  <dc:language>en-US</dc:language>
  <cp:lastModifiedBy>LKG</cp:lastModifiedBy>
  <cp:lastPrinted>1999-09-16T07:33:43Z</cp:lastPrinted>
  <dcterms:modified xsi:type="dcterms:W3CDTF">2005-04-03T09:20:33Z</dcterms:modified>
  <cp:revision>26319</cp:revision>
  <dc:subject/>
  <dc:title>Bevezetés V. fejezet</dc:title>
</cp:coreProperties>
</file>