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83.jpeg" ContentType="image/jpeg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86.png" ContentType="image/png"/>
  <Override PartName="/ppt/media/image42.wmf" ContentType="image/x-wmf"/>
  <Override PartName="/ppt/media/image82.jpeg" ContentType="image/jpeg"/>
  <Override PartName="/ppt/media/image85.png" ContentType="image/png"/>
  <Override PartName="/ppt/media/image41.wmf" ContentType="image/x-wmf"/>
  <Override PartName="/ppt/media/image84.png" ContentType="image/png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.wmf" ContentType="image/x-wmf"/>
  <Override PartName="/ppt/media/image19.wmf" ContentType="image/x-wmf"/>
  <Override PartName="/ppt/media/image6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64.wmf" ContentType="image/x-wmf"/>
  <Override PartName="/ppt/media/image81.png" ContentType="image/png"/>
  <Override PartName="/ppt/media/image79.wmf" ContentType="image/x-wmf"/>
  <Override PartName="/ppt/media/image63.wmf" ContentType="image/x-wmf"/>
  <Override PartName="/ppt/media/image80.png" ContentType="image/png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9F4F-3FB4-415C-8153-1E389530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A506-40D2-4A42-970E-C2CCA717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5ADC-4D4D-4316-BE48-972E6FF3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9C76-A7FF-4F93-9531-B958AC9C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48CE-4583-475E-9AC2-D027E212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54ED-6001-4459-A2DC-72ABBA50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B241-3023-4165-8EAD-B897479E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72D7-3698-4E9C-9A39-40E437F2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C9F9-1F6D-4C18-A6B3-07C131FA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C2FB-6552-4E1C-B718-81FB0882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4CB7-8607-4D9B-9D71-27943EE4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BC31-2529-41C6-AF1D-2E8F491F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2D75-13F8-4A98-8BA1-25655C198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8C66-5B7D-4D0A-8A0D-399F3987DB6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0.wmf"/><Relationship Id="rId2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0.wmf"/><Relationship Id="rId2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9.wmf"/><Relationship Id="rId2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8.wmf"/><Relationship Id="rId2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6.wmf"/><Relationship Id="rId1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9.wmf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álózatok, vírusok, …</a:t>
            </a:r>
            <a:endParaRPr b="0" lang="en-US" sz="4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afd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Lokális hálózatok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Vírusok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Jog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A9C0-5FB9-40A2-A3A4-03934F35FB4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764B71-DF45-4537-B6A4-1E67182A53CB}" type="datetime1">
              <a:rPr lang="en-US"/>
              <a:t>07/29/26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65040" y="1279440"/>
            <a:ext cx="855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04880" y="2914560"/>
          <a:ext cx="64116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914560"/>
                    <a:ext cx="641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41360" y="193680"/>
            <a:ext cx="53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280" y="844560"/>
            <a:ext cx="1169280" cy="389520"/>
            <a:chOff x="44280" y="844560"/>
            <a:chExt cx="1169280" cy="389520"/>
          </a:xfrm>
        </p:grpSpPr>
        <p:sp>
          <p:nvSpPr>
            <p:cNvPr id="160" name=""/>
            <p:cNvSpPr/>
            <p:nvPr/>
          </p:nvSpPr>
          <p:spPr>
            <a:xfrm>
              <a:off x="44280" y="844560"/>
              <a:ext cx="1130400" cy="368280"/>
            </a:xfrm>
            <a:prstGeom prst="cube">
              <a:avLst>
                <a:gd name="adj" fmla="val 24986"/>
              </a:avLst>
            </a:prstGeom>
            <a:solidFill>
              <a:srgbClr val="fc0128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5680" y="901800"/>
              <a:ext cx="94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Hard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85120" y="689040"/>
            <a:ext cx="322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hálózati topoló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200" y="1440000"/>
            <a:ext cx="891540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második fő topológia-típus a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ín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” vagy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z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” elrendezés. Egyetlen gerinc-vonalat (pl. koaxiális kábelt) tartalmaz, amelyre rácsatlakoznak a végberendezések (pl. a számítógépek, nyomtatók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33560" y="2933640"/>
          <a:ext cx="641520" cy="57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3560" y="2933640"/>
                    <a:ext cx="64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019320" y="2943360"/>
          <a:ext cx="641520" cy="57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19320" y="2943360"/>
                    <a:ext cx="64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238400" y="4324320"/>
          <a:ext cx="641160" cy="574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38400" y="4324320"/>
                    <a:ext cx="641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448000" y="4305240"/>
          <a:ext cx="641160" cy="574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48000" y="4305240"/>
                    <a:ext cx="641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610080" y="4276800"/>
          <a:ext cx="641160" cy="574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10080" y="4276800"/>
                    <a:ext cx="641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33880" y="2952720"/>
          <a:ext cx="641160" cy="574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33880" y="2952720"/>
                    <a:ext cx="641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49440" y="3905280"/>
            <a:ext cx="4379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92560" y="3740040"/>
            <a:ext cx="216000" cy="292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0120" y="3759120"/>
            <a:ext cx="216000" cy="292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3500280"/>
            <a:ext cx="0" cy="33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62040" y="3957480"/>
            <a:ext cx="0" cy="33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62280" y="3948120"/>
            <a:ext cx="0" cy="334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948120"/>
            <a:ext cx="0" cy="334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47840" y="3519360"/>
            <a:ext cx="0" cy="33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33600" y="3519360"/>
            <a:ext cx="0" cy="33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57880" y="3519360"/>
            <a:ext cx="0" cy="335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37080" y="3687840"/>
            <a:ext cx="3699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7fff00"/>
                </a:solidFill>
                <a:uFillTx/>
                <a:latin typeface="Times New Roman"/>
              </a:rPr>
              <a:t>Előny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fff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a legkevesebb kábel kell hozz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32520" y="4964040"/>
            <a:ext cx="4010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fe9b03"/>
                </a:solidFill>
                <a:uFillTx/>
                <a:latin typeface="Times New Roman"/>
              </a:rPr>
              <a:t>Hátrány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e9b0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e9b03"/>
                </a:solidFill>
                <a:latin typeface="Times New Roman"/>
              </a:rPr>
              <a:t>a vonal meghibásodása esetén teljes üzemképtelen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000" y="5878440"/>
            <a:ext cx="4842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kábelek végén lezáró ellenállások vannak, amelyek meggátolják a jelek visszaverődésé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C353-924C-415A-969C-698A420342E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D2C9D3-5ED5-4B00-954A-4693AD99C773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4280" y="844560"/>
            <a:ext cx="1169280" cy="389520"/>
            <a:chOff x="44280" y="844560"/>
            <a:chExt cx="1169280" cy="389520"/>
          </a:xfrm>
        </p:grpSpPr>
        <p:sp>
          <p:nvSpPr>
            <p:cNvPr id="194" name=""/>
            <p:cNvSpPr/>
            <p:nvPr/>
          </p:nvSpPr>
          <p:spPr>
            <a:xfrm>
              <a:off x="44280" y="844560"/>
              <a:ext cx="1130400" cy="368280"/>
            </a:xfrm>
            <a:prstGeom prst="cube">
              <a:avLst>
                <a:gd name="adj" fmla="val 24986"/>
              </a:avLst>
            </a:prstGeom>
            <a:solidFill>
              <a:srgbClr val="fc0128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5680" y="901800"/>
              <a:ext cx="94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Hard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885120" y="689040"/>
            <a:ext cx="322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hálózati topoló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79640" y="4013280"/>
            <a:ext cx="3936960" cy="19746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781360" y="5410080"/>
          <a:ext cx="641160" cy="57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1360" y="5410080"/>
                    <a:ext cx="641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314360" y="4915080"/>
          <a:ext cx="641520" cy="57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14360" y="4915080"/>
                    <a:ext cx="64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743040" y="3905280"/>
          <a:ext cx="641160" cy="57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3040" y="3905280"/>
                    <a:ext cx="641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438800" y="3733920"/>
          <a:ext cx="641160" cy="574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38800" y="3733920"/>
                    <a:ext cx="641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172040" y="4933800"/>
          <a:ext cx="641160" cy="57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72040" y="4933800"/>
                    <a:ext cx="641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82520" y="1763640"/>
            <a:ext cx="885816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topológiák harmadik fő típusa a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yűrű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”. Az adathordozó közeget végtelenítve a jelek mindkét irányban elindulnak, és általában a rövidebb úton végül megérkeznek. Ez magyarázza a gyorsaságá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07080" y="3668760"/>
            <a:ext cx="2362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Előny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fff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gy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9840" y="4583160"/>
            <a:ext cx="2598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e9b03"/>
                </a:solidFill>
                <a:latin typeface="Times New Roman"/>
              </a:rPr>
              <a:t>Hátrány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e9b0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e9b03"/>
                </a:solidFill>
                <a:latin typeface="Times New Roman"/>
              </a:rPr>
              <a:t>sok kábel, drága megvalósít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0765-1566-43C2-85A4-9BFBBC6634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A73EF4-D4C3-4699-8EE2-162DD7B47AB2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708360" y="3568680"/>
            <a:ext cx="216000" cy="17784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4280" y="844560"/>
            <a:ext cx="1169280" cy="389520"/>
            <a:chOff x="44280" y="844560"/>
            <a:chExt cx="1169280" cy="389520"/>
          </a:xfrm>
        </p:grpSpPr>
        <p:sp>
          <p:nvSpPr>
            <p:cNvPr id="217" name=""/>
            <p:cNvSpPr/>
            <p:nvPr/>
          </p:nvSpPr>
          <p:spPr>
            <a:xfrm>
              <a:off x="44280" y="844560"/>
              <a:ext cx="1130400" cy="368280"/>
            </a:xfrm>
            <a:prstGeom prst="cube">
              <a:avLst>
                <a:gd name="adj" fmla="val 24986"/>
              </a:avLst>
            </a:prstGeom>
            <a:solidFill>
              <a:srgbClr val="fc0128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5680" y="901800"/>
              <a:ext cx="94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Hard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885120" y="689040"/>
            <a:ext cx="322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hálózati topoló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3320" y="5154480"/>
            <a:ext cx="8956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fafd00"/>
                </a:solidFill>
                <a:latin typeface="Times New Roman"/>
              </a:rPr>
              <a:t>Összefoglalva: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ármelyik módon is kapcsoljuk össze a hálózat elemeit, köztük 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állandó elektromos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(“galvanikus”)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Times New Roman"/>
              </a:rPr>
              <a:t> kapcsolat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áll fent. Az egyik gépből kibocsátott jel így az összes többin is megjelen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11160" y="1420920"/>
            <a:ext cx="89949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Vegyes topológiák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különböző topológiájú hálózatokat gyakran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összekapcsoljá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gymással, hogy kihasználják az egyes típusok előnyeit. Így az alábbi ábrán egy sín és egy gyűrű hálózat kapcsolatát láthatj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3440" y="2960640"/>
            <a:ext cx="2192400" cy="1370160"/>
          </a:xfrm>
          <a:prstGeom prst="ellipse">
            <a:avLst/>
          </a:prstGeom>
          <a:noFill/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549520" y="3932280"/>
          <a:ext cx="36504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9520" y="3932280"/>
                    <a:ext cx="3650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728720" y="3586320"/>
          <a:ext cx="365040" cy="40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28720" y="3586320"/>
                    <a:ext cx="3650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409760" y="2881440"/>
          <a:ext cx="365040" cy="40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9760" y="2881440"/>
                    <a:ext cx="3650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476520" y="2762280"/>
          <a:ext cx="365400" cy="40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76520" y="2762280"/>
                    <a:ext cx="3654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3327480" y="3598920"/>
          <a:ext cx="365040" cy="404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27480" y="3598920"/>
                    <a:ext cx="3650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361040" y="2793960"/>
          <a:ext cx="3119400" cy="1677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61040" y="2793960"/>
                    <a:ext cx="31194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 flipH="1">
            <a:off x="3780000" y="3683160"/>
            <a:ext cx="855360" cy="0"/>
          </a:xfrm>
          <a:prstGeom prst="line">
            <a:avLst/>
          </a:prstGeom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66CA-F506-4206-A637-3FAFC337329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74F0F2-6BFF-459C-A82F-DF8119F3536C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4280" y="844560"/>
            <a:ext cx="1265760" cy="389520"/>
            <a:chOff x="44280" y="844560"/>
            <a:chExt cx="1265760" cy="389520"/>
          </a:xfrm>
        </p:grpSpPr>
        <p:sp>
          <p:nvSpPr>
            <p:cNvPr id="241" name=""/>
            <p:cNvSpPr/>
            <p:nvPr/>
          </p:nvSpPr>
          <p:spPr>
            <a:xfrm>
              <a:off x="44280" y="844560"/>
              <a:ext cx="1130400" cy="368280"/>
            </a:xfrm>
            <a:prstGeom prst="cube">
              <a:avLst>
                <a:gd name="adj" fmla="val 24986"/>
              </a:avLst>
            </a:prstGeom>
            <a:solidFill>
              <a:srgbClr val="fc0128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8320" y="901800"/>
              <a:ext cx="98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zoft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-11160" y="689040"/>
            <a:ext cx="9153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hálózati protok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11160" y="1515960"/>
            <a:ext cx="912816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“</a:t>
            </a:r>
            <a:r>
              <a:rPr b="1" lang="hu-HU" sz="2400" spc="-1" strike="noStrike">
                <a:solidFill>
                  <a:srgbClr val="fafd00"/>
                </a:solidFill>
                <a:latin typeface="Times New Roman"/>
              </a:rPr>
              <a:t>protokoll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” a hálózatok esetében az együttműködő hálózati egységek közötti kommunikáció szabályait rögzítő egyezmé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00dfca"/>
                </a:solidFill>
                <a:latin typeface="Times New Roman"/>
              </a:rPr>
              <a:t>Enélkül az egyes számítógépek által kibocsátott adatokat a másik gép nem ismerné f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160" y="4811760"/>
            <a:ext cx="91314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lokális hálózatokban használt protokollok sok “</a:t>
            </a:r>
            <a:r>
              <a:rPr b="1" lang="hu-HU" sz="2400" spc="-1" strike="noStrike">
                <a:solidFill>
                  <a:srgbClr val="fafd00"/>
                </a:solidFill>
                <a:latin typeface="Times New Roman"/>
              </a:rPr>
              <a:t>réteget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” tartalmazn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00dfca"/>
                </a:solidFill>
                <a:latin typeface="Times New Roman"/>
              </a:rPr>
              <a:t>Az egyik például azt a startégiát írja le, hogy ki mikor juthat “szóhóz”, egy másik a küldött adatok “csomagolását” írja le, és a hibák kezelésével, a különböző technikai eszközök elektromos jellemzőivel is a protokollok előírásait kell követ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12640" y="2658960"/>
          <a:ext cx="3498840" cy="209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2640" y="2658960"/>
                    <a:ext cx="3498840" cy="20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 rot="1680000">
            <a:off x="2109240" y="3083040"/>
            <a:ext cx="135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45000" y="2906640"/>
            <a:ext cx="44956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7fff00"/>
                </a:solidFill>
                <a:latin typeface="Times New Roman"/>
              </a:rPr>
              <a:t>A protokollok rögzítése nemzetközi szervezetek (pl. ISO) dolga. Sokszor azonban egyes gyártók saját “szabványt” alkotnak, majd ezt próbálják másokra erőltete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E26F-674B-4C0D-A5A0-25B28ECCC62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FB8E94-3EEE-4464-996E-4147BC0B3506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3120" y="1055520"/>
            <a:ext cx="8712360" cy="93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24000" y="2128680"/>
            <a:ext cx="211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z OSI mod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6629400"/>
            <a:ext cx="8227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06560" y="5985000"/>
            <a:ext cx="4187880" cy="301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izikai sz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6560" y="5222880"/>
            <a:ext cx="4187880" cy="301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6560" y="4842000"/>
            <a:ext cx="4187880" cy="301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Átviteli sz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6560" y="4460760"/>
            <a:ext cx="4187880" cy="301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Times New Roman"/>
              </a:rPr>
              <a:t>Szessziós sz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6560" y="4079880"/>
            <a:ext cx="4187880" cy="301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Times New Roman"/>
              </a:rPr>
              <a:t>Prezentációs sz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6560" y="3699000"/>
            <a:ext cx="4187880" cy="301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Alkalmazási sz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06560" y="5603760"/>
            <a:ext cx="4187880" cy="301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Adatkapcsolati sz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0080" y="5253120"/>
            <a:ext cx="420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álózati sz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7320" y="6254640"/>
            <a:ext cx="57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káb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6338880"/>
            <a:ext cx="0" cy="277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33720" y="2554200"/>
            <a:ext cx="5411520" cy="1220760"/>
            <a:chOff x="2133720" y="2554200"/>
            <a:chExt cx="5411520" cy="1220760"/>
          </a:xfrm>
        </p:grpSpPr>
        <p:sp>
          <p:nvSpPr>
            <p:cNvPr id="264" name=""/>
            <p:cNvSpPr/>
            <p:nvPr/>
          </p:nvSpPr>
          <p:spPr>
            <a:xfrm>
              <a:off x="2133720" y="2554200"/>
              <a:ext cx="5411520" cy="1220760"/>
            </a:xfrm>
            <a:custGeom>
              <a:avLst/>
              <a:gdLst/>
              <a:ahLst/>
              <a:rect l="l" t="t" r="r" b="b"/>
              <a:pathLst>
                <a:path w="3409" h="769">
                  <a:moveTo>
                    <a:pt x="1808" y="154"/>
                  </a:moveTo>
                  <a:lnTo>
                    <a:pt x="1534" y="67"/>
                  </a:lnTo>
                  <a:lnTo>
                    <a:pt x="1349" y="227"/>
                  </a:lnTo>
                  <a:lnTo>
                    <a:pt x="710" y="129"/>
                  </a:lnTo>
                  <a:lnTo>
                    <a:pt x="848" y="278"/>
                  </a:lnTo>
                  <a:lnTo>
                    <a:pt x="185" y="294"/>
                  </a:lnTo>
                  <a:lnTo>
                    <a:pt x="621" y="412"/>
                  </a:lnTo>
                  <a:lnTo>
                    <a:pt x="0" y="458"/>
                  </a:lnTo>
                  <a:lnTo>
                    <a:pt x="525" y="546"/>
                  </a:lnTo>
                  <a:lnTo>
                    <a:pt x="203" y="634"/>
                  </a:lnTo>
                  <a:lnTo>
                    <a:pt x="758" y="649"/>
                  </a:lnTo>
                  <a:lnTo>
                    <a:pt x="776" y="768"/>
                  </a:lnTo>
                  <a:lnTo>
                    <a:pt x="1188" y="644"/>
                  </a:lnTo>
                  <a:lnTo>
                    <a:pt x="1373" y="701"/>
                  </a:lnTo>
                  <a:lnTo>
                    <a:pt x="1558" y="618"/>
                  </a:lnTo>
                  <a:lnTo>
                    <a:pt x="1832" y="670"/>
                  </a:lnTo>
                  <a:lnTo>
                    <a:pt x="1922" y="567"/>
                  </a:lnTo>
                  <a:lnTo>
                    <a:pt x="2358" y="618"/>
                  </a:lnTo>
                  <a:lnTo>
                    <a:pt x="2310" y="510"/>
                  </a:lnTo>
                  <a:lnTo>
                    <a:pt x="2978" y="556"/>
                  </a:lnTo>
                  <a:lnTo>
                    <a:pt x="2584" y="438"/>
                  </a:lnTo>
                  <a:lnTo>
                    <a:pt x="2883" y="401"/>
                  </a:lnTo>
                  <a:lnTo>
                    <a:pt x="2680" y="334"/>
                  </a:lnTo>
                  <a:lnTo>
                    <a:pt x="3408" y="236"/>
                  </a:lnTo>
                  <a:lnTo>
                    <a:pt x="2584" y="232"/>
                  </a:lnTo>
                  <a:lnTo>
                    <a:pt x="2841" y="113"/>
                  </a:lnTo>
                  <a:lnTo>
                    <a:pt x="2292" y="205"/>
                  </a:lnTo>
                  <a:lnTo>
                    <a:pt x="2334" y="0"/>
                  </a:lnTo>
                  <a:lnTo>
                    <a:pt x="1808" y="154"/>
                  </a:lnTo>
                </a:path>
              </a:pathLst>
            </a:custGeom>
            <a:solidFill>
              <a:srgbClr val="618f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29080" y="2936880"/>
              <a:ext cx="22366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LKALMAZÓI PROGRAMO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80880" y="1295280"/>
            <a:ext cx="855036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Az ISO egy hétrétegű kommunikációs referenciamodellt javasolt az akár különböző protokollszabványú számítógépek összekapcsolási szabványá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612B-9D6C-4F9A-BF92-B0C5EDF7E84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0F4958-C187-41B7-9A55-771122413159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5440" y="2590920"/>
            <a:ext cx="8228160" cy="4076640"/>
            <a:chOff x="55440" y="2590920"/>
            <a:chExt cx="8228160" cy="4076640"/>
          </a:xfrm>
        </p:grpSpPr>
        <p:sp>
          <p:nvSpPr>
            <p:cNvPr id="274" name=""/>
            <p:cNvSpPr/>
            <p:nvPr/>
          </p:nvSpPr>
          <p:spPr>
            <a:xfrm>
              <a:off x="55440" y="6665760"/>
              <a:ext cx="8228160" cy="1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41520" y="6021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Fizika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41520" y="5259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41520" y="4878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66"/>
                  </a:solidFill>
                  <a:latin typeface="Times New Roman"/>
                </a:rPr>
                <a:t>Átvitel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1520" y="4497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18ffd"/>
                  </a:solidFill>
                  <a:latin typeface="Times New Roman"/>
                </a:rPr>
                <a:t>Szessz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1520" y="4116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imes New Roman"/>
                </a:rPr>
                <a:t>Prezentác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41520" y="3735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Alkalmazás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41520" y="5640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Adatkapcsol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35040" y="5289480"/>
              <a:ext cx="420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Hálóz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2280" y="6291360"/>
              <a:ext cx="57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Times New Roman"/>
                </a:rPr>
                <a:t>ká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44840" y="6375240"/>
              <a:ext cx="1800" cy="277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1768320" y="2590920"/>
              <a:ext cx="5411880" cy="1220760"/>
              <a:chOff x="1768320" y="2590920"/>
              <a:chExt cx="5411880" cy="1220760"/>
            </a:xfrm>
          </p:grpSpPr>
          <p:sp>
            <p:nvSpPr>
              <p:cNvPr id="286" name=""/>
              <p:cNvSpPr/>
              <p:nvPr/>
            </p:nvSpPr>
            <p:spPr>
              <a:xfrm>
                <a:off x="1768320" y="2590920"/>
                <a:ext cx="5411880" cy="1220760"/>
              </a:xfrm>
              <a:custGeom>
                <a:avLst/>
                <a:gdLst/>
                <a:ahLst/>
                <a:rect l="l" t="t" r="r" b="b"/>
                <a:pathLst>
                  <a:path w="3409" h="769">
                    <a:moveTo>
                      <a:pt x="1808" y="154"/>
                    </a:moveTo>
                    <a:lnTo>
                      <a:pt x="1534" y="67"/>
                    </a:lnTo>
                    <a:lnTo>
                      <a:pt x="1349" y="227"/>
                    </a:lnTo>
                    <a:lnTo>
                      <a:pt x="710" y="129"/>
                    </a:lnTo>
                    <a:lnTo>
                      <a:pt x="848" y="278"/>
                    </a:lnTo>
                    <a:lnTo>
                      <a:pt x="185" y="294"/>
                    </a:lnTo>
                    <a:lnTo>
                      <a:pt x="621" y="412"/>
                    </a:lnTo>
                    <a:lnTo>
                      <a:pt x="0" y="458"/>
                    </a:lnTo>
                    <a:lnTo>
                      <a:pt x="525" y="546"/>
                    </a:lnTo>
                    <a:lnTo>
                      <a:pt x="203" y="634"/>
                    </a:lnTo>
                    <a:lnTo>
                      <a:pt x="758" y="649"/>
                    </a:lnTo>
                    <a:lnTo>
                      <a:pt x="776" y="768"/>
                    </a:lnTo>
                    <a:lnTo>
                      <a:pt x="1188" y="644"/>
                    </a:lnTo>
                    <a:lnTo>
                      <a:pt x="1373" y="701"/>
                    </a:lnTo>
                    <a:lnTo>
                      <a:pt x="1558" y="618"/>
                    </a:lnTo>
                    <a:lnTo>
                      <a:pt x="1832" y="670"/>
                    </a:lnTo>
                    <a:lnTo>
                      <a:pt x="1922" y="567"/>
                    </a:lnTo>
                    <a:lnTo>
                      <a:pt x="2358" y="618"/>
                    </a:lnTo>
                    <a:lnTo>
                      <a:pt x="2310" y="510"/>
                    </a:lnTo>
                    <a:lnTo>
                      <a:pt x="2978" y="556"/>
                    </a:lnTo>
                    <a:lnTo>
                      <a:pt x="2584" y="438"/>
                    </a:lnTo>
                    <a:lnTo>
                      <a:pt x="2883" y="401"/>
                    </a:lnTo>
                    <a:lnTo>
                      <a:pt x="2680" y="334"/>
                    </a:lnTo>
                    <a:lnTo>
                      <a:pt x="3408" y="236"/>
                    </a:lnTo>
                    <a:lnTo>
                      <a:pt x="2584" y="232"/>
                    </a:lnTo>
                    <a:lnTo>
                      <a:pt x="2841" y="113"/>
                    </a:lnTo>
                    <a:lnTo>
                      <a:pt x="2292" y="205"/>
                    </a:lnTo>
                    <a:lnTo>
                      <a:pt x="2334" y="0"/>
                    </a:lnTo>
                    <a:lnTo>
                      <a:pt x="1808" y="154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64040" y="2973240"/>
                <a:ext cx="223668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MAZÓI PROGRAMO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380880" y="990720"/>
            <a:ext cx="8550360" cy="6375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Fizikai szint: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fizikai összeköttetések létrehozását, fenntartását és megszüntetését szabályozó mechanikus, elektromos műveleti jellemzők szabványa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780160" y="1690560"/>
            <a:ext cx="2386080" cy="43927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FC66-B1D1-428C-B27B-31F277CB3A2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C90B8C-5AE0-485F-8F0E-035D4E122D0F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5440" y="2590920"/>
            <a:ext cx="8228160" cy="4076640"/>
            <a:chOff x="55440" y="2590920"/>
            <a:chExt cx="8228160" cy="4076640"/>
          </a:xfrm>
        </p:grpSpPr>
        <p:sp>
          <p:nvSpPr>
            <p:cNvPr id="294" name=""/>
            <p:cNvSpPr/>
            <p:nvPr/>
          </p:nvSpPr>
          <p:spPr>
            <a:xfrm>
              <a:off x="55440" y="6665760"/>
              <a:ext cx="8228160" cy="1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41520" y="6021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Fizika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41520" y="5259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41520" y="4878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66"/>
                  </a:solidFill>
                  <a:latin typeface="Times New Roman"/>
                </a:rPr>
                <a:t>Átvitel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41520" y="4497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18ffd"/>
                  </a:solidFill>
                  <a:latin typeface="Times New Roman"/>
                </a:rPr>
                <a:t>Szessz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41520" y="4116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imes New Roman"/>
                </a:rPr>
                <a:t>Prezentác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41520" y="3735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Alkalmazás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41520" y="5640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Adatkapcsol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35040" y="5289480"/>
              <a:ext cx="420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Hálóz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2280" y="6291360"/>
              <a:ext cx="57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Times New Roman"/>
                </a:rPr>
                <a:t>ká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44840" y="6375240"/>
              <a:ext cx="1800" cy="277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1768320" y="2590920"/>
              <a:ext cx="5411880" cy="1220760"/>
              <a:chOff x="1768320" y="2590920"/>
              <a:chExt cx="5411880" cy="1220760"/>
            </a:xfrm>
          </p:grpSpPr>
          <p:sp>
            <p:nvSpPr>
              <p:cNvPr id="306" name=""/>
              <p:cNvSpPr/>
              <p:nvPr/>
            </p:nvSpPr>
            <p:spPr>
              <a:xfrm>
                <a:off x="1768320" y="2590920"/>
                <a:ext cx="5411880" cy="1220760"/>
              </a:xfrm>
              <a:custGeom>
                <a:avLst/>
                <a:gdLst/>
                <a:ahLst/>
                <a:rect l="l" t="t" r="r" b="b"/>
                <a:pathLst>
                  <a:path w="3409" h="769">
                    <a:moveTo>
                      <a:pt x="1808" y="154"/>
                    </a:moveTo>
                    <a:lnTo>
                      <a:pt x="1534" y="67"/>
                    </a:lnTo>
                    <a:lnTo>
                      <a:pt x="1349" y="227"/>
                    </a:lnTo>
                    <a:lnTo>
                      <a:pt x="710" y="129"/>
                    </a:lnTo>
                    <a:lnTo>
                      <a:pt x="848" y="278"/>
                    </a:lnTo>
                    <a:lnTo>
                      <a:pt x="185" y="294"/>
                    </a:lnTo>
                    <a:lnTo>
                      <a:pt x="621" y="412"/>
                    </a:lnTo>
                    <a:lnTo>
                      <a:pt x="0" y="458"/>
                    </a:lnTo>
                    <a:lnTo>
                      <a:pt x="525" y="546"/>
                    </a:lnTo>
                    <a:lnTo>
                      <a:pt x="203" y="634"/>
                    </a:lnTo>
                    <a:lnTo>
                      <a:pt x="758" y="649"/>
                    </a:lnTo>
                    <a:lnTo>
                      <a:pt x="776" y="768"/>
                    </a:lnTo>
                    <a:lnTo>
                      <a:pt x="1188" y="644"/>
                    </a:lnTo>
                    <a:lnTo>
                      <a:pt x="1373" y="701"/>
                    </a:lnTo>
                    <a:lnTo>
                      <a:pt x="1558" y="618"/>
                    </a:lnTo>
                    <a:lnTo>
                      <a:pt x="1832" y="670"/>
                    </a:lnTo>
                    <a:lnTo>
                      <a:pt x="1922" y="567"/>
                    </a:lnTo>
                    <a:lnTo>
                      <a:pt x="2358" y="618"/>
                    </a:lnTo>
                    <a:lnTo>
                      <a:pt x="2310" y="510"/>
                    </a:lnTo>
                    <a:lnTo>
                      <a:pt x="2978" y="556"/>
                    </a:lnTo>
                    <a:lnTo>
                      <a:pt x="2584" y="438"/>
                    </a:lnTo>
                    <a:lnTo>
                      <a:pt x="2883" y="401"/>
                    </a:lnTo>
                    <a:lnTo>
                      <a:pt x="2680" y="334"/>
                    </a:lnTo>
                    <a:lnTo>
                      <a:pt x="3408" y="236"/>
                    </a:lnTo>
                    <a:lnTo>
                      <a:pt x="2584" y="232"/>
                    </a:lnTo>
                    <a:lnTo>
                      <a:pt x="2841" y="113"/>
                    </a:lnTo>
                    <a:lnTo>
                      <a:pt x="2292" y="205"/>
                    </a:lnTo>
                    <a:lnTo>
                      <a:pt x="2334" y="0"/>
                    </a:lnTo>
                    <a:lnTo>
                      <a:pt x="1808" y="154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164040" y="2973240"/>
                <a:ext cx="223668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MAZÓI PROGRAMO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" name=""/>
          <p:cNvSpPr/>
          <p:nvPr/>
        </p:nvSpPr>
        <p:spPr>
          <a:xfrm>
            <a:off x="380880" y="1066680"/>
            <a:ext cx="8550360" cy="60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Adatkapcsolati szint: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 hálózati egységek közötti adatvonalak létrehozását, fenntartását és megszüntetését szabályozó műveleti jellemzők szabványa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779800" y="1461960"/>
            <a:ext cx="2462040" cy="4316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571D-D0E3-43EA-808F-890F1DFE369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ADD0B9-7289-4479-B57B-843D2EEE472C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1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5440" y="2590920"/>
            <a:ext cx="8228160" cy="4076640"/>
            <a:chOff x="55440" y="2590920"/>
            <a:chExt cx="8228160" cy="4076640"/>
          </a:xfrm>
        </p:grpSpPr>
        <p:sp>
          <p:nvSpPr>
            <p:cNvPr id="314" name=""/>
            <p:cNvSpPr/>
            <p:nvPr/>
          </p:nvSpPr>
          <p:spPr>
            <a:xfrm>
              <a:off x="55440" y="6665760"/>
              <a:ext cx="8228160" cy="1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41520" y="6021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Fizika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41520" y="5259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41520" y="4878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66"/>
                  </a:solidFill>
                  <a:latin typeface="Times New Roman"/>
                </a:rPr>
                <a:t>Átvitel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41520" y="4497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18ffd"/>
                  </a:solidFill>
                  <a:latin typeface="Times New Roman"/>
                </a:rPr>
                <a:t>Szessz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41520" y="4116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imes New Roman"/>
                </a:rPr>
                <a:t>Prezentác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41520" y="3735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Alkalmazás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41520" y="5640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Adatkapcsol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35040" y="5289480"/>
              <a:ext cx="420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Hálóz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2280" y="6291360"/>
              <a:ext cx="57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Times New Roman"/>
                </a:rPr>
                <a:t>ká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44840" y="6375240"/>
              <a:ext cx="1800" cy="277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8320" y="2590920"/>
              <a:ext cx="5411880" cy="1220760"/>
              <a:chOff x="1768320" y="2590920"/>
              <a:chExt cx="5411880" cy="122076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8320" y="2590920"/>
                <a:ext cx="5411880" cy="1220760"/>
              </a:xfrm>
              <a:custGeom>
                <a:avLst/>
                <a:gdLst/>
                <a:ahLst/>
                <a:rect l="l" t="t" r="r" b="b"/>
                <a:pathLst>
                  <a:path w="3409" h="769">
                    <a:moveTo>
                      <a:pt x="1808" y="154"/>
                    </a:moveTo>
                    <a:lnTo>
                      <a:pt x="1534" y="67"/>
                    </a:lnTo>
                    <a:lnTo>
                      <a:pt x="1349" y="227"/>
                    </a:lnTo>
                    <a:lnTo>
                      <a:pt x="710" y="129"/>
                    </a:lnTo>
                    <a:lnTo>
                      <a:pt x="848" y="278"/>
                    </a:lnTo>
                    <a:lnTo>
                      <a:pt x="185" y="294"/>
                    </a:lnTo>
                    <a:lnTo>
                      <a:pt x="621" y="412"/>
                    </a:lnTo>
                    <a:lnTo>
                      <a:pt x="0" y="458"/>
                    </a:lnTo>
                    <a:lnTo>
                      <a:pt x="525" y="546"/>
                    </a:lnTo>
                    <a:lnTo>
                      <a:pt x="203" y="634"/>
                    </a:lnTo>
                    <a:lnTo>
                      <a:pt x="758" y="649"/>
                    </a:lnTo>
                    <a:lnTo>
                      <a:pt x="776" y="768"/>
                    </a:lnTo>
                    <a:lnTo>
                      <a:pt x="1188" y="644"/>
                    </a:lnTo>
                    <a:lnTo>
                      <a:pt x="1373" y="701"/>
                    </a:lnTo>
                    <a:lnTo>
                      <a:pt x="1558" y="618"/>
                    </a:lnTo>
                    <a:lnTo>
                      <a:pt x="1832" y="670"/>
                    </a:lnTo>
                    <a:lnTo>
                      <a:pt x="1922" y="567"/>
                    </a:lnTo>
                    <a:lnTo>
                      <a:pt x="2358" y="618"/>
                    </a:lnTo>
                    <a:lnTo>
                      <a:pt x="2310" y="510"/>
                    </a:lnTo>
                    <a:lnTo>
                      <a:pt x="2978" y="556"/>
                    </a:lnTo>
                    <a:lnTo>
                      <a:pt x="2584" y="438"/>
                    </a:lnTo>
                    <a:lnTo>
                      <a:pt x="2883" y="401"/>
                    </a:lnTo>
                    <a:lnTo>
                      <a:pt x="2680" y="334"/>
                    </a:lnTo>
                    <a:lnTo>
                      <a:pt x="3408" y="236"/>
                    </a:lnTo>
                    <a:lnTo>
                      <a:pt x="2584" y="232"/>
                    </a:lnTo>
                    <a:lnTo>
                      <a:pt x="2841" y="113"/>
                    </a:lnTo>
                    <a:lnTo>
                      <a:pt x="2292" y="205"/>
                    </a:lnTo>
                    <a:lnTo>
                      <a:pt x="2334" y="0"/>
                    </a:lnTo>
                    <a:lnTo>
                      <a:pt x="1808" y="154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64040" y="2973240"/>
                <a:ext cx="223668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MAZÓI PROGRAMO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380880" y="990720"/>
            <a:ext cx="8550360" cy="60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Hálózati szint: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tcsomagok cseréjét segítő (például útvonal-választást szabályozó) műveletek és eszközök működését befolyásoló jellemzők szabványa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779800" y="1461960"/>
            <a:ext cx="2462040" cy="39355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530EA-90D1-4B2D-9E55-69E81569B0A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F27B8D-D6A0-49F6-BA38-62720375F47A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1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5440" y="2590920"/>
            <a:ext cx="8228160" cy="4076640"/>
            <a:chOff x="55440" y="2590920"/>
            <a:chExt cx="8228160" cy="4076640"/>
          </a:xfrm>
        </p:grpSpPr>
        <p:sp>
          <p:nvSpPr>
            <p:cNvPr id="334" name=""/>
            <p:cNvSpPr/>
            <p:nvPr/>
          </p:nvSpPr>
          <p:spPr>
            <a:xfrm>
              <a:off x="55440" y="6665760"/>
              <a:ext cx="8228160" cy="1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41520" y="6021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Fizika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41520" y="5259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41520" y="4878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66"/>
                  </a:solidFill>
                  <a:latin typeface="Times New Roman"/>
                </a:rPr>
                <a:t>Átvitel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41520" y="4497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18ffd"/>
                  </a:solidFill>
                  <a:latin typeface="Times New Roman"/>
                </a:rPr>
                <a:t>Szessz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41520" y="4116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imes New Roman"/>
                </a:rPr>
                <a:t>Prezentác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41520" y="3735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Alkalmazás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41520" y="5640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Adatkapcsol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35040" y="5289480"/>
              <a:ext cx="420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Hálóz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2280" y="6291360"/>
              <a:ext cx="57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Times New Roman"/>
                </a:rPr>
                <a:t>ká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44840" y="6375240"/>
              <a:ext cx="1800" cy="277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1768320" y="2590920"/>
              <a:ext cx="5411880" cy="1220760"/>
              <a:chOff x="1768320" y="2590920"/>
              <a:chExt cx="5411880" cy="1220760"/>
            </a:xfrm>
          </p:grpSpPr>
          <p:sp>
            <p:nvSpPr>
              <p:cNvPr id="346" name=""/>
              <p:cNvSpPr/>
              <p:nvPr/>
            </p:nvSpPr>
            <p:spPr>
              <a:xfrm>
                <a:off x="1768320" y="2590920"/>
                <a:ext cx="5411880" cy="1220760"/>
              </a:xfrm>
              <a:custGeom>
                <a:avLst/>
                <a:gdLst/>
                <a:ahLst/>
                <a:rect l="l" t="t" r="r" b="b"/>
                <a:pathLst>
                  <a:path w="3409" h="769">
                    <a:moveTo>
                      <a:pt x="1808" y="154"/>
                    </a:moveTo>
                    <a:lnTo>
                      <a:pt x="1534" y="67"/>
                    </a:lnTo>
                    <a:lnTo>
                      <a:pt x="1349" y="227"/>
                    </a:lnTo>
                    <a:lnTo>
                      <a:pt x="710" y="129"/>
                    </a:lnTo>
                    <a:lnTo>
                      <a:pt x="848" y="278"/>
                    </a:lnTo>
                    <a:lnTo>
                      <a:pt x="185" y="294"/>
                    </a:lnTo>
                    <a:lnTo>
                      <a:pt x="621" y="412"/>
                    </a:lnTo>
                    <a:lnTo>
                      <a:pt x="0" y="458"/>
                    </a:lnTo>
                    <a:lnTo>
                      <a:pt x="525" y="546"/>
                    </a:lnTo>
                    <a:lnTo>
                      <a:pt x="203" y="634"/>
                    </a:lnTo>
                    <a:lnTo>
                      <a:pt x="758" y="649"/>
                    </a:lnTo>
                    <a:lnTo>
                      <a:pt x="776" y="768"/>
                    </a:lnTo>
                    <a:lnTo>
                      <a:pt x="1188" y="644"/>
                    </a:lnTo>
                    <a:lnTo>
                      <a:pt x="1373" y="701"/>
                    </a:lnTo>
                    <a:lnTo>
                      <a:pt x="1558" y="618"/>
                    </a:lnTo>
                    <a:lnTo>
                      <a:pt x="1832" y="670"/>
                    </a:lnTo>
                    <a:lnTo>
                      <a:pt x="1922" y="567"/>
                    </a:lnTo>
                    <a:lnTo>
                      <a:pt x="2358" y="618"/>
                    </a:lnTo>
                    <a:lnTo>
                      <a:pt x="2310" y="510"/>
                    </a:lnTo>
                    <a:lnTo>
                      <a:pt x="2978" y="556"/>
                    </a:lnTo>
                    <a:lnTo>
                      <a:pt x="2584" y="438"/>
                    </a:lnTo>
                    <a:lnTo>
                      <a:pt x="2883" y="401"/>
                    </a:lnTo>
                    <a:lnTo>
                      <a:pt x="2680" y="334"/>
                    </a:lnTo>
                    <a:lnTo>
                      <a:pt x="3408" y="236"/>
                    </a:lnTo>
                    <a:lnTo>
                      <a:pt x="2584" y="232"/>
                    </a:lnTo>
                    <a:lnTo>
                      <a:pt x="2841" y="113"/>
                    </a:lnTo>
                    <a:lnTo>
                      <a:pt x="2292" y="205"/>
                    </a:lnTo>
                    <a:lnTo>
                      <a:pt x="2334" y="0"/>
                    </a:lnTo>
                    <a:lnTo>
                      <a:pt x="1808" y="154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64040" y="2973240"/>
                <a:ext cx="223668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MAZÓI PROGRAMO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304920" y="990720"/>
            <a:ext cx="8550000" cy="60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Átviteli szint: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z adatátvitel transzparens megvalósításáért felelős műveletek (pl. az adatcsomagok sorrendjének be- és visszaállítása) szabálya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779800" y="1461960"/>
            <a:ext cx="2462040" cy="35546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4169-2AB9-4B00-BA75-E9E1E28059C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BD63AA-9A3B-4DDE-B3EB-BF188DBE381C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1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5440" y="2590920"/>
            <a:ext cx="8228160" cy="4076640"/>
            <a:chOff x="55440" y="2590920"/>
            <a:chExt cx="8228160" cy="4076640"/>
          </a:xfrm>
        </p:grpSpPr>
        <p:sp>
          <p:nvSpPr>
            <p:cNvPr id="354" name=""/>
            <p:cNvSpPr/>
            <p:nvPr/>
          </p:nvSpPr>
          <p:spPr>
            <a:xfrm>
              <a:off x="55440" y="6665760"/>
              <a:ext cx="8228160" cy="1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1520" y="6021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Fizika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41520" y="5259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41520" y="4878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66"/>
                  </a:solidFill>
                  <a:latin typeface="Times New Roman"/>
                </a:rPr>
                <a:t>Átvitel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41520" y="4497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18ffd"/>
                  </a:solidFill>
                  <a:latin typeface="Times New Roman"/>
                </a:rPr>
                <a:t>Szessz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41520" y="4116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imes New Roman"/>
                </a:rPr>
                <a:t>Prezentác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41520" y="3735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Alkalmazás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41520" y="5640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Adatkapcsol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35040" y="5289480"/>
              <a:ext cx="420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Hálóz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2280" y="6291360"/>
              <a:ext cx="57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Times New Roman"/>
                </a:rPr>
                <a:t>ká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44840" y="6375240"/>
              <a:ext cx="1800" cy="277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768320" y="2590920"/>
              <a:ext cx="5411880" cy="1220760"/>
              <a:chOff x="1768320" y="2590920"/>
              <a:chExt cx="5411880" cy="1220760"/>
            </a:xfrm>
          </p:grpSpPr>
          <p:sp>
            <p:nvSpPr>
              <p:cNvPr id="366" name=""/>
              <p:cNvSpPr/>
              <p:nvPr/>
            </p:nvSpPr>
            <p:spPr>
              <a:xfrm>
                <a:off x="1768320" y="2590920"/>
                <a:ext cx="5411880" cy="1220760"/>
              </a:xfrm>
              <a:custGeom>
                <a:avLst/>
                <a:gdLst/>
                <a:ahLst/>
                <a:rect l="l" t="t" r="r" b="b"/>
                <a:pathLst>
                  <a:path w="3409" h="769">
                    <a:moveTo>
                      <a:pt x="1808" y="154"/>
                    </a:moveTo>
                    <a:lnTo>
                      <a:pt x="1534" y="67"/>
                    </a:lnTo>
                    <a:lnTo>
                      <a:pt x="1349" y="227"/>
                    </a:lnTo>
                    <a:lnTo>
                      <a:pt x="710" y="129"/>
                    </a:lnTo>
                    <a:lnTo>
                      <a:pt x="848" y="278"/>
                    </a:lnTo>
                    <a:lnTo>
                      <a:pt x="185" y="294"/>
                    </a:lnTo>
                    <a:lnTo>
                      <a:pt x="621" y="412"/>
                    </a:lnTo>
                    <a:lnTo>
                      <a:pt x="0" y="458"/>
                    </a:lnTo>
                    <a:lnTo>
                      <a:pt x="525" y="546"/>
                    </a:lnTo>
                    <a:lnTo>
                      <a:pt x="203" y="634"/>
                    </a:lnTo>
                    <a:lnTo>
                      <a:pt x="758" y="649"/>
                    </a:lnTo>
                    <a:lnTo>
                      <a:pt x="776" y="768"/>
                    </a:lnTo>
                    <a:lnTo>
                      <a:pt x="1188" y="644"/>
                    </a:lnTo>
                    <a:lnTo>
                      <a:pt x="1373" y="701"/>
                    </a:lnTo>
                    <a:lnTo>
                      <a:pt x="1558" y="618"/>
                    </a:lnTo>
                    <a:lnTo>
                      <a:pt x="1832" y="670"/>
                    </a:lnTo>
                    <a:lnTo>
                      <a:pt x="1922" y="567"/>
                    </a:lnTo>
                    <a:lnTo>
                      <a:pt x="2358" y="618"/>
                    </a:lnTo>
                    <a:lnTo>
                      <a:pt x="2310" y="510"/>
                    </a:lnTo>
                    <a:lnTo>
                      <a:pt x="2978" y="556"/>
                    </a:lnTo>
                    <a:lnTo>
                      <a:pt x="2584" y="438"/>
                    </a:lnTo>
                    <a:lnTo>
                      <a:pt x="2883" y="401"/>
                    </a:lnTo>
                    <a:lnTo>
                      <a:pt x="2680" y="334"/>
                    </a:lnTo>
                    <a:lnTo>
                      <a:pt x="3408" y="236"/>
                    </a:lnTo>
                    <a:lnTo>
                      <a:pt x="2584" y="232"/>
                    </a:lnTo>
                    <a:lnTo>
                      <a:pt x="2841" y="113"/>
                    </a:lnTo>
                    <a:lnTo>
                      <a:pt x="2292" y="205"/>
                    </a:lnTo>
                    <a:lnTo>
                      <a:pt x="2334" y="0"/>
                    </a:lnTo>
                    <a:lnTo>
                      <a:pt x="1808" y="154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164040" y="2973240"/>
                <a:ext cx="223668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MAZÓI PROGRAMO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>
            <a:off x="380880" y="990720"/>
            <a:ext cx="8550360" cy="6375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66"/>
                </a:solidFill>
                <a:latin typeface="Times New Roman"/>
              </a:rPr>
              <a:t>Szessziós (együttműködési) szint: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kommunikáló egységek közötti logikai összeköttetést, üzenetszinkronizációt, párbeszédet szabályozza</a:t>
            </a:r>
            <a:r>
              <a:rPr b="1" lang="hu-HU" sz="1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779800" y="1461960"/>
            <a:ext cx="2462040" cy="30974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A7BF-05CA-473D-B3DE-3DCC775E0FA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1DA8FA-523C-4F79-85DA-CE90DBC1089D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1. Lokális hálózatok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Alkotóelemek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Topológiák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Protokollok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Típusok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Adatvédelem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9483-000D-4456-BDD6-7F742458BF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F08E3C-19F4-41A6-97A7-F8EC71D9E9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1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5440" y="2590920"/>
            <a:ext cx="8228160" cy="4076640"/>
            <a:chOff x="55440" y="2590920"/>
            <a:chExt cx="8228160" cy="4076640"/>
          </a:xfrm>
        </p:grpSpPr>
        <p:sp>
          <p:nvSpPr>
            <p:cNvPr id="374" name=""/>
            <p:cNvSpPr/>
            <p:nvPr/>
          </p:nvSpPr>
          <p:spPr>
            <a:xfrm>
              <a:off x="55440" y="6665760"/>
              <a:ext cx="8228160" cy="1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1520" y="6021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Fizika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41520" y="5259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41520" y="4878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66"/>
                  </a:solidFill>
                  <a:latin typeface="Times New Roman"/>
                </a:rPr>
                <a:t>Átvitel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41520" y="4497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18ffd"/>
                  </a:solidFill>
                  <a:latin typeface="Times New Roman"/>
                </a:rPr>
                <a:t>Szessz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41520" y="4116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imes New Roman"/>
                </a:rPr>
                <a:t>Prezentác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41520" y="3735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Alkalmazás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41520" y="5640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Adatkapcsol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35040" y="5289480"/>
              <a:ext cx="420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Hálóz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280" y="6291360"/>
              <a:ext cx="57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Times New Roman"/>
                </a:rPr>
                <a:t>ká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44840" y="6375240"/>
              <a:ext cx="1800" cy="277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1768320" y="2590920"/>
              <a:ext cx="5411880" cy="1220760"/>
              <a:chOff x="1768320" y="2590920"/>
              <a:chExt cx="5411880" cy="1220760"/>
            </a:xfrm>
          </p:grpSpPr>
          <p:sp>
            <p:nvSpPr>
              <p:cNvPr id="386" name=""/>
              <p:cNvSpPr/>
              <p:nvPr/>
            </p:nvSpPr>
            <p:spPr>
              <a:xfrm>
                <a:off x="1768320" y="2590920"/>
                <a:ext cx="5411880" cy="1220760"/>
              </a:xfrm>
              <a:custGeom>
                <a:avLst/>
                <a:gdLst/>
                <a:ahLst/>
                <a:rect l="l" t="t" r="r" b="b"/>
                <a:pathLst>
                  <a:path w="3409" h="769">
                    <a:moveTo>
                      <a:pt x="1808" y="154"/>
                    </a:moveTo>
                    <a:lnTo>
                      <a:pt x="1534" y="67"/>
                    </a:lnTo>
                    <a:lnTo>
                      <a:pt x="1349" y="227"/>
                    </a:lnTo>
                    <a:lnTo>
                      <a:pt x="710" y="129"/>
                    </a:lnTo>
                    <a:lnTo>
                      <a:pt x="848" y="278"/>
                    </a:lnTo>
                    <a:lnTo>
                      <a:pt x="185" y="294"/>
                    </a:lnTo>
                    <a:lnTo>
                      <a:pt x="621" y="412"/>
                    </a:lnTo>
                    <a:lnTo>
                      <a:pt x="0" y="458"/>
                    </a:lnTo>
                    <a:lnTo>
                      <a:pt x="525" y="546"/>
                    </a:lnTo>
                    <a:lnTo>
                      <a:pt x="203" y="634"/>
                    </a:lnTo>
                    <a:lnTo>
                      <a:pt x="758" y="649"/>
                    </a:lnTo>
                    <a:lnTo>
                      <a:pt x="776" y="768"/>
                    </a:lnTo>
                    <a:lnTo>
                      <a:pt x="1188" y="644"/>
                    </a:lnTo>
                    <a:lnTo>
                      <a:pt x="1373" y="701"/>
                    </a:lnTo>
                    <a:lnTo>
                      <a:pt x="1558" y="618"/>
                    </a:lnTo>
                    <a:lnTo>
                      <a:pt x="1832" y="670"/>
                    </a:lnTo>
                    <a:lnTo>
                      <a:pt x="1922" y="567"/>
                    </a:lnTo>
                    <a:lnTo>
                      <a:pt x="2358" y="618"/>
                    </a:lnTo>
                    <a:lnTo>
                      <a:pt x="2310" y="510"/>
                    </a:lnTo>
                    <a:lnTo>
                      <a:pt x="2978" y="556"/>
                    </a:lnTo>
                    <a:lnTo>
                      <a:pt x="2584" y="438"/>
                    </a:lnTo>
                    <a:lnTo>
                      <a:pt x="2883" y="401"/>
                    </a:lnTo>
                    <a:lnTo>
                      <a:pt x="2680" y="334"/>
                    </a:lnTo>
                    <a:lnTo>
                      <a:pt x="3408" y="236"/>
                    </a:lnTo>
                    <a:lnTo>
                      <a:pt x="2584" y="232"/>
                    </a:lnTo>
                    <a:lnTo>
                      <a:pt x="2841" y="113"/>
                    </a:lnTo>
                    <a:lnTo>
                      <a:pt x="2292" y="205"/>
                    </a:lnTo>
                    <a:lnTo>
                      <a:pt x="2334" y="0"/>
                    </a:lnTo>
                    <a:lnTo>
                      <a:pt x="1808" y="154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64040" y="2973240"/>
                <a:ext cx="223668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MAZÓI PROGRAMO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8" name=""/>
          <p:cNvSpPr/>
          <p:nvPr/>
        </p:nvSpPr>
        <p:spPr>
          <a:xfrm>
            <a:off x="380880" y="1066680"/>
            <a:ext cx="8550360" cy="606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Prezentációs szint: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 kicserélt adatok értelmezését segítő szabályok (pl. kódkonverzió) szabálya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779800" y="1461960"/>
            <a:ext cx="2462040" cy="27162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DCA6-F00E-4B97-886F-609905AF0C9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5DF744-2B1F-490F-A724-9AD659767AC0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2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5440" y="2590920"/>
            <a:ext cx="8228160" cy="4076640"/>
            <a:chOff x="55440" y="2590920"/>
            <a:chExt cx="8228160" cy="4076640"/>
          </a:xfrm>
        </p:grpSpPr>
        <p:sp>
          <p:nvSpPr>
            <p:cNvPr id="394" name=""/>
            <p:cNvSpPr/>
            <p:nvPr/>
          </p:nvSpPr>
          <p:spPr>
            <a:xfrm>
              <a:off x="55440" y="6665760"/>
              <a:ext cx="8228160" cy="1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41520" y="6021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Fizika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41520" y="5259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41520" y="4878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66"/>
                  </a:solidFill>
                  <a:latin typeface="Times New Roman"/>
                </a:rPr>
                <a:t>Átvitel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1520" y="4497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18ffd"/>
                  </a:solidFill>
                  <a:latin typeface="Times New Roman"/>
                </a:rPr>
                <a:t>Szessz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41520" y="411624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imes New Roman"/>
                </a:rPr>
                <a:t>Prezentációs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41520" y="373536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Times New Roman"/>
                </a:rPr>
                <a:t>Alkalmazás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41520" y="5640480"/>
              <a:ext cx="4187880" cy="301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Times New Roman"/>
                </a:rPr>
                <a:t>Adatkapcsol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35040" y="5289480"/>
              <a:ext cx="420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Hálózati sz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2280" y="6291360"/>
              <a:ext cx="57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66"/>
                  </a:solidFill>
                  <a:latin typeface="Times New Roman"/>
                </a:rPr>
                <a:t>ká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44840" y="6375240"/>
              <a:ext cx="1800" cy="2779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768320" y="2590920"/>
              <a:ext cx="5411880" cy="1220760"/>
              <a:chOff x="1768320" y="2590920"/>
              <a:chExt cx="5411880" cy="1220760"/>
            </a:xfrm>
          </p:grpSpPr>
          <p:sp>
            <p:nvSpPr>
              <p:cNvPr id="406" name=""/>
              <p:cNvSpPr/>
              <p:nvPr/>
            </p:nvSpPr>
            <p:spPr>
              <a:xfrm>
                <a:off x="1768320" y="2590920"/>
                <a:ext cx="5411880" cy="1220760"/>
              </a:xfrm>
              <a:custGeom>
                <a:avLst/>
                <a:gdLst/>
                <a:ahLst/>
                <a:rect l="l" t="t" r="r" b="b"/>
                <a:pathLst>
                  <a:path w="3409" h="769">
                    <a:moveTo>
                      <a:pt x="1808" y="154"/>
                    </a:moveTo>
                    <a:lnTo>
                      <a:pt x="1534" y="67"/>
                    </a:lnTo>
                    <a:lnTo>
                      <a:pt x="1349" y="227"/>
                    </a:lnTo>
                    <a:lnTo>
                      <a:pt x="710" y="129"/>
                    </a:lnTo>
                    <a:lnTo>
                      <a:pt x="848" y="278"/>
                    </a:lnTo>
                    <a:lnTo>
                      <a:pt x="185" y="294"/>
                    </a:lnTo>
                    <a:lnTo>
                      <a:pt x="621" y="412"/>
                    </a:lnTo>
                    <a:lnTo>
                      <a:pt x="0" y="458"/>
                    </a:lnTo>
                    <a:lnTo>
                      <a:pt x="525" y="546"/>
                    </a:lnTo>
                    <a:lnTo>
                      <a:pt x="203" y="634"/>
                    </a:lnTo>
                    <a:lnTo>
                      <a:pt x="758" y="649"/>
                    </a:lnTo>
                    <a:lnTo>
                      <a:pt x="776" y="768"/>
                    </a:lnTo>
                    <a:lnTo>
                      <a:pt x="1188" y="644"/>
                    </a:lnTo>
                    <a:lnTo>
                      <a:pt x="1373" y="701"/>
                    </a:lnTo>
                    <a:lnTo>
                      <a:pt x="1558" y="618"/>
                    </a:lnTo>
                    <a:lnTo>
                      <a:pt x="1832" y="670"/>
                    </a:lnTo>
                    <a:lnTo>
                      <a:pt x="1922" y="567"/>
                    </a:lnTo>
                    <a:lnTo>
                      <a:pt x="2358" y="618"/>
                    </a:lnTo>
                    <a:lnTo>
                      <a:pt x="2310" y="510"/>
                    </a:lnTo>
                    <a:lnTo>
                      <a:pt x="2978" y="556"/>
                    </a:lnTo>
                    <a:lnTo>
                      <a:pt x="2584" y="438"/>
                    </a:lnTo>
                    <a:lnTo>
                      <a:pt x="2883" y="401"/>
                    </a:lnTo>
                    <a:lnTo>
                      <a:pt x="2680" y="334"/>
                    </a:lnTo>
                    <a:lnTo>
                      <a:pt x="3408" y="236"/>
                    </a:lnTo>
                    <a:lnTo>
                      <a:pt x="2584" y="232"/>
                    </a:lnTo>
                    <a:lnTo>
                      <a:pt x="2841" y="113"/>
                    </a:lnTo>
                    <a:lnTo>
                      <a:pt x="2292" y="205"/>
                    </a:lnTo>
                    <a:lnTo>
                      <a:pt x="2334" y="0"/>
                    </a:lnTo>
                    <a:lnTo>
                      <a:pt x="1808" y="154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64040" y="2973240"/>
                <a:ext cx="223668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MAZÓI PROGRAMO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228600" y="1295280"/>
            <a:ext cx="8550360" cy="3632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Alkalmazási szint: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 felhasználói programok és folyamatok támogatásának szabálya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779800" y="1461960"/>
            <a:ext cx="2462040" cy="24116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A4CE-C111-45C2-BFB1-9010EED94E4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59DBFB-C78E-49F7-A609-2540DB9EE726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11160" y="4678200"/>
            <a:ext cx="45752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ásjog-továbbítási protok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z adási jog birtokosa adott időszeletre megkapja azt a jogot, hogy adatot helyezzen a közegre. Ez akkor is megjár neki, ha nem is akart forgalmaz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2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4280" y="844560"/>
            <a:ext cx="1265760" cy="389520"/>
            <a:chOff x="44280" y="844560"/>
            <a:chExt cx="1265760" cy="389520"/>
          </a:xfrm>
        </p:grpSpPr>
        <p:sp>
          <p:nvSpPr>
            <p:cNvPr id="416" name=""/>
            <p:cNvSpPr/>
            <p:nvPr/>
          </p:nvSpPr>
          <p:spPr>
            <a:xfrm>
              <a:off x="44280" y="844560"/>
              <a:ext cx="1130400" cy="368280"/>
            </a:xfrm>
            <a:prstGeom prst="cube">
              <a:avLst>
                <a:gd name="adj" fmla="val 24986"/>
              </a:avLst>
            </a:prstGeom>
            <a:solidFill>
              <a:srgbClr val="fc0128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8320" y="901800"/>
              <a:ext cx="98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zoft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-11160" y="689040"/>
            <a:ext cx="9153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hálózati protok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-11160" y="1477800"/>
            <a:ext cx="9153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Egy időben csak egy állomás tehet adatot az átviteli közegre, hiszen két adó egymás jeleit zavarná, kioltaná. Arról azonban gondoskodni kell, hogy minden résztvevő adhasson, de egymást ne zavarjá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320" y="3832200"/>
            <a:ext cx="9064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353960" y="3390840"/>
          <a:ext cx="108756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3960" y="3390840"/>
                    <a:ext cx="10875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4522680" y="4694400"/>
            <a:ext cx="4403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ütközésfigyeléses protok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z adásra készülő állomás “belehallgat” a közegbe, és ha nincs ott forgalom, elkezdi az adást, különben vár egy kicsit, mielőtt újra próbálkoz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5837400" y="3208320"/>
          <a:ext cx="1184040" cy="118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37400" y="3208320"/>
                    <a:ext cx="1184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3608280" y="2762280"/>
            <a:ext cx="8543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Két stratégiai jellegű protokoll egy-egy módszert definiál a fenti problémá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A264-7A2F-45DB-B987-AC8EBAA0EF8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CE49A8-302E-4CCE-83E0-F2CA1CB238EA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573040" y="193680"/>
            <a:ext cx="64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2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4280" y="844560"/>
            <a:ext cx="1265760" cy="389520"/>
            <a:chOff x="44280" y="844560"/>
            <a:chExt cx="1265760" cy="389520"/>
          </a:xfrm>
        </p:grpSpPr>
        <p:sp>
          <p:nvSpPr>
            <p:cNvPr id="432" name=""/>
            <p:cNvSpPr/>
            <p:nvPr/>
          </p:nvSpPr>
          <p:spPr>
            <a:xfrm>
              <a:off x="44280" y="844560"/>
              <a:ext cx="1130400" cy="368280"/>
            </a:xfrm>
            <a:prstGeom prst="cube">
              <a:avLst>
                <a:gd name="adj" fmla="val 24986"/>
              </a:avLst>
            </a:prstGeom>
            <a:solidFill>
              <a:srgbClr val="fc0128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8320" y="901800"/>
              <a:ext cx="98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zoft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-11160" y="689040"/>
            <a:ext cx="9153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hálózati topológia és a protok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000" y="4675320"/>
            <a:ext cx="905832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g kell jegyeznünk, hogy a 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fizikai topológi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s az adási joggal kapcsolatos protokoll által meghatározott 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logikai topológi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özöt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incs közvetlen kapcsol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Bármelyik fizikai topológia esetén választható bármelyik logikai topológia (azaz protokol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Tervezéskor a választás csak az implementációk képességeitől függen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160" y="1706400"/>
            <a:ext cx="9131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hogyan az adási jogot megkaphatja a hálózat egy pontja, felrajzolható egy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gráf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, amely va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yűrű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(az adási jog továbbításos protokollnál), va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illag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(az ütközésfigyeléses protokoll eseté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z a gráf a hálózat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gikai topológiája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. Az előzőekben megismertet pedig a megkülönböztetés kedvéért </a:t>
            </a:r>
            <a:r>
              <a:rPr b="1" i="1" lang="en-US" sz="2400" spc="-1" strike="noStrike">
                <a:solidFill>
                  <a:srgbClr val="fafd00"/>
                </a:solidFill>
                <a:latin typeface="Times New Roman"/>
              </a:rPr>
              <a:t>fizikai topológiának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evezhetjü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8FF4-718A-491D-9537-3D1860E2FA7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0745FF-A04C-4117-B46E-C96EB5B7BECB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541360" y="193680"/>
            <a:ext cx="53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fff00"/>
                </a:solidFill>
                <a:latin typeface="Times New Roman"/>
              </a:rPr>
              <a:t>2/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11160" y="723960"/>
            <a:ext cx="9153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Arial"/>
              </a:rPr>
              <a:t>Hálózattípusok a feladatmegosztás sze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280" y="1143000"/>
            <a:ext cx="8945640" cy="0"/>
          </a:xfrm>
          <a:prstGeom prst="line">
            <a:avLst/>
          </a:prstGeom>
          <a:ln w="1260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11160" y="1573200"/>
            <a:ext cx="914724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 a hálózatba kötött gépek között nincs szerepét tekintve kitüntetett gép, akkor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gyenrang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PEER-TO-PEER) hálózattal van dolgu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61800" y="4219560"/>
            <a:ext cx="8464680" cy="2638440"/>
            <a:chOff x="361800" y="4219560"/>
            <a:chExt cx="8464680" cy="2638440"/>
          </a:xfrm>
        </p:grpSpPr>
        <p:sp>
          <p:nvSpPr>
            <p:cNvPr id="445" name=""/>
            <p:cNvSpPr/>
            <p:nvPr/>
          </p:nvSpPr>
          <p:spPr>
            <a:xfrm>
              <a:off x="433440" y="5645160"/>
              <a:ext cx="8393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6" name=""/>
            <p:cNvGraphicFramePr/>
            <p:nvPr/>
          </p:nvGraphicFramePr>
          <p:xfrm>
            <a:off x="361800" y="5972040"/>
            <a:ext cx="1252800" cy="88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1800" y="5972040"/>
                      <a:ext cx="1252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8" name=""/>
            <p:cNvGraphicFramePr/>
            <p:nvPr/>
          </p:nvGraphicFramePr>
          <p:xfrm>
            <a:off x="3219480" y="5972040"/>
            <a:ext cx="1252440" cy="885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19480" y="597204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"/>
            <p:cNvGraphicFramePr/>
            <p:nvPr/>
          </p:nvGraphicFramePr>
          <p:xfrm>
            <a:off x="6134040" y="5972040"/>
            <a:ext cx="1252440" cy="885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34040" y="597204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2" name=""/>
            <p:cNvGraphicFramePr/>
            <p:nvPr/>
          </p:nvGraphicFramePr>
          <p:xfrm>
            <a:off x="1733400" y="4219560"/>
            <a:ext cx="1252800" cy="885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33400" y="4219560"/>
                      <a:ext cx="1252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4" name=""/>
            <p:cNvGraphicFramePr/>
            <p:nvPr/>
          </p:nvGraphicFramePr>
          <p:xfrm>
            <a:off x="4629240" y="4219560"/>
            <a:ext cx="1252440" cy="8859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29240" y="421956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6" name=""/>
            <p:cNvGraphicFramePr/>
            <p:nvPr/>
          </p:nvGraphicFramePr>
          <p:xfrm>
            <a:off x="7277040" y="4219560"/>
            <a:ext cx="1252440" cy="8859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5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277040" y="421956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8" name=""/>
            <p:cNvSpPr/>
            <p:nvPr/>
          </p:nvSpPr>
          <p:spPr>
            <a:xfrm>
              <a:off x="1428840" y="5659560"/>
              <a:ext cx="0" cy="315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89360" y="5062680"/>
              <a:ext cx="0" cy="5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19800" y="5659560"/>
              <a:ext cx="0" cy="315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99120" y="5665680"/>
              <a:ext cx="0" cy="316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420040" y="5068800"/>
              <a:ext cx="0" cy="557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65760" y="5068800"/>
              <a:ext cx="0" cy="557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3029040" y="4589640"/>
            <a:ext cx="920520" cy="4777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029040" y="4589640"/>
                      <a:ext cx="9205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4495680" y="6323040"/>
            <a:ext cx="920880" cy="4777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495680" y="6323040"/>
                      <a:ext cx="92088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8" name=""/>
            <p:cNvGraphicFramePr/>
            <p:nvPr/>
          </p:nvGraphicFramePr>
          <p:xfrm>
            <a:off x="1639800" y="6197760"/>
            <a:ext cx="638280" cy="598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469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639800" y="6197760"/>
                      <a:ext cx="63828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0" name=""/>
          <p:cNvSpPr/>
          <p:nvPr/>
        </p:nvSpPr>
        <p:spPr>
          <a:xfrm>
            <a:off x="-11160" y="2678040"/>
            <a:ext cx="911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A munkaállomások egymás számár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lajánlhatják</a:t>
            </a: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 saját erőforrásaikat (nyomtatót, lemezegységet), é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génybe vehetik </a:t>
            </a: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a mások által kínáltakat.</a:t>
            </a:r>
            <a:r>
              <a:rPr b="0" lang="en-US" sz="2000" spc="-1" strike="noStrike">
                <a:solidFill>
                  <a:srgbClr val="7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0DE0-C821-4F33-B1D1-47879352B90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811588-DD9C-48F2-995F-4E2296E2568A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41360" y="193680"/>
            <a:ext cx="53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fff00"/>
                </a:solidFill>
                <a:latin typeface="Times New Roman"/>
              </a:rPr>
              <a:t>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-11160" y="723960"/>
            <a:ext cx="9153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Arial"/>
              </a:rPr>
              <a:t>Hálózattípusok a feladatmegosztás sze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280" y="1143000"/>
            <a:ext cx="8945640" cy="0"/>
          </a:xfrm>
          <a:prstGeom prst="line">
            <a:avLst/>
          </a:prstGeom>
          <a:ln w="1260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61800" y="4219560"/>
            <a:ext cx="8464680" cy="2638440"/>
            <a:chOff x="361800" y="4219560"/>
            <a:chExt cx="8464680" cy="2638440"/>
          </a:xfrm>
        </p:grpSpPr>
        <p:sp>
          <p:nvSpPr>
            <p:cNvPr id="478" name=""/>
            <p:cNvSpPr/>
            <p:nvPr/>
          </p:nvSpPr>
          <p:spPr>
            <a:xfrm>
              <a:off x="433440" y="5645160"/>
              <a:ext cx="8393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9" name=""/>
            <p:cNvGraphicFramePr/>
            <p:nvPr/>
          </p:nvGraphicFramePr>
          <p:xfrm>
            <a:off x="361800" y="5972040"/>
            <a:ext cx="1252800" cy="88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1800" y="5972040"/>
                      <a:ext cx="1252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1" name=""/>
            <p:cNvGraphicFramePr/>
            <p:nvPr/>
          </p:nvGraphicFramePr>
          <p:xfrm>
            <a:off x="3219480" y="5972040"/>
            <a:ext cx="1252440" cy="885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19480" y="597204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3" name=""/>
            <p:cNvGraphicFramePr/>
            <p:nvPr/>
          </p:nvGraphicFramePr>
          <p:xfrm>
            <a:off x="6134040" y="5972040"/>
            <a:ext cx="1252440" cy="885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34040" y="597204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1733400" y="4219560"/>
            <a:ext cx="1252800" cy="885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33400" y="4219560"/>
                      <a:ext cx="1252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7" name=""/>
            <p:cNvGraphicFramePr/>
            <p:nvPr/>
          </p:nvGraphicFramePr>
          <p:xfrm>
            <a:off x="4629240" y="4219560"/>
            <a:ext cx="1252440" cy="8859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8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29240" y="421956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9" name=""/>
            <p:cNvGraphicFramePr/>
            <p:nvPr/>
          </p:nvGraphicFramePr>
          <p:xfrm>
            <a:off x="7277040" y="4219560"/>
            <a:ext cx="1252440" cy="8859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9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277040" y="421956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1" name=""/>
            <p:cNvSpPr/>
            <p:nvPr/>
          </p:nvSpPr>
          <p:spPr>
            <a:xfrm>
              <a:off x="1428840" y="5659560"/>
              <a:ext cx="0" cy="315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89360" y="5062680"/>
              <a:ext cx="0" cy="5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9800" y="5659560"/>
              <a:ext cx="0" cy="315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99120" y="5665680"/>
              <a:ext cx="0" cy="316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20040" y="5068800"/>
              <a:ext cx="0" cy="557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65760" y="5068800"/>
              <a:ext cx="0" cy="557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7" name=""/>
            <p:cNvGraphicFramePr/>
            <p:nvPr/>
          </p:nvGraphicFramePr>
          <p:xfrm>
            <a:off x="3029040" y="4589640"/>
            <a:ext cx="920520" cy="4777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9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029040" y="4589640"/>
                      <a:ext cx="9205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9" name=""/>
            <p:cNvGraphicFramePr/>
            <p:nvPr/>
          </p:nvGraphicFramePr>
          <p:xfrm>
            <a:off x="4495680" y="6323040"/>
            <a:ext cx="920880" cy="4777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495680" y="6323040"/>
                      <a:ext cx="92088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1" name=""/>
            <p:cNvGraphicFramePr/>
            <p:nvPr/>
          </p:nvGraphicFramePr>
          <p:xfrm>
            <a:off x="1639800" y="6197760"/>
            <a:ext cx="638280" cy="598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639800" y="6197760"/>
                      <a:ext cx="63828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3" name=""/>
          <p:cNvSpPr/>
          <p:nvPr/>
        </p:nvSpPr>
        <p:spPr>
          <a:xfrm>
            <a:off x="331920" y="1763640"/>
            <a:ext cx="8594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z egyenrangú hálózati operációs rendszer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űködéséne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eltétele</a:t>
            </a: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, hogy minden munkaállomás futtasson egy a közös </a:t>
            </a:r>
            <a:r>
              <a:rPr b="1" lang="en-US" sz="2400" spc="-1" strike="noStrike" u="sng">
                <a:solidFill>
                  <a:srgbClr val="00dfca"/>
                </a:solidFill>
                <a:uFillTx/>
                <a:latin typeface="Times New Roman"/>
              </a:rPr>
              <a:t>protokoll</a:t>
            </a: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 szerinti adatcserét megvalósító tárrezidens </a:t>
            </a:r>
            <a:r>
              <a:rPr b="1" lang="en-US" sz="2400" spc="-1" strike="noStrike" u="sng">
                <a:solidFill>
                  <a:srgbClr val="00dfca"/>
                </a:solidFill>
                <a:uFillTx/>
                <a:latin typeface="Times New Roman"/>
              </a:rPr>
              <a:t>program</a:t>
            </a: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o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774880" y="3781440"/>
            <a:ext cx="1284120" cy="434880"/>
            <a:chOff x="2774880" y="3781440"/>
            <a:chExt cx="1284120" cy="434880"/>
          </a:xfrm>
        </p:grpSpPr>
        <p:sp>
          <p:nvSpPr>
            <p:cNvPr id="505" name=""/>
            <p:cNvSpPr/>
            <p:nvPr/>
          </p:nvSpPr>
          <p:spPr>
            <a:xfrm>
              <a:off x="2774880" y="3790800"/>
              <a:ext cx="1168560" cy="425520"/>
            </a:xfrm>
            <a:custGeom>
              <a:avLst/>
              <a:gdLst>
                <a:gd name="textAreaLeft" fmla="*/ 43200 w 1168560"/>
                <a:gd name="textAreaRight" fmla="*/ 1125360 w 1168560"/>
                <a:gd name="textAreaTop" fmla="*/ 15480 h 425520"/>
                <a:gd name="textAreaBottom" fmla="*/ 33984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12760" y="378144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Times New Roman"/>
                </a:rPr>
                <a:t>NETB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657760" y="3787920"/>
            <a:ext cx="1284120" cy="434880"/>
            <a:chOff x="5657760" y="3787920"/>
            <a:chExt cx="1284120" cy="434880"/>
          </a:xfrm>
        </p:grpSpPr>
        <p:sp>
          <p:nvSpPr>
            <p:cNvPr id="508" name=""/>
            <p:cNvSpPr/>
            <p:nvPr/>
          </p:nvSpPr>
          <p:spPr>
            <a:xfrm>
              <a:off x="5657760" y="3797280"/>
              <a:ext cx="1168560" cy="425520"/>
            </a:xfrm>
            <a:custGeom>
              <a:avLst/>
              <a:gdLst>
                <a:gd name="textAreaLeft" fmla="*/ 43200 w 1168560"/>
                <a:gd name="textAreaRight" fmla="*/ 1125360 w 1168560"/>
                <a:gd name="textAreaTop" fmla="*/ 15480 h 425520"/>
                <a:gd name="textAreaBottom" fmla="*/ 33984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95640" y="378792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Times New Roman"/>
                </a:rPr>
                <a:t>NETB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588080" y="3768840"/>
            <a:ext cx="1284480" cy="434880"/>
            <a:chOff x="7588080" y="3768840"/>
            <a:chExt cx="1284480" cy="434880"/>
          </a:xfrm>
        </p:grpSpPr>
        <p:sp>
          <p:nvSpPr>
            <p:cNvPr id="511" name=""/>
            <p:cNvSpPr/>
            <p:nvPr/>
          </p:nvSpPr>
          <p:spPr>
            <a:xfrm flipH="1">
              <a:off x="7588080" y="3778200"/>
              <a:ext cx="1168560" cy="425520"/>
            </a:xfrm>
            <a:custGeom>
              <a:avLst/>
              <a:gdLst>
                <a:gd name="textAreaLeft" fmla="*/ 43200 w 1168560"/>
                <a:gd name="textAreaRight" fmla="*/ 1125360 w 1168560"/>
                <a:gd name="textAreaTop" fmla="*/ 15480 h 425520"/>
                <a:gd name="textAreaBottom" fmla="*/ 33984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6152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26320" y="376884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Times New Roman"/>
                </a:rPr>
                <a:t>NETB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7378560" y="5743440"/>
            <a:ext cx="1284480" cy="435240"/>
            <a:chOff x="7378560" y="5743440"/>
            <a:chExt cx="1284480" cy="435240"/>
          </a:xfrm>
        </p:grpSpPr>
        <p:sp>
          <p:nvSpPr>
            <p:cNvPr id="514" name=""/>
            <p:cNvSpPr/>
            <p:nvPr/>
          </p:nvSpPr>
          <p:spPr>
            <a:xfrm>
              <a:off x="7378560" y="5753160"/>
              <a:ext cx="1168560" cy="425520"/>
            </a:xfrm>
            <a:custGeom>
              <a:avLst/>
              <a:gdLst>
                <a:gd name="textAreaLeft" fmla="*/ 43200 w 1168560"/>
                <a:gd name="textAreaRight" fmla="*/ 1125360 w 1168560"/>
                <a:gd name="textAreaTop" fmla="*/ 15480 h 425520"/>
                <a:gd name="textAreaBottom" fmla="*/ 33984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16800" y="574344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Times New Roman"/>
                </a:rPr>
                <a:t>NETB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464000" y="5699160"/>
            <a:ext cx="1284120" cy="434880"/>
            <a:chOff x="4464000" y="5699160"/>
            <a:chExt cx="1284120" cy="434880"/>
          </a:xfrm>
        </p:grpSpPr>
        <p:sp>
          <p:nvSpPr>
            <p:cNvPr id="517" name=""/>
            <p:cNvSpPr/>
            <p:nvPr/>
          </p:nvSpPr>
          <p:spPr>
            <a:xfrm>
              <a:off x="4464000" y="5708520"/>
              <a:ext cx="1168560" cy="425520"/>
            </a:xfrm>
            <a:custGeom>
              <a:avLst/>
              <a:gdLst>
                <a:gd name="textAreaLeft" fmla="*/ 43200 w 1168560"/>
                <a:gd name="textAreaRight" fmla="*/ 1125360 w 1168560"/>
                <a:gd name="textAreaTop" fmla="*/ 15480 h 425520"/>
                <a:gd name="textAreaBottom" fmla="*/ 33984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01880" y="569916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Times New Roman"/>
                </a:rPr>
                <a:t>NETB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606680" y="5673600"/>
            <a:ext cx="1284120" cy="435240"/>
            <a:chOff x="1606680" y="5673600"/>
            <a:chExt cx="1284120" cy="435240"/>
          </a:xfrm>
        </p:grpSpPr>
        <p:sp>
          <p:nvSpPr>
            <p:cNvPr id="520" name=""/>
            <p:cNvSpPr/>
            <p:nvPr/>
          </p:nvSpPr>
          <p:spPr>
            <a:xfrm>
              <a:off x="1606680" y="5683320"/>
              <a:ext cx="1168200" cy="425520"/>
            </a:xfrm>
            <a:custGeom>
              <a:avLst/>
              <a:gdLst>
                <a:gd name="textAreaLeft" fmla="*/ 43200 w 1168200"/>
                <a:gd name="textAreaRight" fmla="*/ 1125000 w 1168200"/>
                <a:gd name="textAreaTop" fmla="*/ 15480 h 425520"/>
                <a:gd name="textAreaBottom" fmla="*/ 33984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44560" y="567360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Times New Roman"/>
                </a:rPr>
                <a:t>NETB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2D21-FD73-4EC0-942C-BE309E5A1B73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52FDCB-A0E5-439B-9024-BD7FF2C170C3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541360" y="193680"/>
            <a:ext cx="53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fff00"/>
                </a:solidFill>
                <a:latin typeface="Times New Roman"/>
              </a:rPr>
              <a:t>2/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-11160" y="723960"/>
            <a:ext cx="9153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Arial"/>
              </a:rPr>
              <a:t>Hálózattípusok a feladatmegosztás sze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280" y="1143000"/>
            <a:ext cx="8945640" cy="0"/>
          </a:xfrm>
          <a:prstGeom prst="line">
            <a:avLst/>
          </a:prstGeom>
          <a:ln w="1260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61800" y="4219560"/>
            <a:ext cx="8464680" cy="2638440"/>
            <a:chOff x="361800" y="4219560"/>
            <a:chExt cx="8464680" cy="2638440"/>
          </a:xfrm>
        </p:grpSpPr>
        <p:sp>
          <p:nvSpPr>
            <p:cNvPr id="529" name=""/>
            <p:cNvSpPr/>
            <p:nvPr/>
          </p:nvSpPr>
          <p:spPr>
            <a:xfrm>
              <a:off x="433440" y="5645160"/>
              <a:ext cx="8393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"/>
            <p:cNvGraphicFramePr/>
            <p:nvPr/>
          </p:nvGraphicFramePr>
          <p:xfrm>
            <a:off x="361800" y="5972040"/>
            <a:ext cx="1252800" cy="88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1800" y="5972040"/>
                      <a:ext cx="1252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2" name=""/>
            <p:cNvGraphicFramePr/>
            <p:nvPr/>
          </p:nvGraphicFramePr>
          <p:xfrm>
            <a:off x="3219480" y="5972040"/>
            <a:ext cx="1252440" cy="885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19480" y="597204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4" name=""/>
            <p:cNvGraphicFramePr/>
            <p:nvPr/>
          </p:nvGraphicFramePr>
          <p:xfrm>
            <a:off x="6134040" y="5972040"/>
            <a:ext cx="1252440" cy="885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3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34040" y="597204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6" name=""/>
            <p:cNvGraphicFramePr/>
            <p:nvPr/>
          </p:nvGraphicFramePr>
          <p:xfrm>
            <a:off x="1733400" y="4219560"/>
            <a:ext cx="1252800" cy="885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33400" y="4219560"/>
                      <a:ext cx="1252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8" name=""/>
            <p:cNvGraphicFramePr/>
            <p:nvPr/>
          </p:nvGraphicFramePr>
          <p:xfrm>
            <a:off x="4629240" y="4219560"/>
            <a:ext cx="1252440" cy="8859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29240" y="421956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0" name=""/>
            <p:cNvGraphicFramePr/>
            <p:nvPr/>
          </p:nvGraphicFramePr>
          <p:xfrm>
            <a:off x="7277040" y="4219560"/>
            <a:ext cx="1252440" cy="8859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4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277040" y="421956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2" name=""/>
            <p:cNvSpPr/>
            <p:nvPr/>
          </p:nvSpPr>
          <p:spPr>
            <a:xfrm>
              <a:off x="1428840" y="5659560"/>
              <a:ext cx="0" cy="315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89360" y="5062680"/>
              <a:ext cx="0" cy="5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19800" y="5659560"/>
              <a:ext cx="0" cy="315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99120" y="5665680"/>
              <a:ext cx="0" cy="316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420040" y="5068800"/>
              <a:ext cx="0" cy="557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65760" y="5068800"/>
              <a:ext cx="0" cy="557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8" name=""/>
            <p:cNvGraphicFramePr/>
            <p:nvPr/>
          </p:nvGraphicFramePr>
          <p:xfrm>
            <a:off x="3029040" y="4589640"/>
            <a:ext cx="920520" cy="4777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4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029040" y="4589640"/>
                      <a:ext cx="9205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0" name=""/>
            <p:cNvGraphicFramePr/>
            <p:nvPr/>
          </p:nvGraphicFramePr>
          <p:xfrm>
            <a:off x="4495680" y="6323040"/>
            <a:ext cx="920880" cy="4777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51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495680" y="6323040"/>
                      <a:ext cx="92088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2" name=""/>
            <p:cNvGraphicFramePr/>
            <p:nvPr/>
          </p:nvGraphicFramePr>
          <p:xfrm>
            <a:off x="1639800" y="6197760"/>
            <a:ext cx="638280" cy="598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639800" y="6197760"/>
                      <a:ext cx="63828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4" name=""/>
          <p:cNvSpPr/>
          <p:nvPr/>
        </p:nvSpPr>
        <p:spPr>
          <a:xfrm>
            <a:off x="331920" y="1763640"/>
            <a:ext cx="8594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z egyenrangú hálózati operációs rendsz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asználatának</a:t>
            </a:r>
            <a:r>
              <a:rPr b="1" lang="en-US" sz="2400" spc="-1" strike="noStrike">
                <a:solidFill>
                  <a:srgbClr val="00dfc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tovább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ltéte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hogy minden munkaállomás futtathasson hálózati </a:t>
            </a:r>
            <a:r>
              <a:rPr b="1" lang="en-US" sz="2400" spc="-1" strike="noStrike" u="sng">
                <a:solidFill>
                  <a:srgbClr val="00dfca"/>
                </a:solidFill>
                <a:uFillTx/>
                <a:latin typeface="Times New Roman"/>
              </a:rPr>
              <a:t>szolgáltatás</a:t>
            </a: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okat elérhetővé tevő </a:t>
            </a:r>
            <a:r>
              <a:rPr b="1" lang="en-US" sz="2400" spc="-1" strike="noStrike" u="sng">
                <a:solidFill>
                  <a:srgbClr val="00dfca"/>
                </a:solidFill>
                <a:uFillTx/>
                <a:latin typeface="Times New Roman"/>
              </a:rPr>
              <a:t>programok</a:t>
            </a: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473280" y="3187800"/>
            <a:ext cx="4280760" cy="1073160"/>
            <a:chOff x="3473280" y="3187800"/>
            <a:chExt cx="4280760" cy="1073160"/>
          </a:xfrm>
        </p:grpSpPr>
        <p:sp>
          <p:nvSpPr>
            <p:cNvPr id="556" name=""/>
            <p:cNvSpPr/>
            <p:nvPr/>
          </p:nvSpPr>
          <p:spPr>
            <a:xfrm>
              <a:off x="3473280" y="3187800"/>
              <a:ext cx="3702240" cy="1073160"/>
            </a:xfrm>
            <a:custGeom>
              <a:avLst/>
              <a:gdLst>
                <a:gd name="textAreaLeft" fmla="*/ 136800 w 3702240"/>
                <a:gd name="textAreaRight" fmla="*/ 3565440 w 3702240"/>
                <a:gd name="textAreaTop" fmla="*/ 39600 h 1073160"/>
                <a:gd name="textAreaBottom" fmla="*/ 857160 h 107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454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15920" y="3422520"/>
              <a:ext cx="313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65fb"/>
                  </a:solidFill>
                  <a:latin typeface="Times New Roman"/>
                </a:rPr>
                <a:t>LOGON, LOGOFF, NET,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A5C1-7981-4D8D-A3CB-7F0A3EE4781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A95C6F-383F-4B9A-A8C3-E579880A82B0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541360" y="193680"/>
            <a:ext cx="53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fff00"/>
                </a:solidFill>
                <a:latin typeface="Times New Roman"/>
              </a:rPr>
              <a:t>2/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-11160" y="723960"/>
            <a:ext cx="9153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Arial"/>
              </a:rPr>
              <a:t>Hálózattípusok a feladatmegosztás sze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280" y="1143000"/>
            <a:ext cx="8945640" cy="0"/>
          </a:xfrm>
          <a:prstGeom prst="line">
            <a:avLst/>
          </a:prstGeom>
          <a:ln w="1260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61800" y="4219560"/>
            <a:ext cx="8464680" cy="2638440"/>
            <a:chOff x="361800" y="4219560"/>
            <a:chExt cx="8464680" cy="2638440"/>
          </a:xfrm>
        </p:grpSpPr>
        <p:sp>
          <p:nvSpPr>
            <p:cNvPr id="565" name=""/>
            <p:cNvSpPr/>
            <p:nvPr/>
          </p:nvSpPr>
          <p:spPr>
            <a:xfrm>
              <a:off x="433440" y="5645160"/>
              <a:ext cx="83930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6" name=""/>
            <p:cNvGraphicFramePr/>
            <p:nvPr/>
          </p:nvGraphicFramePr>
          <p:xfrm>
            <a:off x="361800" y="5972040"/>
            <a:ext cx="1252800" cy="88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1800" y="5972040"/>
                      <a:ext cx="1252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8" name=""/>
            <p:cNvGraphicFramePr/>
            <p:nvPr/>
          </p:nvGraphicFramePr>
          <p:xfrm>
            <a:off x="3219480" y="5972040"/>
            <a:ext cx="1252440" cy="885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19480" y="597204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0" name=""/>
            <p:cNvGraphicFramePr/>
            <p:nvPr/>
          </p:nvGraphicFramePr>
          <p:xfrm>
            <a:off x="6134040" y="5972040"/>
            <a:ext cx="1252440" cy="885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34040" y="597204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2" name=""/>
            <p:cNvGraphicFramePr/>
            <p:nvPr/>
          </p:nvGraphicFramePr>
          <p:xfrm>
            <a:off x="1733400" y="4219560"/>
            <a:ext cx="1252800" cy="885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733400" y="4219560"/>
                      <a:ext cx="1252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4" name=""/>
            <p:cNvGraphicFramePr/>
            <p:nvPr/>
          </p:nvGraphicFramePr>
          <p:xfrm>
            <a:off x="4629240" y="4219560"/>
            <a:ext cx="1252440" cy="8859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29240" y="421956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6" name=""/>
            <p:cNvGraphicFramePr/>
            <p:nvPr/>
          </p:nvGraphicFramePr>
          <p:xfrm>
            <a:off x="7277040" y="4219560"/>
            <a:ext cx="1252440" cy="8859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7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277040" y="4219560"/>
                      <a:ext cx="12524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8" name=""/>
            <p:cNvSpPr/>
            <p:nvPr/>
          </p:nvSpPr>
          <p:spPr>
            <a:xfrm>
              <a:off x="1428840" y="5659560"/>
              <a:ext cx="0" cy="315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89360" y="5062680"/>
              <a:ext cx="0" cy="5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19800" y="5659560"/>
              <a:ext cx="0" cy="315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99120" y="5665680"/>
              <a:ext cx="0" cy="316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420040" y="5068800"/>
              <a:ext cx="0" cy="557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65760" y="5068800"/>
              <a:ext cx="0" cy="557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4" name=""/>
            <p:cNvGraphicFramePr/>
            <p:nvPr/>
          </p:nvGraphicFramePr>
          <p:xfrm>
            <a:off x="3029040" y="4589640"/>
            <a:ext cx="920520" cy="4777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029040" y="4589640"/>
                      <a:ext cx="9205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4495680" y="6323040"/>
            <a:ext cx="920880" cy="4777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495680" y="6323040"/>
                      <a:ext cx="92088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1639800" y="6197760"/>
            <a:ext cx="638280" cy="598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639800" y="6197760"/>
                      <a:ext cx="63828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331920" y="1763640"/>
            <a:ext cx="8594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zek után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gy munkaállomá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t a sajátját,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felhasználhat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z egyenrangú hálózat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ásik munkaállomásához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satlakoztatott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yomtatókat, lemezegységeket és más perifériáka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közös néve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rőforrások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sőt a sajátjait is felajánlhatja közös használa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64E5-BD5F-4BCB-B142-37793DC12C4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4C68C3-78CC-4E51-A36D-AA3841A054F2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541360" y="193680"/>
            <a:ext cx="53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fff00"/>
                </a:solidFill>
                <a:latin typeface="Times New Roman"/>
              </a:rPr>
              <a:t>2/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-11160" y="723960"/>
            <a:ext cx="9153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Arial"/>
              </a:rPr>
              <a:t>Hálózattípusok a feladatmegosztás sze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280" y="1143000"/>
            <a:ext cx="8945640" cy="0"/>
          </a:xfrm>
          <a:prstGeom prst="line">
            <a:avLst/>
          </a:prstGeom>
          <a:ln w="1260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3440" y="5645160"/>
            <a:ext cx="8393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361800" y="5972040"/>
          <a:ext cx="1252800" cy="8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1800" y="5972040"/>
                    <a:ext cx="12528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3219480" y="5972040"/>
          <a:ext cx="1252440" cy="8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19480" y="5972040"/>
                    <a:ext cx="12524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6134040" y="5972040"/>
          <a:ext cx="1252440" cy="88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34040" y="5972040"/>
                    <a:ext cx="12524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4629240" y="4219560"/>
          <a:ext cx="1252440" cy="885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29240" y="4219560"/>
                    <a:ext cx="12524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7277040" y="4219560"/>
          <a:ext cx="1252440" cy="885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277040" y="4219560"/>
                    <a:ext cx="12524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"/>
          <p:cNvSpPr/>
          <p:nvPr/>
        </p:nvSpPr>
        <p:spPr>
          <a:xfrm>
            <a:off x="1428840" y="5659560"/>
            <a:ext cx="0" cy="315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89360" y="5062680"/>
            <a:ext cx="0" cy="556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19800" y="5659560"/>
            <a:ext cx="0" cy="315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299120" y="5665680"/>
            <a:ext cx="0" cy="316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420040" y="5068800"/>
            <a:ext cx="0" cy="557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65760" y="5068800"/>
            <a:ext cx="0" cy="557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029040" y="4589640"/>
          <a:ext cx="920520" cy="47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29040" y="4589640"/>
                    <a:ext cx="9205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1658880" y="4444920"/>
          <a:ext cx="638280" cy="598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58880" y="4444920"/>
                    <a:ext cx="6382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247840" y="4038480"/>
          <a:ext cx="833400" cy="1460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47840" y="4038480"/>
                    <a:ext cx="833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122400" y="1268280"/>
            <a:ext cx="885816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7fff00"/>
                </a:solidFill>
                <a:latin typeface="Times New Roman"/>
              </a:rPr>
              <a:t>Ha a hálózat egyes gépei </a:t>
            </a:r>
            <a:r>
              <a:rPr b="0" i="1" lang="en-US" sz="2400" spc="-1" strike="noStrike" u="sng">
                <a:solidFill>
                  <a:srgbClr val="7fff00"/>
                </a:solidFill>
                <a:uFillTx/>
                <a:latin typeface="Times New Roman"/>
              </a:rPr>
              <a:t>funkciójuk</a:t>
            </a:r>
            <a:r>
              <a:rPr b="0" i="1" lang="en-US" sz="2400" spc="-1" strike="noStrike">
                <a:solidFill>
                  <a:srgbClr val="7fff00"/>
                </a:solidFill>
                <a:latin typeface="Times New Roman"/>
              </a:rPr>
              <a:t>, a rajtuk futtatott </a:t>
            </a:r>
            <a:r>
              <a:rPr b="0" i="1" lang="en-US" sz="2400" spc="-1" strike="noStrike" u="sng">
                <a:solidFill>
                  <a:srgbClr val="7fff00"/>
                </a:solidFill>
                <a:uFillTx/>
                <a:latin typeface="Times New Roman"/>
              </a:rPr>
              <a:t>programok</a:t>
            </a:r>
            <a:r>
              <a:rPr b="0" i="1" lang="en-US" sz="2400" spc="-1" strike="noStrike">
                <a:solidFill>
                  <a:srgbClr val="7fff00"/>
                </a:solidFill>
                <a:latin typeface="Times New Roman"/>
              </a:rPr>
              <a:t> és az </a:t>
            </a:r>
            <a:r>
              <a:rPr b="0" i="1" lang="en-US" sz="2400" spc="-1" strike="noStrike" u="sng">
                <a:solidFill>
                  <a:srgbClr val="7fff00"/>
                </a:solidFill>
                <a:uFillTx/>
                <a:latin typeface="Times New Roman"/>
              </a:rPr>
              <a:t>erőforrások</a:t>
            </a:r>
            <a:r>
              <a:rPr b="0" i="1" lang="en-US" sz="2400" spc="-1" strike="noStrike">
                <a:solidFill>
                  <a:srgbClr val="7fff00"/>
                </a:solidFill>
                <a:latin typeface="Times New Roman"/>
              </a:rPr>
              <a:t> használata tekintetében jelentősen</a:t>
            </a:r>
            <a:r>
              <a:rPr b="1" i="1" lang="en-US" sz="2400" spc="-1" strike="noStrike">
                <a:solidFill>
                  <a:srgbClr val="7fff00"/>
                </a:solidFill>
                <a:latin typeface="Times New Roman"/>
              </a:rPr>
              <a:t> eltérnek egymástól</a:t>
            </a:r>
            <a:r>
              <a:rPr b="0" i="1" lang="en-US" sz="2400" spc="-1" strike="noStrike">
                <a:solidFill>
                  <a:srgbClr val="7fff00"/>
                </a:solidFill>
                <a:latin typeface="Times New Roman"/>
              </a:rPr>
              <a:t>, akkor már nem beszélhetünk egyenrangú hálózatró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yes gépek csak mások igényeinek kiszolgálásával, a hálózati szolgáltatások biztosításával vannak elfoglalva, míg a többi gép ezeket az erőforrásokat igénybe veszi ha éppen szüksége van 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zek a kliens-szerver architektúrára épülő hálózat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4FAE-42D2-4F5E-B72B-D2D583773B42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6108E8-F091-4CC2-B7EC-0F6FEC05624C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433440" y="5645160"/>
            <a:ext cx="83930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366840" y="5967360"/>
          <a:ext cx="125244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967360"/>
                    <a:ext cx="12524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3219480" y="5972040"/>
          <a:ext cx="12524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9480" y="5972040"/>
                    <a:ext cx="12524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6134040" y="5972040"/>
          <a:ext cx="1252440" cy="8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4040" y="5972040"/>
                    <a:ext cx="12524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4629240" y="4219560"/>
          <a:ext cx="1252440" cy="88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29240" y="4219560"/>
                    <a:ext cx="12524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7277040" y="4219560"/>
          <a:ext cx="1252440" cy="88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77040" y="4219560"/>
                    <a:ext cx="12524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1428840" y="5659560"/>
            <a:ext cx="0" cy="315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89360" y="5062680"/>
            <a:ext cx="0" cy="5569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219800" y="5659560"/>
            <a:ext cx="0" cy="315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99120" y="5665680"/>
            <a:ext cx="0" cy="316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420040" y="5068800"/>
            <a:ext cx="0" cy="557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65760" y="5068800"/>
            <a:ext cx="0" cy="5572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3029040" y="4589640"/>
          <a:ext cx="92052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4589640"/>
                    <a:ext cx="9205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1658880" y="4444920"/>
          <a:ext cx="638280" cy="598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58880" y="4444920"/>
                    <a:ext cx="6382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247840" y="4038480"/>
          <a:ext cx="833400" cy="146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47840" y="4038480"/>
                    <a:ext cx="833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541360" y="193680"/>
            <a:ext cx="53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7fff00"/>
                </a:solidFill>
                <a:latin typeface="Times New Roman"/>
              </a:rPr>
              <a:t>2/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-11160" y="723960"/>
            <a:ext cx="9153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Arial"/>
              </a:rPr>
              <a:t>Hálózattípusok a feladatmegosztás sze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280" y="1143000"/>
            <a:ext cx="8945640" cy="0"/>
          </a:xfrm>
          <a:prstGeom prst="line">
            <a:avLst/>
          </a:prstGeom>
          <a:ln w="1260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136160" y="3421080"/>
            <a:ext cx="1603080" cy="585720"/>
            <a:chOff x="1136160" y="3421080"/>
            <a:chExt cx="1603080" cy="585720"/>
          </a:xfrm>
        </p:grpSpPr>
        <p:sp>
          <p:nvSpPr>
            <p:cNvPr id="651" name=""/>
            <p:cNvSpPr/>
            <p:nvPr/>
          </p:nvSpPr>
          <p:spPr>
            <a:xfrm flipH="1">
              <a:off x="1135800" y="3460680"/>
              <a:ext cx="1365480" cy="546120"/>
            </a:xfrm>
            <a:custGeom>
              <a:avLst/>
              <a:gdLst>
                <a:gd name="textAreaLeft" fmla="*/ 50400 w 1365480"/>
                <a:gd name="textAreaRight" fmla="*/ 1315080 w 1365480"/>
                <a:gd name="textAreaTop" fmla="*/ 20160 h 546120"/>
                <a:gd name="textAreaBottom" fmla="*/ 4363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08480" y="342108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3365fb"/>
                  </a:solidFill>
                  <a:latin typeface="Times New Roman"/>
                </a:rPr>
                <a:t>sz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403880" y="3807000"/>
            <a:ext cx="1391400" cy="547560"/>
            <a:chOff x="4403880" y="3807000"/>
            <a:chExt cx="1391400" cy="547560"/>
          </a:xfrm>
        </p:grpSpPr>
        <p:sp>
          <p:nvSpPr>
            <p:cNvPr id="654" name=""/>
            <p:cNvSpPr/>
            <p:nvPr/>
          </p:nvSpPr>
          <p:spPr>
            <a:xfrm flipH="1">
              <a:off x="4403880" y="3808440"/>
              <a:ext cx="1155600" cy="546120"/>
            </a:xfrm>
            <a:custGeom>
              <a:avLst/>
              <a:gdLst>
                <a:gd name="textAreaLeft" fmla="*/ 42480 w 1155600"/>
                <a:gd name="textAreaRight" fmla="*/ 1113120 w 1155600"/>
                <a:gd name="textAreaTop" fmla="*/ 20160 h 546120"/>
                <a:gd name="textAreaBottom" fmla="*/ 4363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50280" y="3807000"/>
              <a:ext cx="945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3365fb"/>
                  </a:solidFill>
                  <a:latin typeface="Times New Roman"/>
                </a:rPr>
                <a:t>kli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 flipH="1">
            <a:off x="11880" y="5689440"/>
            <a:ext cx="1155960" cy="546120"/>
          </a:xfrm>
          <a:custGeom>
            <a:avLst/>
            <a:gdLst>
              <a:gd name="textAreaLeft" fmla="*/ 42480 w 1155960"/>
              <a:gd name="textAreaRight" fmla="*/ 1113480 w 1155960"/>
              <a:gd name="textAreaTop" fmla="*/ 20160 h 546120"/>
              <a:gd name="textAreaBottom" fmla="*/ 436320 h 546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417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9360" y="5688000"/>
            <a:ext cx="94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Times New Roman"/>
              </a:rPr>
              <a:t>kli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394000" y="5726160"/>
            <a:ext cx="1391400" cy="547560"/>
            <a:chOff x="2394000" y="5726160"/>
            <a:chExt cx="1391400" cy="547560"/>
          </a:xfrm>
        </p:grpSpPr>
        <p:sp>
          <p:nvSpPr>
            <p:cNvPr id="659" name=""/>
            <p:cNvSpPr/>
            <p:nvPr/>
          </p:nvSpPr>
          <p:spPr>
            <a:xfrm flipH="1">
              <a:off x="2394000" y="5727600"/>
              <a:ext cx="1155600" cy="546120"/>
            </a:xfrm>
            <a:custGeom>
              <a:avLst/>
              <a:gdLst>
                <a:gd name="textAreaLeft" fmla="*/ 42480 w 1155600"/>
                <a:gd name="textAreaRight" fmla="*/ 1113120 w 1155600"/>
                <a:gd name="textAreaTop" fmla="*/ 20160 h 546120"/>
                <a:gd name="textAreaBottom" fmla="*/ 4363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40400" y="5726160"/>
              <a:ext cx="945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3365fb"/>
                  </a:solidFill>
                  <a:latin typeface="Times New Roman"/>
                </a:rPr>
                <a:t>kli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250960" y="5707080"/>
            <a:ext cx="1392120" cy="547560"/>
            <a:chOff x="5250960" y="5707080"/>
            <a:chExt cx="1392120" cy="547560"/>
          </a:xfrm>
        </p:grpSpPr>
        <p:sp>
          <p:nvSpPr>
            <p:cNvPr id="662" name=""/>
            <p:cNvSpPr/>
            <p:nvPr/>
          </p:nvSpPr>
          <p:spPr>
            <a:xfrm flipH="1">
              <a:off x="5250600" y="5708520"/>
              <a:ext cx="1155960" cy="546120"/>
            </a:xfrm>
            <a:custGeom>
              <a:avLst/>
              <a:gdLst>
                <a:gd name="textAreaLeft" fmla="*/ 42480 w 1155960"/>
                <a:gd name="textAreaRight" fmla="*/ 1113480 w 1155960"/>
                <a:gd name="textAreaTop" fmla="*/ 20160 h 546120"/>
                <a:gd name="textAreaBottom" fmla="*/ 4363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98080" y="5707080"/>
              <a:ext cx="945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3365fb"/>
                  </a:solidFill>
                  <a:latin typeface="Times New Roman"/>
                </a:rPr>
                <a:t>kli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718320" y="3840120"/>
            <a:ext cx="1391400" cy="547560"/>
            <a:chOff x="6718320" y="3840120"/>
            <a:chExt cx="1391400" cy="547560"/>
          </a:xfrm>
        </p:grpSpPr>
        <p:sp>
          <p:nvSpPr>
            <p:cNvPr id="665" name=""/>
            <p:cNvSpPr/>
            <p:nvPr/>
          </p:nvSpPr>
          <p:spPr>
            <a:xfrm flipH="1">
              <a:off x="6718320" y="3841920"/>
              <a:ext cx="1155600" cy="545760"/>
            </a:xfrm>
            <a:custGeom>
              <a:avLst/>
              <a:gdLst>
                <a:gd name="textAreaLeft" fmla="*/ 42480 w 1155600"/>
                <a:gd name="textAreaRight" fmla="*/ 1113120 w 1155600"/>
                <a:gd name="textAreaTop" fmla="*/ 20160 h 545760"/>
                <a:gd name="textAreaBottom" fmla="*/ 435960 h 54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7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64720" y="3840120"/>
              <a:ext cx="945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3365fb"/>
                  </a:solidFill>
                  <a:latin typeface="Times New Roman"/>
                </a:rPr>
                <a:t>kli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27000" y="1878120"/>
            <a:ext cx="9070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zerv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általában igen “erős” gép: gyors, nagy tárolókapacitással, erőteljes perifériákkal és egy olyan hálózati operációs rendszerprogrammal, amely gondoskodik a kliensek azonosításáról, igényeinek kiszolgálásáról. A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kliense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legtöbbször egyszerűbb gép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39640" y="1298520"/>
            <a:ext cx="493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kliens- szerver alapú hálóz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735D-F024-4C02-9557-3BCC8498C22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689E21-A232-4A91-AB5A-64481422E00E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hálózatok fogalma és célja</a:t>
            </a:r>
            <a:endParaRPr b="0" lang="en-US" sz="40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A számítógép-hálózatok alatt az egymással kapcsolatban álló számítógépek rendszerét értjük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ecece"/>
                </a:solidFill>
                <a:latin typeface="Arial"/>
              </a:rPr>
              <a:t>Miért előnyös a gépek hálózatba kapcsolása?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erőforrások megosztása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a rendszerben lévő eszközök teljesítményének egyenletesebb megosztása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nagyobb megbízhatóságú működés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költségmegtakarítás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kommunikációs lehetőség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párhuzamos munkavégzés 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B002-66EB-4B88-807B-8D457FFF74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FC85FE-4081-4218-8996-AADC368963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cecece"/>
                </a:solidFill>
                <a:latin typeface="Arial"/>
              </a:rPr>
              <a:t>Mi a WLAN?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WirelessLAN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Wireless: vezeték nélküli </a:t>
            </a:r>
            <a:br>
              <a:rPr sz="2400"/>
            </a:b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nem az egyetlen ilyen technológia! (pl.: Bluetooth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LAN (Local Area Network): helyi hálózat</a:t>
            </a:r>
            <a:br>
              <a:rPr sz="2400"/>
            </a:b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dróttaLAN”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Kisebb kiterjedésű - néhány szobára, épületre kiterjedő – mikrohullámú összeköttetést megvalósító hálózat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0FD8-8867-4124-8487-981BAE19C3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2A4296-7E73-48F6-9E1A-0C59451EE2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cecece"/>
                </a:solidFill>
                <a:latin typeface="Arial"/>
              </a:rPr>
              <a:t>A WLAN előnyei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Nehezen kábelezhető helye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nincs hely a kábeleknek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régi épületek, ahol még kábelcsatornára nem gondoltak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Sok kábelezést igénylő hálózato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rengeteg kábel (gépterem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hosszú kábelek, szétszórt gépek (tanárik, szertárak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Gyakran mozgatott eszközö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szertári gépek: multimédiás oktatás, kísérletek, animációk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notebookok, kézi számítógépek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Távoli összeköttetése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épületek között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távmunka költségek nélkül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0A3F-C71A-410F-B866-70216EC2A4F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0039AE-DCA2-45F7-8F77-587B3CDE6D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3840" cy="65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cecece"/>
                </a:solidFill>
                <a:latin typeface="Arial"/>
              </a:rPr>
              <a:t>Szükséges eszközök</a:t>
            </a:r>
            <a:endParaRPr b="0" lang="en-US" sz="40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4360" y="1268280"/>
            <a:ext cx="2806560" cy="57492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WLAN-kárt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2953080" cy="158580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6012000" y="1341360"/>
            <a:ext cx="2232000" cy="18525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826920" y="33577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Arial"/>
              </a:rPr>
              <a:t>asztali számítógépekbe (PCI, IS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3933720"/>
            <a:ext cx="3527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3"/>
          <a:stretch/>
        </p:blipFill>
        <p:spPr>
          <a:xfrm>
            <a:off x="1332000" y="4437000"/>
            <a:ext cx="2492280" cy="197964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2735280" cy="19573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84360" y="3789360"/>
            <a:ext cx="3528720" cy="57456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AccessPoint (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03640" y="33577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Arial"/>
              </a:rPr>
              <a:t>hordozható eszközökbe (PCM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AE20-BCAC-45F1-A288-D8AE606C76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B891FC-A98B-48B0-9CAE-30E6110DFB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álózati adatvédelem 1</a:t>
            </a: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Hálózati </a:t>
            </a:r>
            <a:r>
              <a:rPr b="0" i="1" lang="hu-HU" sz="2000" spc="-1" strike="noStrike">
                <a:solidFill>
                  <a:srgbClr val="cecece"/>
                </a:solidFill>
                <a:latin typeface="Arial"/>
              </a:rPr>
              <a:t>operációs rendszer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, ill. hálózati </a:t>
            </a:r>
            <a:r>
              <a:rPr b="0" i="1" lang="hu-HU" sz="2000" spc="-1" strike="noStrike">
                <a:solidFill>
                  <a:srgbClr val="cecece"/>
                </a:solidFill>
                <a:latin typeface="Arial"/>
              </a:rPr>
              <a:t>felügyelő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feladata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1. Felhasználók, csoportok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000" spc="-1" strike="noStrike">
                <a:solidFill>
                  <a:srgbClr val="cecece"/>
                </a:solidFill>
                <a:latin typeface="Arial"/>
              </a:rPr>
              <a:t>rendszergazda, felügyelő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(supervisor, administrator, root, sysop, stb.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cecece"/>
                </a:solidFill>
                <a:latin typeface="Arial"/>
              </a:rPr>
              <a:t>feladata a rendszer telepítése, beállítása, működtetése</a:t>
            </a:r>
            <a:endParaRPr b="0" lang="en-US" sz="1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000" spc="-1" strike="noStrike">
                <a:solidFill>
                  <a:srgbClr val="cecece"/>
                </a:solidFill>
                <a:latin typeface="Arial"/>
              </a:rPr>
              <a:t>kezelő, operátor (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consol operator, printer operator, postmaster, stb.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cecece"/>
                </a:solidFill>
                <a:latin typeface="Arial"/>
              </a:rPr>
              <a:t>feladata a rendszer egyes elemeinek működtetése</a:t>
            </a:r>
            <a:endParaRPr b="0" lang="en-US" sz="1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000" spc="-1" strike="noStrike">
                <a:solidFill>
                  <a:srgbClr val="cecece"/>
                </a:solidFill>
                <a:latin typeface="Arial"/>
              </a:rPr>
              <a:t>felhasználó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(user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cecece"/>
                </a:solidFill>
                <a:latin typeface="Arial"/>
              </a:rPr>
              <a:t>a hálózat szolgáltatásait egy munkaállomáson igénybe veszi.</a:t>
            </a:r>
            <a:endParaRPr b="0" lang="en-US" sz="1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000" spc="-1" strike="noStrike">
                <a:solidFill>
                  <a:srgbClr val="cecece"/>
                </a:solidFill>
                <a:latin typeface="Arial"/>
              </a:rPr>
              <a:t>"vendég"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(guest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cecece"/>
                </a:solidFill>
                <a:latin typeface="Arial"/>
              </a:rPr>
              <a:t>automatikusan létrejövő felhasználó, minimális jogokkal.</a:t>
            </a:r>
            <a:endParaRPr b="0" lang="en-US" sz="18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A felhasználók </a:t>
            </a:r>
            <a:r>
              <a:rPr b="0" i="1" lang="hu-HU" sz="2000" spc="-1" strike="noStrike">
                <a:solidFill>
                  <a:srgbClr val="cecece"/>
                </a:solidFill>
                <a:latin typeface="Arial"/>
              </a:rPr>
              <a:t>csoportokba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szervezhetők (</a:t>
            </a:r>
            <a:r>
              <a:rPr b="0" i="1" lang="hu-HU" sz="2000" spc="-1" strike="noStrike">
                <a:solidFill>
                  <a:srgbClr val="cecece"/>
                </a:solidFill>
                <a:latin typeface="Arial"/>
              </a:rPr>
              <a:t>usergroup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azonos feladatok </a:t>
            </a:r>
            <a:r>
              <a:rPr b="0" lang="hu-HU" sz="2000" spc="-1" strike="noStrike">
                <a:solidFill>
                  <a:srgbClr val="cecece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azonos jogok esetén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FC23-A511-472F-BC74-B2A1FC1731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DE5E3C-2366-46C8-B852-3C8BE90FDD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álózati adatvédelem 2</a:t>
            </a: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2. Bejelentkező/jelszó védelem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meghatározza, ki (mikor, honnan, stb.) kapcsolódhat a hálózathoz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azonosító, felhasználói név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 (username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jelszó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(password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3. Hozzáférési védelem 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adott felhasználók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egyes könyvtárakhoz, file-okhoz való hozzáférése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adott könyvtárak, file-k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egyes felhasználók által történő felhasználása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olvasási jog, írási (módosítási) jog, végrehajtási, kezelési jog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F797-560B-45EB-9D7A-A83D6D1769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D761E2-FDBF-44C6-9365-B2C69CBADA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Hálózati védelem 3.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A bejelentkezés szabályozása: időkorlátozás, számlázási rendszer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Jelszavak használata: username, password, tévesen jelentkező kizárása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Védelmi egyenlőségek: felhasználóknak és csoportoknak más csoportok és felhasználók jogait biztosítju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Kezelői jogok (trustee rights):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R(ead) W(rite) C(reate) E(rase) M(odify) F(ile Scan) A(ccess Control) S(upervisory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Könyvtárak és állományok örökölt jog maszkja (inherited rights mask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5C5E-E3AB-4343-A772-EA3F7327A5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141CEF-C2B2-48DE-9A56-55A1898AF2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ecece"/>
                </a:solidFill>
                <a:latin typeface="Arial"/>
              </a:rPr>
              <a:t>Összefoglalás 1.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1. A számítógép-hálózatok feladatai: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közös (osztott) erőforrás-felhasználás </a:t>
            </a: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(perifériák, adatok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felhasználók közötti</a:t>
            </a: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kommunikáció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párhuzamos munkavégzés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2. alkotóelemek: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munkaállomások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(workstation, client),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a </a:t>
            </a: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kiszolgáló egység(ek)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(server),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hálózati perifériá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hálózati csatoló kártyák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átviteli eszköz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2BC0-4E88-4DFF-898F-061D62FDC9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D744CE-724A-43E3-A112-0EF7859CBB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Összefoglalás 2.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cecece"/>
                </a:solidFill>
                <a:latin typeface="Arial"/>
              </a:rPr>
              <a:t>3. Hálózatok hierarchiája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"Client-Server"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, "ügyfél-kiszolgáló"  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"Peer to Peer"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, egyenrangú gépekből álló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cecece"/>
                </a:solidFill>
                <a:latin typeface="Arial"/>
              </a:rPr>
              <a:t>4. Átvivő közeg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kábeles összeköttetések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sodrott, árnyékolt érpár; koaxiális kábel; optikai kábel; 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sodrott érpár (Unshielded Twisted Pair = UTP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árnyékolt sodrott érpár (Shielded Twisted Pair = STP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vezeték nélküli hálózatok 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rádiófrekvenciás;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mikrohullámú;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infravörös;lézersugaras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D582-AA47-4467-B923-1AC0CF0E8B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4DD96B-E21E-4341-91BE-88279C48BD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600" spc="-1" strike="noStrike">
                <a:solidFill>
                  <a:srgbClr val="cecece"/>
                </a:solidFill>
                <a:latin typeface="Arial"/>
              </a:rPr>
              <a:t>Internet (inter-network)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Szolgáltatások: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elektronikus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levelezés 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(e-mail), </a:t>
            </a: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levelezési listák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(mailing list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állományok kezelése: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dok.-ok, programok keresése, fel/letöltése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FTP, gopher, World Wide Web, stb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hírcsoportok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(newsgroups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távoli erőforrások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igénybevétele (</a:t>
            </a: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telnet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egyéb: 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IRC, talk, WAIS, VoIP, stb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88A4-2295-4787-AEF6-FED90ACA51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DA9EC9-6C45-442C-9A4B-E22A0FED68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A TCP/IP címzési rendszer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697800" cy="297792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806760" y="5319720"/>
            <a:ext cx="692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A TCP/IP rendszerben egyetlen, mindenki ál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ismert tulajdonság létezik: az Interne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7663-FB5B-4151-99DE-4C9C1CC962F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6C5B10-B4AA-480B-8A5D-920375E5B4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cecece"/>
                </a:solidFill>
                <a:latin typeface="Arial"/>
              </a:rPr>
              <a:t>A hálózatok alkotóelemei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200" spc="-1" strike="noStrike">
                <a:solidFill>
                  <a:srgbClr val="cecece"/>
                </a:solidFill>
                <a:latin typeface="Arial"/>
              </a:rPr>
              <a:t>munkaállomások 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(workstation, client),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a </a:t>
            </a:r>
            <a:r>
              <a:rPr b="0" i="1" lang="hu-HU" sz="3200" spc="-1" strike="noStrike">
                <a:solidFill>
                  <a:srgbClr val="cecece"/>
                </a:solidFill>
                <a:latin typeface="Arial"/>
              </a:rPr>
              <a:t>kiszolgáló egység(ek) 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(server),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200" spc="-1" strike="noStrike">
                <a:solidFill>
                  <a:srgbClr val="cecece"/>
                </a:solidFill>
                <a:latin typeface="Arial"/>
              </a:rPr>
              <a:t>hálózati perifériák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200" spc="-1" strike="noStrike">
                <a:solidFill>
                  <a:srgbClr val="cecece"/>
                </a:solidFill>
                <a:latin typeface="Arial"/>
              </a:rPr>
              <a:t>hálózati csatoló kártyák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200" spc="-1" strike="noStrike">
                <a:solidFill>
                  <a:srgbClr val="cecece"/>
                </a:solidFill>
                <a:latin typeface="Arial"/>
              </a:rPr>
              <a:t>átviteli eszköz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0AE2-47CF-4830-A273-B6E2B573E2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E30A86-490C-4930-B589-72E561B06B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„</a:t>
            </a: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Koordináták”</a:t>
            </a: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000" spc="-1" strike="noStrike">
                <a:solidFill>
                  <a:srgbClr val="cecece"/>
                </a:solidFill>
                <a:latin typeface="Arial"/>
              </a:rPr>
              <a:t>IP-szám: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195.199.215.209  </a:t>
            </a:r>
            <a:r>
              <a:rPr b="0" lang="hu-HU" sz="2000" spc="-1" strike="noStrike">
                <a:solidFill>
                  <a:srgbClr val="cecece"/>
                </a:solidFill>
                <a:latin typeface="Symbol"/>
                <a:ea typeface="Symbol"/>
              </a:rPr>
              <a:t>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cecece"/>
                </a:solidFill>
                <a:latin typeface="Arial"/>
              </a:rPr>
              <a:t>domain-név: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nov.lkg-bp.sulinet.hu 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központilag kell kezelni, a világon nem lehet két azonos név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geografikus felosztás, funkcionális felosztás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cecece"/>
                </a:solidFill>
                <a:latin typeface="Arial"/>
              </a:rPr>
              <a:t>Top domain nevek: </a:t>
            </a:r>
            <a:r>
              <a:rPr b="0" lang="hu-HU" sz="1800" spc="-1" strike="noStrike">
                <a:solidFill>
                  <a:srgbClr val="cecece"/>
                </a:solidFill>
                <a:latin typeface="Arial"/>
              </a:rPr>
              <a:t>COM, EDU, GOV, MIL, NET, ORG, ARPA, INT, (ISO) „country code” (pl. hu)</a:t>
            </a:r>
            <a:endParaRPr b="0" lang="en-US" sz="1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Név-cím 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összerendelést 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DNS 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(Domain Name Server)-ek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 végzik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cecece"/>
                </a:solidFill>
                <a:latin typeface="Arial"/>
              </a:rPr>
              <a:t>Direkt névfeloldás: </a:t>
            </a:r>
            <a:r>
              <a:rPr b="0" lang="hu-HU" sz="1800" spc="-1" strike="noStrike">
                <a:solidFill>
                  <a:srgbClr val="cecece"/>
                </a:solidFill>
                <a:latin typeface="Arial"/>
              </a:rPr>
              <a:t>domain név ismert, keressük az IP címet</a:t>
            </a:r>
            <a:endParaRPr b="0" lang="en-US" sz="1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cecece"/>
                </a:solidFill>
                <a:latin typeface="Arial"/>
              </a:rPr>
              <a:t>Reverz névfeloldás: </a:t>
            </a:r>
            <a:r>
              <a:rPr b="0" lang="hu-HU" sz="1800" spc="-1" strike="noStrike">
                <a:solidFill>
                  <a:srgbClr val="cecece"/>
                </a:solidFill>
                <a:latin typeface="Arial"/>
              </a:rPr>
              <a:t>IP cím ismert, keressük a domain nevet</a:t>
            </a:r>
            <a:endParaRPr b="0" lang="en-US" sz="1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Szerverek egymás között adatot cserélnek, ha az egyik nem ismeri a címet, feljebb adja a kérést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Minden kiosztott Internet címhez KÖTELEZŐ egy elsődleges - primary - és legalább egy másodlagos - secondary - name server üzemeltetése, amelyek NEM LEHETNEK egyazon helyen (hiba esetén ne álljanak le egyszerre!)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1926-F84E-4A3E-B430-D25C05CC7D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996FFF-20BC-4B13-BC8D-61914DC8D0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Címek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A címzés hierarchikus: vannak hálózatok, és ezen belül gépek (hosztok). Így célszerű a 32 bites címet két részre bontani: egy hálózatot azonosító, és ezen belül egy, a gépet azonosító címre. A címzéseknél a hálózat és hoszt címének szétválasztására cím-maszkokat (netmask) használnak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332000" y="4143240"/>
            <a:ext cx="6335640" cy="19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C51D-57FA-4F26-B89E-1C509C1F417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BC1A68-E4E5-4F93-9DF0-AD70B8181A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Csomagkapcsolás 1.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539892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A csomagkapcsolt rendszerekben az útválasztás (routing) azt a folyamatot jelöli, amivel kiválasztjuk az útvonalat (path), amin a csomagot továbbküldjük és a útvonal választó (router) az a számítógép (IMP), amely ezt végrehajtja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Az útválasztó olyan eszköz, amelynek több hálózati csatolója van, és mindegyik más (helyi) hálózathoz csatlakozik. Az útválasztó csomagokat fogad el a hozzá csatlakozó hálózatok gépeitől, és továbbítja ezeket valamelyik hálózati csatolóján. Azt hogy melyiken küldje tovább, a memóriájában lévő útválasztási tábla (routing table) alapján határozza meg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6300720" y="1700280"/>
            <a:ext cx="250056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AA05-7098-4C7F-971E-FEB754CF153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AF070B-2456-40B3-B24F-F68B282CFF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Internet alkalmazási protokollok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SMTP -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Simple Mail Transfer Protocol egy alkalmazási protokoll, amely a hálózati felhasználók egymással való kommunikációját teszi lehetővé. Leveleket tud küldeni és fogadni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TELNET -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Terminál emuláció segítségével a saját géppel egy távoli hosztra felhasználóként lehet bejelentkezni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FTP -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File Transfer Protocol A fájl átviteli eljárás segítségével a felhasználónak lehetővé teszi könyvtár és fájlműveletek végrehajtását a saját gépe és egy távoli hoszt lemezegysége között. Pl.: fájlokat vihet át, törölhet, átnevezhet fájlokat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HTTP -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HyperText Transport Protocol (+ HTTP</a:t>
            </a: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E9FE-5157-44E9-9EB4-3002AEE46ED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869CFC-728E-42A7-BE59-0E608512D1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ecece"/>
                </a:solidFill>
                <a:latin typeface="Arial"/>
              </a:rPr>
              <a:t>E-mail (elektronikus levelezés)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Az E-mail az Internet egyik első lehetősége volt, amely még mindig a legnépszerűbb. Az Internet teljes forgalmának nagy részét ez teszi ki.  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Lényegében off-line, de a “kézbesítés” kevesebb, mint egy perc alatt megtörténhet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Pont-pont összeköttetés, viszont ugyanaz a levél egyszerre több különböző címre is elküldhető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Küldhető: 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egyszerű (</a:t>
            </a:r>
            <a:r>
              <a:rPr b="0" lang="hu-HU" sz="2000" spc="-1" strike="noStrike" u="sng">
                <a:solidFill>
                  <a:srgbClr val="cecece"/>
                </a:solidFill>
                <a:uFillTx/>
                <a:latin typeface="Arial"/>
              </a:rPr>
              <a:t>ASCII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) vagy formázott (HTML) szöveg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csatolt bináris fájl (kép, hang, ...) 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voice- vagy videomail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E-mail kliens programok pl.: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Pegazus Mail, Netscape, Outlook Express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F90E-4DC5-4B24-ACF9-6B2C149839E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37DCA6-4F2B-4EBB-9581-679D08969824}" type="datetime1">
              <a:rPr lang="en-US"/>
              <a:t>07/29/26</a:t>
            </a:fld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cecece"/>
                </a:solidFill>
                <a:latin typeface="Arial"/>
              </a:rPr>
              <a:t>A címzés általános formája: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1800" spc="-1" strike="noStrike">
                <a:solidFill>
                  <a:srgbClr val="fafd00"/>
                </a:solidFill>
                <a:latin typeface="Arial"/>
              </a:rPr>
              <a:t>felhasználói_név@gépnév.domain_név.subdomain_név.ország</a:t>
            </a:r>
            <a:endParaRPr b="0" lang="en-US" sz="18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1. A levél részei: 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adress</a:t>
            </a: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 (cím): </a:t>
            </a: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valaki@valahol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subject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(a levél </a:t>
            </a: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tárgya): 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maximum egy sor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message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(</a:t>
            </a: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üzenet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): maga a </a:t>
            </a: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levél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D2DB-6136-4FF4-A8F0-0026586D013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3A8565-1ED4-48BF-A283-68D6076830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Levelező programok fontosabb szolgáltatásai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új levél megírása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(compose message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elküldése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(send), </a:t>
            </a: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másolattal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(cc), </a:t>
            </a: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"aláírással"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(sign), </a:t>
            </a: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csatolt állománnyal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(attachment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kapott levél elolvasása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(read, view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továbbítása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(forward), </a:t>
            </a: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átirányítása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(bounce), </a:t>
            </a:r>
            <a:r>
              <a:rPr b="0" i="1" lang="hu-HU" sz="2400" spc="-1" strike="noStrike">
                <a:solidFill>
                  <a:srgbClr val="cecece"/>
                </a:solidFill>
                <a:latin typeface="Arial"/>
              </a:rPr>
              <a:t>válasz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küldése (reply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levelek </a:t>
            </a: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mentése, nyomtatása, törlése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2800" spc="-1" strike="noStrike">
                <a:solidFill>
                  <a:srgbClr val="cecece"/>
                </a:solidFill>
                <a:latin typeface="Arial"/>
              </a:rPr>
              <a:t>címlista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(adress-book) használata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7662-8EC8-4EFD-9D24-21292BC95A1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6F977E-4E8D-49FC-825C-F59CBD31C8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E-mail 3.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A levelek küldését és fogadását ténylegesen egy, folyamatos hálózati kapcsolattal rendelkező számítógépen futó program, a </a:t>
            </a:r>
            <a:r>
              <a:rPr b="1" i="1" lang="hu-HU" sz="2800" spc="-1" strike="noStrike">
                <a:solidFill>
                  <a:srgbClr val="cecece"/>
                </a:solidFill>
                <a:latin typeface="Arial"/>
              </a:rPr>
              <a:t>mail-szerver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 (levelezés kiszolgáló 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  <a:ea typeface="Arial"/>
              </a:rPr>
              <a:t>– 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SMTP szerver) végzi. Vannak olyan szerverek, amelyek csak a levelek fogadására alkalmasak (POP3 szerver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D8AC-606A-4F78-A0B7-929233F714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656813-0AF1-4E56-BD2A-3624EB6DE1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Levelezési listák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Off-line. Egy e-mail kezelő program is elég a használatához. 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Aki fel van iratkozva egy listára, az automatikusan megkap minden levelet, amelyet a tagok a lista címére küldenek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“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Sugárzott” Aki a listára küld egy e-mail-t (pl. tanácsot kér az adott témában) nem biztos, hogy pontosan tudja kik ill. hányan fogják azt megkapni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2F7F-FA18-4AE4-AC3F-5B6F57E9CA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AE0BDE-C315-4C02-839B-FD5E3F75C4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cecece"/>
                </a:solidFill>
                <a:latin typeface="Arial"/>
              </a:rPr>
              <a:t>Hírcsoportok (News groups)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300" spc="-1" strike="noStrike">
                <a:solidFill>
                  <a:srgbClr val="cecece"/>
                </a:solidFill>
                <a:latin typeface="Arial"/>
              </a:rPr>
              <a:t>A hírcsoport (news group) valamilyen adott tárgyban tartalmaz hozzászólásokat, üzeneteket. Ezeket egy szerverre (news server) kell küldeni, és innen továbbítódik az Usenet-en keresztül a többi szerverhez.  </a:t>
            </a:r>
            <a:endParaRPr b="0" lang="en-US" sz="23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300" spc="-1" strike="noStrike">
                <a:solidFill>
                  <a:srgbClr val="cecece"/>
                </a:solidFill>
                <a:latin typeface="Arial"/>
              </a:rPr>
              <a:t>A hírcsoportok hierarchikusan szervezettek. </a:t>
            </a:r>
            <a:endParaRPr b="0" lang="en-US" sz="23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300" spc="-1" strike="noStrike">
                <a:solidFill>
                  <a:srgbClr val="cecece"/>
                </a:solidFill>
                <a:latin typeface="Arial"/>
              </a:rPr>
              <a:t>Néhány fő téma kategoria pl.: soc (society), sci (science), comp (computers), hun (hungarian). </a:t>
            </a:r>
            <a:endParaRPr b="0" lang="en-US" sz="23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300" spc="-1" strike="noStrike">
                <a:solidFill>
                  <a:srgbClr val="cecece"/>
                </a:solidFill>
                <a:latin typeface="Arial"/>
              </a:rPr>
              <a:t>A felhasználók üzenhetnek egy már meglévő csoportba, de létrehozhatnak új csoportokat is. </a:t>
            </a:r>
            <a:endParaRPr b="0" lang="en-US" sz="23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300" spc="-1" strike="noStrike">
                <a:solidFill>
                  <a:srgbClr val="cecece"/>
                </a:solidFill>
                <a:latin typeface="Arial"/>
              </a:rPr>
              <a:t>Moderált / nem moderált newsgroup</a:t>
            </a:r>
            <a:endParaRPr b="0" lang="en-US" sz="23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D550-601F-4F39-BC0B-7291F2412B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C9F34C-701A-4BA7-8348-2CEC377816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Hálózatok kiterjedtsége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200" spc="-1" strike="noStrike">
                <a:solidFill>
                  <a:srgbClr val="cecece"/>
                </a:solidFill>
                <a:latin typeface="Arial"/>
              </a:rPr>
              <a:t>helyi hálózatok 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(Local Area Network, </a:t>
            </a:r>
            <a:r>
              <a:rPr b="0" i="1" lang="hu-HU" sz="3200" spc="-1" strike="noStrike">
                <a:solidFill>
                  <a:srgbClr val="cecece"/>
                </a:solidFill>
                <a:latin typeface="Arial"/>
              </a:rPr>
              <a:t>LAN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[</a:t>
            </a:r>
            <a:r>
              <a:rPr b="0" i="1" lang="hu-HU" sz="3200" spc="-1" strike="noStrike">
                <a:solidFill>
                  <a:srgbClr val="cecece"/>
                </a:solidFill>
                <a:latin typeface="Arial"/>
              </a:rPr>
              <a:t>városi hálózatok 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(Metropolitan Area Network, </a:t>
            </a:r>
            <a:r>
              <a:rPr b="0" i="1" lang="hu-HU" sz="3200" spc="-1" strike="noStrike">
                <a:solidFill>
                  <a:srgbClr val="cecece"/>
                </a:solidFill>
                <a:latin typeface="Arial"/>
              </a:rPr>
              <a:t>MAN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hu-HU" sz="3200" spc="-1" strike="noStrike">
                <a:solidFill>
                  <a:srgbClr val="cecece"/>
                </a:solidFill>
                <a:latin typeface="Arial"/>
              </a:rPr>
              <a:t>kiterjedt hálózat 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(Wide Area Network, </a:t>
            </a:r>
            <a:r>
              <a:rPr b="0" i="1" lang="hu-HU" sz="3200" spc="-1" strike="noStrike">
                <a:solidFill>
                  <a:srgbClr val="cecece"/>
                </a:solidFill>
                <a:latin typeface="Arial"/>
              </a:rPr>
              <a:t>WAN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3E97-AC9E-4AA6-866C-5329803FAF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49AEEC-EC9B-4956-BE9A-E3BE3872F8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600" spc="-1" strike="noStrike">
                <a:solidFill>
                  <a:srgbClr val="cecece"/>
                </a:solidFill>
                <a:latin typeface="Arial"/>
              </a:rPr>
              <a:t>Telnet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Telnet segítségével távolról is hozzáférhetünk valaki más számítógépéhez, ha az megengedett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A Telnettel bejelentkezhetünk az adott gépre, megkapjuk mindazon jogokat (adatokhoz, programokhoz), mintha előtte ülnénk. 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A Telnet a gépek közti távoli bejelentkezést lehetővé tevő protokoll neve. Egy távoli gépre úgy lehet belépni, mintha egy terminálja előtt ülnénk. Account és jelszó szükséges. Ez is folyamatos (on-line) hálózati kapcsolatot igényel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Biztonsági problémák: </a:t>
            </a: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SSH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  <a:ea typeface="Arial"/>
              </a:rPr>
              <a:t>– 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Secure SHell 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0E21-178A-49C6-9C2E-EE0B85088D0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F72381-00DD-4519-80BE-A5B64A5AA9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200" spc="-1" strike="noStrike">
                <a:solidFill>
                  <a:srgbClr val="cecece"/>
                </a:solidFill>
                <a:latin typeface="Arial"/>
              </a:rPr>
              <a:t>FTP (File Transfer Protocol)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64720" cy="45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Courier New"/>
              </a:rPr>
              <a:t>ftp &gt; open ames.arc.nasa.gov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Courier New"/>
              </a:rPr>
              <a:t>Connected to ames.arc.nasa.gov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Courier New"/>
              </a:rPr>
              <a:t>220 ames.arc.nasa.gov FTP server (SunOS 4.1) ready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Courier New"/>
              </a:rPr>
              <a:t>Name (ames.arc.nasa.gov:(none)): anonymous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Courier New"/>
              </a:rPr>
              <a:t>331 Guest login ok, send ident as password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Courier New"/>
              </a:rPr>
              <a:t>Password:                          </a:t>
            </a:r>
            <a:r>
              <a:rPr b="1" lang="hu-HU" sz="2000" spc="-1" strike="noStrike">
                <a:solidFill>
                  <a:srgbClr val="cecece"/>
                </a:solidFill>
                <a:latin typeface="Symbol"/>
                <a:ea typeface="Symbol"/>
              </a:rPr>
              <a:t>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 e-mail cím!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Courier New"/>
              </a:rPr>
              <a:t>230 Guest login ok, access restrictions apply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Courier New"/>
              </a:rPr>
              <a:t>ftp&gt;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Az ftp protokoll a hálózatban lévő gépeken megtalálható fájlok átvitelére szolgál. On-line hálózati kapcsolatot igényel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Biztonsági problémák: SCP 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  <a:ea typeface="Arial"/>
              </a:rPr>
              <a:t>– 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Secure CoPy 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Kliensek: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pl. Total Commander, WinSCP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A411-03A2-47F6-883F-6E66BF10D9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33E23B-135A-4601-8A53-D67D3C0077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Fontosabb FTP parancsok 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close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kilépés a gépről, ahová beléptünk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bye 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ugyanaz, mint a close, de az </a:t>
            </a:r>
            <a:r>
              <a:rPr b="0" i="1" lang="hu-HU" sz="2000" spc="-1" strike="noStrike">
                <a:solidFill>
                  <a:srgbClr val="cecece"/>
                </a:solidFill>
                <a:latin typeface="Arial"/>
              </a:rPr>
              <a:t>ftp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programot is elhagyjuk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ls 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a gépen lévő aktuális könyvtár tartalmát listázza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cd 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a távoli gépen könyvtárt váltunk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cdup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egy szinten feljebb lép (vagy 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cd ..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bin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8 bites átviteli módba vált (képek, ékezetes szövegek, 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programok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ascii 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7 bites átviteli módba vált (éktelen szövegek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put 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egy file-t a helyi gépről a távolira küldünk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get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egy file-t lehoz a távoli gépről a helyire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mput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több file küldése egyszerre (joker (*) használható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mget</a:t>
            </a: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több file letöltése egyszerre 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69C8-C2ED-4D63-A327-ECC11A8AC1A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E77C11-E2D9-4C79-B467-CD460BF9CD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World Wide Web 1.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3840" cy="45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A WWW általános ügyfél-kiszolgáló hálózati koncepcióra épül. Az információszolgáltató gépeken egy WWW kiszolgálóprogram (Web szerver) program fut, amely a felhasználók gépein futó böngésző-programok (Netscape, Explorer) által küldött kérésnek megfelelően elküldi a kért információt az adott gépre, amely ebben az esetben az ügyfél (kliens)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A dokumentumok logikai struktúráját a HTML (Hyper Text Markup Language) jelölései segítségével lehet szabályozni. A dokumentum fogalmát itt általánosabban kell értelmeznünk: ezek objektumok, amelyek lehetnek: szöveg, kép(grafika), hang (zene), de akár mozgókép (film) is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FFCC-DDA3-494C-8ED0-827D4F53A0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CA64FE-0769-4EF4-834E-77F40A5A68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World Wide Web 2.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A hálózaton az objektumok, illetve ezek részei közötti kapcsolatok magába a szövegbe épülnek be megjelölt szavak és grafikus elemek formájában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Amikor egy ilyenre a felhasználó az egérrel rákattint, a rendszer automatikusan létrehozza a kapcsolatot, és a kapcsolt objektumot megjeleníti a képernyőn (vagy ha hang, lejátssza...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A kapcsolt objektum is tartalmazhat további kapcsolásokat különböző objektumokhoz, amelyek elvileg a hálózaton bárhol lehetnek. A WWW úgy is tekinthető, mint egy dinamikus információ tömeg, amelyben a hypertext segítségével kapcsolatok (linkek) vannak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279A-5BDF-44D4-83B8-22DD1A2B6EB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F2AB26-D5D3-47FA-8148-CD51C82C3A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URL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cecece"/>
                </a:solidFill>
                <a:latin typeface="Arial"/>
              </a:rPr>
              <a:t>Uniform Resource Locator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  <a:ea typeface="Arial"/>
              </a:rPr>
              <a:t>– 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egységes forrásazonosító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megadja a megjelenítő program számára, hogy az adott szövegrészhez, képhez, grafikához kapcsolt dokumentumot milyen módszerrel lehet megjeleníteni, milyen típusú kapcsolatot kell felépíteni, illetve hogy ez a forrás hol, az Internetre kapcsolt gépek közül melyiken található. Például: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fafd00"/>
                </a:solidFill>
                <a:latin typeface="Arial"/>
              </a:rPr>
              <a:t>http://nov.lkg-bp.sulinet.hu/infbz/index.htm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protokoll - az adott forrás eléréséhez (ftp, http, gopher stb.);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kiszolgálónak az Internet-nevét, 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a kiszolgáló portjának a számát (alapértelmezett: 80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a forrás helyét a kiszolgáló lemezegységének állomány-rendszerében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FDFB-C4BC-4FA3-B906-8A67FFDA1B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265C43-1459-4C06-BA58-81447557AF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cecece"/>
                </a:solidFill>
                <a:latin typeface="Arial"/>
              </a:rPr>
              <a:t>Netikett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A világháló egy hatalmas szellemi értéket képviselő rendszer. Éppen ezért a felhasználóinak vállalniuk kell azokat az 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írott</a:t>
            </a: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 és </a:t>
            </a:r>
            <a:r>
              <a:rPr b="1" lang="en-US" sz="2800" spc="-1" strike="noStrike">
                <a:solidFill>
                  <a:srgbClr val="cecece"/>
                </a:solidFill>
                <a:latin typeface="Arial"/>
              </a:rPr>
              <a:t>íratlan</a:t>
            </a: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 szabályokat, amelyek a hálózat ésszerű, és egymást nem sértő használatát szolgálják. A cél nem a felhasználás korlátozása, hanem a lehetőségek teljes körű és biztonságos kiaknázása. 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Egy ökölszabály: légy konzervatív a küldésben és légy liberális a fogadásban. 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0F1F-D199-42F4-B5D8-A4C6C0475512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231D37-57D2-4DBE-9F5E-D95A3D6859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Jog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-8128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A személyhez fűződő jogok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A szerzői jog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A számítógépi programalkotás (szoftver) szabályozása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D801-1E90-49BD-981C-C65E795CCF7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56A5AB-E43F-4678-AA8D-65BD7565F1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„</a:t>
            </a: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Vírusok”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Miért kártékony programok?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erőforrásokat kötnek le (CPU, memória, lemez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program, vagy adatvesztést okozhatnak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még súlyosabb a kár, ha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hibás a víruskód (DOS boot vírus UNIX lemezen)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laikus, kapkodó felhasználó kezd el írtani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erkölcsi károkat okozhat a cégeknek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Foglalkozni kell velük! Embereket, pénzt</a:t>
            </a: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, id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őt kötnek le!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26AD-1572-493C-899B-E0E43B4CC98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721DBE-E7EA-4109-B336-A44F9CF5EF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ecece"/>
                </a:solidFill>
                <a:latin typeface="Arial"/>
              </a:rPr>
              <a:t>Kártékony programok csoportosítása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600" spc="-1" strike="noStrike">
                <a:solidFill>
                  <a:srgbClr val="cecece"/>
                </a:solidFill>
                <a:latin typeface="Arial"/>
              </a:rPr>
              <a:t>Vírusok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Rendszervírusok (boot szektor, MBR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Programvírusok („klasszikus” vírusok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Alkalmazás vírusok (makróvírusok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Egyéb kártékony programok (MalWare)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1720-0C2A-45C2-A87C-30A5F993EFE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AEC142-404C-484A-BA8F-A6669C19CA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7120" y="79200"/>
            <a:ext cx="3814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fafd00"/>
                </a:solidFill>
                <a:latin typeface="Arial"/>
              </a:rPr>
              <a:t>Számítógéphálóz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62640" y="12528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41360" y="193680"/>
            <a:ext cx="53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200" y="1668600"/>
            <a:ext cx="54864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dfca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A valódi lokális hálózatok kiépítéséhez először a számítógépbe kell építeni egy illesztő kártyát.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álózati kártya </a:t>
            </a: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típusát össze kell hangolni a többi (hardver és szoftver) hálózati elemm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fff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A második  feltétel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ábelezés</a:t>
            </a: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 megléte. Ezek a kábelek hordozzák az információt, ezért ezt nagyon gondosan kell tervezni és építe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harmadik elengedhetetlen része egy működő hálózatnak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álózati szoftver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45040" y="5861160"/>
          <a:ext cx="890640" cy="79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45040" y="5861160"/>
                    <a:ext cx="8906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25560" y="1187280"/>
            <a:ext cx="1168920" cy="389520"/>
            <a:chOff x="25560" y="1187280"/>
            <a:chExt cx="1168920" cy="389520"/>
          </a:xfrm>
        </p:grpSpPr>
        <p:sp>
          <p:nvSpPr>
            <p:cNvPr id="59" name=""/>
            <p:cNvSpPr/>
            <p:nvPr/>
          </p:nvSpPr>
          <p:spPr>
            <a:xfrm>
              <a:off x="25560" y="1187280"/>
              <a:ext cx="1130040" cy="368640"/>
            </a:xfrm>
            <a:prstGeom prst="cube">
              <a:avLst>
                <a:gd name="adj" fmla="val 24986"/>
              </a:avLst>
            </a:prstGeom>
            <a:solidFill>
              <a:srgbClr val="fc0128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6600" y="1244520"/>
              <a:ext cx="94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Hard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-11160" y="716040"/>
            <a:ext cx="9147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Több gép összekapcsolása, valódi 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131320" y="4032360"/>
          <a:ext cx="89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31320" y="4032360"/>
                    <a:ext cx="89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494400" y="2185920"/>
          <a:ext cx="192564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94400" y="2185920"/>
                    <a:ext cx="19256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329520" y="5045040"/>
          <a:ext cx="1741320" cy="169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29520" y="5045040"/>
                    <a:ext cx="17413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71280" y="1143000"/>
            <a:ext cx="8945640" cy="0"/>
          </a:xfrm>
          <a:prstGeom prst="line">
            <a:avLst/>
          </a:prstGeom>
          <a:ln w="1260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06AE-D428-4329-A6C8-1AA49B016A8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00FF72-3BB8-403D-8C72-03F82AEEC6DC}" type="datetime1">
              <a:rPr lang="en-US"/>
              <a:t>07/29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Vírusok meghatározása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Olyan programok, melyek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a rendszerbe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ENGEDÉLY NÉLKÜL</a:t>
            </a: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 lépnek be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önmaguk (esetleg módosított) változatát más, „gazda” programokhoz fűzve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SZAPORODNA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bizonyos feltételek teljesülése esetén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ROMBOLHATNAK </a:t>
            </a: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(nem biztos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658E-B702-4B4E-B81E-E60BEA17E00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092960-4371-44EB-BC5D-DA7574C210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cecece"/>
                </a:solidFill>
                <a:latin typeface="Arial"/>
              </a:rPr>
              <a:t>Boot vírusok működése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Mivel az MBR-ben, illetve a boot rekordban található program indul először (még az operációs rendszer betöltése előtt !!!), feltétlen ellenőrzése alá vonhatja a vírus a gépet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afd00"/>
                </a:solidFill>
                <a:latin typeface="Arial"/>
              </a:rPr>
              <a:t>Megelőzés: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 Hardver (alaplap, kártya) védelem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afd00"/>
                </a:solidFill>
                <a:latin typeface="Arial"/>
              </a:rPr>
              <a:t>Helyreállítás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: FDISK /MBR, vírusirtó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881B-5405-4F0F-AE8D-AB9CF572633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70B823-2E14-462C-B713-1BBC00D73D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Programvírusok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fafd00"/>
                </a:solidFill>
                <a:latin typeface="Arial"/>
              </a:rPr>
              <a:t>Megfertőzhető állományo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COM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Max. 64 Kbájt hosszú (COMMAND.COM!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EXE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Kicsit bonyolultabb szerkezet (EXE Header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SYS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Eszközmeghajtó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OVL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Overlay állományo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BIN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végrehajtható kódú bináris állomány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OBJ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LIB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Tárgykódos vagy könyvtárállományo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Egyéb Windows-os állományok (DLL, PIF, DOT, stb.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124D-A84E-4DFD-ADF6-C1E69459A3D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FDF586-F180-4DDB-93AA-1837607D8C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A számítógépvírus részei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Reprodukciós rutin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Aktiválási mechanizmus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ellenőrzi bizonyos feltételek teljesülését, illetve események bekövetkezését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ha a feltételek teljesülnek, aktiválja a vírust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Objektív (büntető) rutin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romboló utasítások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reklámszövegek”, ijesztgető feliratok stb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F040-33AE-44FA-BAB2-80B79D7C38A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9EFE12-2E54-405A-A373-6799BF4B78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Vírusok csoportosítása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Generációk szerint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Fertőzési sebesség szerint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Visszafejthetőség szerint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Objektív (büntető) rutin szerint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Elhelyezkedés szerint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Fájlban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Memóriában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84AC-0600-4376-B3D8-1B580351BA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70EC9C-2E61-4E64-BDD6-95CCCF71AB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600" spc="-1" strike="noStrike">
                <a:solidFill>
                  <a:srgbClr val="cecece"/>
                </a:solidFill>
                <a:latin typeface="Arial"/>
              </a:rPr>
              <a:t>Makróvírusok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800" spc="-1" strike="noStrike">
                <a:solidFill>
                  <a:srgbClr val="cecece"/>
                </a:solidFill>
                <a:latin typeface="Arial"/>
              </a:rPr>
              <a:t>Mi is az a makró?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3300"/>
                </a:solidFill>
                <a:latin typeface="Arial"/>
              </a:rPr>
              <a:t>Makró </a:t>
            </a: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= névvel rendelkező, automatikusan ismételhető utasítássorozat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3300"/>
                </a:solidFill>
                <a:latin typeface="Arial"/>
              </a:rPr>
              <a:t>Operációs rendszerek makrói:</a:t>
            </a:r>
            <a:br>
              <a:rPr sz="2800"/>
            </a:b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DOS (OS/2) batch, Macro Assembler, Windows 3.x Makrórögzítő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ff3300"/>
                </a:solidFill>
                <a:latin typeface="Arial"/>
              </a:rPr>
              <a:t>Alkalmazások makrói:</a:t>
            </a:r>
            <a:br>
              <a:rPr sz="2800"/>
            </a:b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Word, Excel, AmiPro, Lotus, Access stb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DEB3-4BEE-4B10-9097-06B786F31A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82167F-A762-43AE-AA16-3D0C695E38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cecece"/>
                </a:solidFill>
                <a:latin typeface="Arial"/>
              </a:rPr>
              <a:t>Makróvírusok gyarapodása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Internet letöltések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E-mail csatolások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Egységes dokumentumkezelés (OLE2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Floppy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CD mellékletes „balesetek”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810240" cy="27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69CC-0D9D-4942-B5EB-0C26EFBBFC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F768D7-96CB-4D94-A99A-3EB2E7C2DF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cecece"/>
                </a:solidFill>
                <a:latin typeface="Arial"/>
              </a:rPr>
              <a:t>Makróvírusok tulajdonságai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Csak a makrónyelv lehetőségei között mozoghat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Nagy CPU és memóriaigény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lelassul a futás, könnyebben észrevehető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Fertőzés területei: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doc, dot, xl?, smm, mdb, wp*, wk*, wiz, wzs, cdr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FD12-45CB-4F56-AC63-7CFB0119F8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83D865-D5AC-44C7-AF1C-A23DBCE155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3600" spc="-1" strike="noStrike">
                <a:solidFill>
                  <a:srgbClr val="cecece"/>
                </a:solidFill>
                <a:latin typeface="Arial"/>
              </a:rPr>
              <a:t>Makróvírusok detektálása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Menüpontok eltűnése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Mentési formátumok megváltozása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Megváltoznak az eszköztár, makró beállítások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Lassul a gép, nagy állományok keletkeznek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Szokatlan grafikák, szövegek a képernyőn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Mentési nehézségek (</a:t>
            </a:r>
            <a:r>
              <a:rPr b="0" i="1" lang="en-US" sz="2800" spc="-1" strike="noStrike">
                <a:solidFill>
                  <a:srgbClr val="cecece"/>
                </a:solidFill>
                <a:latin typeface="Arial"/>
              </a:rPr>
              <a:t>Már létezik, Tele a lemez</a:t>
            </a: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8D16-1A5C-4010-A9F4-33E0D64CC41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F3DEE6-C3CE-40E4-83CE-B43EA2A847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cecece"/>
                </a:solidFill>
                <a:latin typeface="Arial"/>
              </a:rPr>
              <a:t>Makróvírusok megelőzése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Víruskapuk ellenőrzése (floppy, mail, www, ftp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AutoMacro-k letiltása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Másolatok készítése (sablonokról is!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Normal.dot csak olvashatóvá tétele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Office 97- makróellenőrzési lehetőségei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Makrókat nem ismerő nézegetők, formátumok használata (WordView, RTF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BAA1-7AE2-4351-9295-DA1A16FE61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1FFF4B-DBA5-4A08-88A7-BAA4E30C29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41360" y="193680"/>
            <a:ext cx="53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49600" y="3156120"/>
          <a:ext cx="1520640" cy="13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9600" y="3156120"/>
                    <a:ext cx="152064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130800" y="3041640"/>
          <a:ext cx="1521000" cy="136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30800" y="3041640"/>
                    <a:ext cx="1521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44280" y="844560"/>
            <a:ext cx="1169280" cy="389520"/>
            <a:chOff x="44280" y="844560"/>
            <a:chExt cx="1169280" cy="389520"/>
          </a:xfrm>
        </p:grpSpPr>
        <p:sp>
          <p:nvSpPr>
            <p:cNvPr id="78" name=""/>
            <p:cNvSpPr/>
            <p:nvPr/>
          </p:nvSpPr>
          <p:spPr>
            <a:xfrm>
              <a:off x="44280" y="844560"/>
              <a:ext cx="1130400" cy="368280"/>
            </a:xfrm>
            <a:prstGeom prst="cube">
              <a:avLst>
                <a:gd name="adj" fmla="val 24986"/>
              </a:avLst>
            </a:prstGeom>
            <a:solidFill>
              <a:srgbClr val="fc0128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5680" y="901800"/>
              <a:ext cx="94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Hard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24000" y="4941720"/>
            <a:ext cx="8572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dfca"/>
                </a:solidFill>
                <a:latin typeface="Times New Roman"/>
              </a:rPr>
              <a:t>A topológia tehát gráfként vizsgálja a hálózatot, azaz nem érzékeny a távolságra, az elemek elhelyezkedésére, csak a pontok, vonalak meglétére és kapcsolataikra.</a:t>
            </a: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dfca"/>
                </a:solidFill>
                <a:uFillTx/>
                <a:latin typeface="Times New Roman"/>
              </a:rPr>
              <a:t>A konkrét elhelyezkedés a hálózati </a:t>
            </a:r>
            <a:r>
              <a:rPr b="0" lang="en-US" sz="2400" spc="-1" strike="noStrike" u="sng">
                <a:solidFill>
                  <a:srgbClr val="7fff00"/>
                </a:solidFill>
                <a:uFillTx/>
                <a:latin typeface="Times New Roman"/>
              </a:rPr>
              <a:t>topográfia</a:t>
            </a:r>
            <a:r>
              <a:rPr b="0" lang="en-US" sz="2400" spc="-1" strike="noStrike" u="sng">
                <a:solidFill>
                  <a:srgbClr val="00dfca"/>
                </a:solidFill>
                <a:uFillTx/>
                <a:latin typeface="Times New Roman"/>
              </a:rPr>
              <a:t> tárg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5120" y="689040"/>
            <a:ext cx="322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hálózati topoló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415880"/>
            <a:ext cx="8750160" cy="1244880"/>
          </a:xfrm>
          <a:prstGeom prst="rect">
            <a:avLst/>
          </a:prstGeom>
          <a:solidFill>
            <a:srgbClr val="fc0128"/>
          </a:solidFill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440000"/>
            <a:ext cx="87282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zámítógépes hálózatok topológiája  a hálózat elemeinek összeköttetését leíró gráfokkal kapcsolat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A hálózat elemei végpontok  (számítógépek), csomópontok, átviteli utak (pl. kábelek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3130560"/>
            <a:ext cx="3168720" cy="1549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353520 h 1549440"/>
              <a:gd name="textAreaBottom" fmla="*/ 1195920 h 15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2480" y="3333600"/>
            <a:ext cx="5623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1357-8760-4B91-B523-1A141C8716A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1890D5-DAA4-423F-89E8-B1FED97D0361}" type="datetime1">
              <a:rPr lang="en-US"/>
              <a:t>07/29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400" spc="-1" strike="noStrike">
                <a:solidFill>
                  <a:srgbClr val="cecece"/>
                </a:solidFill>
                <a:latin typeface="Arial"/>
              </a:rPr>
              <a:t>MalWare típusok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Ezeket sem szeretjük, de vírusoknak a definíció alapján mégsem tekinthetők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rójai programok</a:t>
            </a: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(nem szaporodnak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SI bombák</a:t>
            </a: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(nem szaporodnak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gramférgek</a:t>
            </a: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(nincs „gazda” program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írushordozók</a:t>
            </a: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(csak a „termék” kártékony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írusgenerátorok</a:t>
            </a: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(csak a „termék” kártékony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22A2-3392-4AF2-A853-6D9FF8BEB8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9E872C-D52C-4B7C-9D7B-4FE5BF0B51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Vírusbehatolási pontok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611280" y="1989000"/>
          <a:ext cx="777240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777240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AE55-531C-4B1B-B2B2-36CD50D8C62D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97CF3F-155A-4903-9D0F-C5B75FBA54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Károkozók típus szerinti megoszlása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87280" y="1413000"/>
          <a:ext cx="8856720" cy="44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413000"/>
                    <a:ext cx="885672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63EC-08DF-4F14-B364-16AC77521A0B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F95A86-6C59-4F96-9AB7-917091D292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Trójai programok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Olyan program, ami látszólag hasznosat, vagy érdekeset csinál, de káros, nem kívánt mellékfunkciókat is végrehajt mellette.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400" spc="-1" strike="noStrike">
                <a:solidFill>
                  <a:srgbClr val="cecece"/>
                </a:solidFill>
                <a:latin typeface="Arial"/>
              </a:rPr>
              <a:t>Jellemző változatai: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Hálózat felderítő programok (pl. login.exe módosítása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Másolásvédelem (pl. BIOS sorszám figyelése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Beépített vírust tartalmazó programok (adott feltétel teljesülése esetén szabadon engedi a vírust) 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cecece"/>
                </a:solidFill>
                <a:latin typeface="Arial"/>
              </a:rPr>
              <a:t>Időzített bombát tartalmazó programok (adott idő után megszűnik működni - próba verzióknál normális)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C03F-C514-469A-A788-5122E24DDA6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ACCCCD-65ED-4410-AD53-1C140060A7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ANSI bombák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A DOS ANSI.SYS meghajtója lehetővé teszi, hogy billentyűkkel programokat indíthassunk. (pl. F10 &gt; dir)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Az aktiválás minden olyan eszközzel lehetséges, melynek outputja a képernyő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A DOS-szal együtt az ANSI bombák kihalnak..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9859-178C-48FA-A26B-0C2753DFD9C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82D84A-E1D9-4476-9656-9A00CB2762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Programférgek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A UNIX rendszerek biztonsági réseit kihasználó programok. Céljuk általában az információ szerzés (pl. jelszótáblák, firewall)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Nem irtották őket, hanem kijavították az operációs rendszer hibáit, így nem terjedtek el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800" spc="-1" strike="noStrike">
                <a:solidFill>
                  <a:srgbClr val="cecece"/>
                </a:solidFill>
                <a:latin typeface="Arial"/>
              </a:rPr>
              <a:t>Szaporodik, de nem igényel hordozót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963F-E891-46C4-8AE0-5EE56857A82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BA37F9-6CA1-4549-98C4-70267913DA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Vírustároló programok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3300"/>
                </a:solidFill>
                <a:latin typeface="Arial"/>
              </a:rPr>
              <a:t>Injektor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 - “vírusgazda”, ő maga nem beteg, de fertőz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3300"/>
                </a:solidFill>
                <a:latin typeface="Arial"/>
              </a:rPr>
              <a:t>Germ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     - normális úton terjedni nem képes vírusokhoz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ff3300"/>
                </a:solidFill>
                <a:latin typeface="Arial"/>
              </a:rPr>
              <a:t>Dropper </a:t>
            </a: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- indítás után előállítja a vírust, majd szabadon engedi. A Dropper nem kértékony, róla nem készül másolat sem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2600-38B7-4577-A12E-30A8BF6E01F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FF99C7-92AB-421C-BE23-56952B8B93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Vírusvédelmi módszerek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Szignatúra vagy bájtminta keresés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Ismert vírusokat eltávolító védelem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Heurisztikus keresés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Ellenőrző összeges védelem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Általános rendszerfelügyelő védelem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Hardveres védelem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Vegyes védelmi módszerek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Az operációs rendszer vírusvédelme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Hálózatok védelme</a:t>
            </a:r>
            <a:endParaRPr b="0" lang="en-US" sz="2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FC16-795B-418F-B004-0F35D937195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D76C86-04C2-4B4E-BDF2-A478BBBDC0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Vírusfertőzés megelőzése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Víruskapuk ellenőrzése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Oktatás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Adatforgalom ellenőrzése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Backup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3200" spc="-1" strike="noStrike">
                <a:solidFill>
                  <a:srgbClr val="cecece"/>
                </a:solidFill>
                <a:latin typeface="Arial"/>
              </a:rPr>
              <a:t>Antivírus szoftverek használata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6DDC-A70A-41D1-8B64-7565D9BCB92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1B1119-CB7A-40D6-BB3A-806CD3CAB9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cecece"/>
                </a:solidFill>
                <a:latin typeface="Arial"/>
              </a:rPr>
              <a:t>Víruskapuk</a:t>
            </a:r>
            <a:endParaRPr b="0" lang="en-US" sz="4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Nem winchesterről vagy floppyról töltjük be az operációs rendszert, hanem Eprom-ról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Csak biztosan tiszta boot programmal és partíciós táblával rendelkező lemezről indítunk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Figyeljük milyen programokat indít az autoexec.bat illetve a config.sys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Program futtatáskor biztosan legyen tiszta, vírusmentes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Csa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jogilag tiszta</a:t>
            </a: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, vásárolt programot használjunk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Vigyázzunk a másolásvédelemmel ellátott programokkal, ezek is tartalmazhatnak romboló rutint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CDE4-1249-47E6-AD99-0B723FE4188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F1E48E-2B17-4177-9C96-E97AA26AB6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5040" y="1279440"/>
            <a:ext cx="855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19320" y="3371760"/>
          <a:ext cx="64116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71760"/>
                    <a:ext cx="641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541360" y="193680"/>
            <a:ext cx="53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280" y="844560"/>
            <a:ext cx="1169280" cy="389520"/>
            <a:chOff x="44280" y="844560"/>
            <a:chExt cx="1169280" cy="389520"/>
          </a:xfrm>
        </p:grpSpPr>
        <p:sp>
          <p:nvSpPr>
            <p:cNvPr id="94" name=""/>
            <p:cNvSpPr/>
            <p:nvPr/>
          </p:nvSpPr>
          <p:spPr>
            <a:xfrm>
              <a:off x="44280" y="844560"/>
              <a:ext cx="1130400" cy="368280"/>
            </a:xfrm>
            <a:prstGeom prst="cube">
              <a:avLst>
                <a:gd name="adj" fmla="val 24986"/>
              </a:avLst>
            </a:prstGeom>
            <a:solidFill>
              <a:srgbClr val="fc0128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5680" y="901800"/>
              <a:ext cx="94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Hard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885120" y="689040"/>
            <a:ext cx="322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hálózati topoló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200" y="1440000"/>
            <a:ext cx="891540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három fő topológia-típus egyike a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illag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”. Középpontjában egy kapcsolóelemmel és hozzá kapcsolódó végpontokkal rendelkezik. A központi berendezés aktív vagy passzív elektronikus eszkö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04840" y="4896000"/>
          <a:ext cx="641520" cy="57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04840" y="4896000"/>
                    <a:ext cx="64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295800" y="5467320"/>
          <a:ext cx="641160" cy="57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95800" y="5467320"/>
                    <a:ext cx="641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324160" y="2876400"/>
          <a:ext cx="641160" cy="574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24160" y="2876400"/>
                    <a:ext cx="641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429000" y="3200400"/>
          <a:ext cx="641520" cy="574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29000" y="3200400"/>
                    <a:ext cx="64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714840" y="4248000"/>
          <a:ext cx="641160" cy="57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14840" y="4248000"/>
                    <a:ext cx="641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556000" y="4394160"/>
            <a:ext cx="288720" cy="241200"/>
          </a:xfrm>
          <a:prstGeom prst="rect">
            <a:avLst/>
          </a:prstGeom>
          <a:solidFill>
            <a:srgbClr val="00ae00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6720" y="3875040"/>
            <a:ext cx="833400" cy="62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703520" y="4491000"/>
            <a:ext cx="947520" cy="830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661840" y="4490640"/>
            <a:ext cx="722520" cy="134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12960" y="4537080"/>
            <a:ext cx="1014480" cy="104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657160" y="3798720"/>
            <a:ext cx="911160" cy="68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2200" y="3498840"/>
            <a:ext cx="11160" cy="990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9480" y="3097080"/>
            <a:ext cx="4400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 u="sng">
                <a:solidFill>
                  <a:srgbClr val="7fff00"/>
                </a:solidFill>
                <a:uFillTx/>
                <a:latin typeface="Times New Roman"/>
              </a:rPr>
              <a:t>Előny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fff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400" spc="-1" strike="noStrike">
                <a:solidFill>
                  <a:srgbClr val="7fff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7fff00"/>
                </a:solidFill>
                <a:latin typeface="Times New Roman"/>
              </a:rPr>
              <a:t>hibatűrő, hiszen egy ág hibája nem akadályozza a többin folyó adatforgal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7160" y="5173560"/>
            <a:ext cx="2924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fe9b03"/>
                </a:solidFill>
                <a:uFillTx/>
                <a:latin typeface="Times New Roman"/>
              </a:rPr>
              <a:t>Hátrány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e9b03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e9b03"/>
                </a:solidFill>
                <a:latin typeface="Times New Roman"/>
              </a:rPr>
              <a:t>sok kábel kell hozz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E9C5-0BC8-4265-BAD4-05D69F98230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3C3783-E081-4EC0-A209-89AE8EA40E2A}" type="datetime1">
              <a:rPr lang="en-US"/>
              <a:t>07/29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ecece"/>
                </a:solidFill>
                <a:latin typeface="Arial"/>
              </a:rPr>
              <a:t>Adatforgalom vizsgálata</a:t>
            </a:r>
            <a:endParaRPr b="0" lang="en-US" sz="44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Rendszer és más gépek között csökkenteni kell az adatok forgalmát.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Arial"/>
              </a:rPr>
              <a:t>Más hálózatokról letöltött programokat futtatás előtt ellenőrizni, tesztelni  kell.</a:t>
            </a:r>
            <a:endParaRPr b="0" lang="en-US" sz="32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7CE1-70CE-4F22-847F-6230F353C43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693CB9-5A1F-42A8-8AA1-20D6B43C24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800" spc="-1" strike="noStrike">
                <a:solidFill>
                  <a:srgbClr val="cecece"/>
                </a:solidFill>
                <a:latin typeface="Arial"/>
              </a:rPr>
              <a:t>Backup</a:t>
            </a:r>
            <a:endParaRPr b="0" lang="en-US" sz="4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Gyári installációs lemezeket installálás előtt tegyük írásvédetté és készítsünk róluk biztonsági másolatot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Az általunk használt egyéb programokról is készítsünk másolatot, illetve legyen biztosan és gyorsan elérhető forrásunk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Arial"/>
              </a:rPr>
              <a:t>Adatainkat sűrűn mentsük el, a régebbi adatok esetleges felülírásával.</a:t>
            </a:r>
            <a:endParaRPr b="0" lang="en-US" sz="2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F990-55C2-4761-95B4-04C19066F0D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0C2F2E-6EEF-493D-951C-1234A7FDCC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4800" spc="-1" strike="noStrike">
                <a:solidFill>
                  <a:srgbClr val="cecece"/>
                </a:solidFill>
                <a:latin typeface="Arial"/>
              </a:rPr>
              <a:t>Antivírus termékek</a:t>
            </a:r>
            <a:endParaRPr b="0" lang="en-US" sz="48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600" spc="-1" strike="noStrike">
                <a:solidFill>
                  <a:srgbClr val="cecece"/>
                </a:solidFill>
                <a:latin typeface="Arial"/>
              </a:rPr>
              <a:t>Antivírus termékek használatával elérhetjük, hogy minél több vírust felismerhessünk rendszerünkben.</a:t>
            </a:r>
            <a:endParaRPr b="0" lang="en-US" sz="26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600" spc="-1" strike="noStrike">
                <a:solidFill>
                  <a:srgbClr val="cecece"/>
                </a:solidFill>
                <a:latin typeface="Arial"/>
              </a:rPr>
              <a:t>Használjuk a víruskeresők memóriarezidens figyelő modulját.</a:t>
            </a:r>
            <a:endParaRPr b="0" lang="en-US" sz="26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600" spc="-1" strike="noStrike">
                <a:solidFill>
                  <a:srgbClr val="cecece"/>
                </a:solidFill>
                <a:latin typeface="Arial"/>
              </a:rPr>
              <a:t>A vírus fertőzést megelőző program:</a:t>
            </a:r>
            <a:endParaRPr b="0" lang="en-US" sz="26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100" spc="-1" strike="noStrike">
                <a:solidFill>
                  <a:srgbClr val="cecece"/>
                </a:solidFill>
                <a:latin typeface="Arial"/>
              </a:rPr>
              <a:t>általános rendszerfelügyelő vagy monitor program</a:t>
            </a:r>
            <a:endParaRPr b="0" lang="en-US" sz="2100" spc="-1" strike="noStrike">
              <a:solidFill>
                <a:srgbClr val="cecece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cecec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100" spc="-1" strike="noStrike">
                <a:solidFill>
                  <a:srgbClr val="cecece"/>
                </a:solidFill>
                <a:latin typeface="Arial"/>
              </a:rPr>
              <a:t>ellenőrző összeges program</a:t>
            </a:r>
            <a:endParaRPr b="0" lang="en-US" sz="21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11D1-06C9-4E8E-A963-3CDA07A1699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A9BF5F-0F6A-47C8-AC5F-E27991BD4C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</a:rPr>
              <a:t>Vírusra utaló jelenségek</a:t>
            </a:r>
            <a:endParaRPr b="0" lang="en-US" sz="36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Furcsa viselkedés a gép részéről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Programok hossza, létrehozási dátuma megváltozik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Furcsa állományok, könyvtárbejegyzések keletkeznek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Szokatlan dolgok jelennek meg a képernyőn.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Csökken memóriaterület, bad szektorok jelennek meg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Állományaink eltűnnek. Lemez, vagy fájl tartalom sérül 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Feltűnően sokat nyúl a lemezhez egy program 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Különböző hibák jelentkeznek a gépen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cec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hu-HU" sz="2000" spc="-1" strike="noStrike">
                <a:solidFill>
                  <a:srgbClr val="cecece"/>
                </a:solidFill>
                <a:latin typeface="Arial"/>
              </a:rPr>
              <a:t>Víruskeresőnk vírust mutat ki</a:t>
            </a:r>
            <a:endParaRPr b="0" lang="en-US" sz="2000" spc="-1" strike="noStrike">
              <a:solidFill>
                <a:srgbClr val="cece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7EBA-D578-4549-91CE-FE12C09B271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419642-7A8E-4464-ADB8-1AF5DFCB82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7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22520" y="4170240"/>
            <a:ext cx="289080" cy="241560"/>
          </a:xfrm>
          <a:prstGeom prst="rect">
            <a:avLst/>
          </a:prstGeom>
          <a:solidFill>
            <a:srgbClr val="00ae00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89000" y="4151160"/>
            <a:ext cx="289080" cy="241560"/>
          </a:xfrm>
          <a:prstGeom prst="rect">
            <a:avLst/>
          </a:prstGeom>
          <a:solidFill>
            <a:srgbClr val="00ae00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040" y="1279440"/>
            <a:ext cx="855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80" y="6480"/>
            <a:ext cx="9118440" cy="672840"/>
          </a:xfrm>
          <a:prstGeom prst="roundRect">
            <a:avLst>
              <a:gd name="adj" fmla="val 24986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4880" y="79200"/>
            <a:ext cx="3768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zámítógépek hálóza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86400" y="125280"/>
            <a:ext cx="236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kális hálóz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41360" y="193680"/>
            <a:ext cx="53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1/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4280" y="844560"/>
            <a:ext cx="1169280" cy="389520"/>
            <a:chOff x="44280" y="844560"/>
            <a:chExt cx="1169280" cy="389520"/>
          </a:xfrm>
        </p:grpSpPr>
        <p:sp>
          <p:nvSpPr>
            <p:cNvPr id="125" name=""/>
            <p:cNvSpPr/>
            <p:nvPr/>
          </p:nvSpPr>
          <p:spPr>
            <a:xfrm>
              <a:off x="44280" y="844560"/>
              <a:ext cx="1130400" cy="368280"/>
            </a:xfrm>
            <a:prstGeom prst="cube">
              <a:avLst>
                <a:gd name="adj" fmla="val 24986"/>
              </a:avLst>
            </a:prstGeom>
            <a:solidFill>
              <a:srgbClr val="fc0128"/>
            </a:solidFill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5680" y="901800"/>
              <a:ext cx="94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Hard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885120" y="689040"/>
            <a:ext cx="322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hálózati topoló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200" y="1440000"/>
            <a:ext cx="891540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 a csillag topológiájú hálózat egy vagy több végpontját egy-egy további csillag középpontjának tekintünk, akkor a csillag topológia egy leszármazott típusát, a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opológiát kapj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70160" y="2946240"/>
            <a:ext cx="288720" cy="241560"/>
          </a:xfrm>
          <a:prstGeom prst="rect">
            <a:avLst/>
          </a:prstGeom>
          <a:solidFill>
            <a:srgbClr val="00ae00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246320" y="3043080"/>
            <a:ext cx="1137960" cy="1268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219320" y="4248000"/>
            <a:ext cx="534960" cy="1392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57360" y="4246200"/>
            <a:ext cx="0" cy="235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90480" y="4313160"/>
            <a:ext cx="563760" cy="1276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388960" y="3036600"/>
            <a:ext cx="1206360" cy="1244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8920" y="3108240"/>
            <a:ext cx="15840" cy="1133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9480" y="3097080"/>
            <a:ext cx="4400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7fff00"/>
                </a:solidFill>
                <a:uFillTx/>
                <a:latin typeface="Times New Roman"/>
              </a:rPr>
              <a:t>Előny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fff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jól megválasztott elhelyezéssel gazdaságos kábeligén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7fff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fff00"/>
                </a:solidFill>
                <a:latin typeface="Times New Roman"/>
              </a:rPr>
              <a:t>hibatűrése hasonló a csillagéh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95680" y="5551560"/>
          <a:ext cx="641520" cy="57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95680" y="5551560"/>
                    <a:ext cx="64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584440" y="5543640"/>
          <a:ext cx="641520" cy="57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4440" y="5543640"/>
                    <a:ext cx="64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85920" y="5600880"/>
          <a:ext cx="641160" cy="57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85920" y="5600880"/>
                    <a:ext cx="641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152800" y="4438800"/>
          <a:ext cx="641160" cy="574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52800" y="4438800"/>
                    <a:ext cx="641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04640" y="5605560"/>
          <a:ext cx="641520" cy="574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4640" y="5605560"/>
                    <a:ext cx="641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 flipV="1">
            <a:off x="2928960" y="4246560"/>
            <a:ext cx="608040" cy="1333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41680" y="4237200"/>
            <a:ext cx="393840" cy="134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65800" y="5557680"/>
          <a:ext cx="641160" cy="57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65800" y="5557680"/>
                    <a:ext cx="641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 flipV="1">
            <a:off x="3547800" y="4246560"/>
            <a:ext cx="1252440" cy="1339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álózatok, víruso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0D8E-01E7-4EF5-8696-70D914124F7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69AA23-0AE2-47D6-BCDE-893C0085D6DE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1T09:09:56Z</dcterms:created>
  <dc:creator>Makány György</dc:creator>
  <dc:description/>
  <cp:keywords/>
  <dc:language>en-US</dc:language>
  <cp:lastModifiedBy>Leövey Klára Gimnázium</cp:lastModifiedBy>
  <dcterms:modified xsi:type="dcterms:W3CDTF">2005-04-18T10:50:54Z</dcterms:modified>
  <cp:revision>42</cp:revision>
  <dc:subject/>
  <dc:title>Számítógépek hálózatai</dc:title>
</cp:coreProperties>
</file>