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4.jpeg" ContentType="image/jpeg"/>
  <Override PartName="/ppt/media/image2.png" ContentType="image/png"/>
  <Override PartName="/ppt/media/image27.jpeg" ContentType="image/jpeg"/>
  <Override PartName="/ppt/media/image10.png" ContentType="image/png"/>
  <Override PartName="/ppt/media/image6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3.jpeg" ContentType="image/jpeg"/>
  <Override PartName="/ppt/media/image22.png" ContentType="image/png"/>
  <Override PartName="/ppt/media/image24.jpeg" ContentType="image/jpeg"/>
  <Override PartName="/ppt/media/image1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png" ContentType="image/png"/>
  <Override PartName="/ppt/media/image20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5741-F5BA-42B0-B8C6-3D6E0F47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98CD-99F4-40E7-B361-7C1BA975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66A4-9286-4A51-89BA-77A9FD45E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FAF0-B638-4BFF-8718-D77622900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F159-3023-40BA-AB27-C83D70639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8101-0ED4-4BEE-A484-23A8A20C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E8AA-7CCF-41DA-A6E5-468F9810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98EA-97B5-40CE-90CF-5E6E75C08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0E2-E053-4B1A-B480-666EEFD1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9695-8B1A-4DF8-A989-B79549EBC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2D5-38B6-4AE1-908D-AAD09C7C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B222-DEEF-4732-80EF-8AEE47A1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954C-9E49-4F0C-89CD-72ECD9D21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formáció, kommunikáció, kódok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t, inform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munikáci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ódol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ámok kódol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zövegek kódol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épek kódol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14680" y="10573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9640" y="1136520"/>
            <a:ext cx="784872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8483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48836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684216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zám - számrendsz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zámrendszer alapján súlyozott helyiértékes számrendszer (</a:t>
            </a: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radix-weighted positional number system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zámjegy (pl. 0, 1, 2, 3, 4, 5, 6, 7, 8, 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számrendszer alapja (pl. 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564,2 = 5*10</a:t>
            </a:r>
            <a:r>
              <a:rPr b="1" lang="hu-HU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+ 6*10</a:t>
            </a:r>
            <a:r>
              <a:rPr b="1" lang="hu-HU" sz="32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+ 4*10</a:t>
            </a:r>
            <a:r>
              <a:rPr b="1" lang="hu-HU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 + 2*10</a:t>
            </a:r>
            <a:r>
              <a:rPr b="1" lang="hu-HU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ináris adatfeldolgozá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áció : numerikus / nem-numerik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ináris számábrázolá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nden 0-k és 1-ek sorozatával van ábrázol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3141720"/>
            <a:ext cx="7596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187280" y="69228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71640" y="765000"/>
            <a:ext cx="712944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71604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t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nformáci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048360" cy="19778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03280" y="3284640"/>
            <a:ext cx="59040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2723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58920" y="1057320"/>
            <a:ext cx="66261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83756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128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00000" y="1419120"/>
            <a:ext cx="74170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1057320"/>
            <a:ext cx="63867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CD kó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799128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58920" y="105732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Alfanumerikus karakterábrázolá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Minden karaktert számként tárolun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ASCII (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American Standard Code for Information Interchange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) 7 bites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→ 128 karakter, ékezete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ISO-Latin-2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tartalmazza a helyes magyar ékezetes betűket 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Unicode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16 bites karakterkészlet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65536 karaktert képes ábrázolni 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C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373880" cy="48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z információ méré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Példák: barkochba, sakktábla, kárty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artley-képlet: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(csak akkor igaz, ha az üzenetet alkotó jelek mindegyikénél egyforma az előfordulási valószínűsé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teljes információmennyiség: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=m</a:t>
            </a:r>
            <a:r>
              <a:rPr b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log</a:t>
            </a:r>
            <a:r>
              <a:rPr b="1" lang="hu-H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hol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: az „ABC” betűinek szá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m: jelsorozat hoss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z egy jelre jutó információmennyiség: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=log</a:t>
            </a:r>
            <a:r>
              <a:rPr b="1" lang="hu-H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Ha az „ABC” két jelből áll (bináris!):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h=log</a:t>
            </a:r>
            <a:r>
              <a:rPr b="1" lang="hu-H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2=1 (bit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O-Latin-2 (8859_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0920" y="1052640"/>
            <a:ext cx="501984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Uni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1946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ális képek jellemző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Képfelbontás: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dott felületegységre jutó képpontok számát jelenti. Mértékegysége: dpi vagy ppi (pont/hüvely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(átlagos monitorok felbontása: 72...96 dpi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Színmélység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képponthoz tartozó színinformáció mennyiségét jelöli. Az elterjedt színmélységek a következő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8 bit        256 különböző szí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16 bit      65536 különböző szín (~ emberi szem) („High Color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24 bit      16777216 különböző szín („True Color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ájltípusok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91516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hu-HU" sz="2000" spc="-1" strike="noStrike">
                <a:solidFill>
                  <a:srgbClr val="000000"/>
                </a:solidFill>
                <a:latin typeface="Arial"/>
              </a:rPr>
              <a:t>pixelgrafiku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bittérképes)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rajzolóprogramok a képeket mátrix-szerűen elrendezett képpontokból, pixelekből építik fel. A sorokat és oszlopokat alkotó képpontok különböző színűek lehetnek, ezekből a pontokból áll össze a rajz. A bitmap grafika (vagy rasztergrafika) egy kép tartalmát egy négyzetrácson elhelyezkedő színes képpontok összességeként, ún. pixelekkel írja 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443640" y="1413000"/>
            <a:ext cx="1905120" cy="18856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735120" y="4240080"/>
            <a:ext cx="765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átrán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állományok nagy méretűek, nehéz a képpel úgy műveleteket végezni, hogy maga  kép ne tartalmazzon torzulá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őn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gyszerű megvalósítható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ájltípusok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91516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hu-HU" sz="2400" spc="-1" strike="noStrike">
                <a:solidFill>
                  <a:srgbClr val="000000"/>
                </a:solidFill>
                <a:latin typeface="Arial"/>
              </a:rPr>
              <a:t>vektorgrafiku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rajzolóprogramok a képek felépítésére egyszerű alakzatokat (téglalap, ellipszis, sokszög, stb.) és ún. Bézier-görbéket (csomópontokkal, a csomópontok közt húzott görbékkel és érintőszakaszokkal felépített görbéket) használna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588000" y="1628640"/>
            <a:ext cx="1905120" cy="1895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35120" y="3933720"/>
            <a:ext cx="815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őny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yszerűen lehet a grafikus kép egyes részeivel műveleteket végezni, (forgatni, nagyítani) és nem okoznak nagy torzulás a kép egészén. Az állományok kis méretűe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átrán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nél összetettebb egy rajz, annál több utasítás szükséges annak leírásához, tehát annál tovább tart egy kép megjelenítése. Fénykép minőségű kép létrehozására nem igazán alkalmas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zínek 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696360" cy="3227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971640" y="4437000"/>
            <a:ext cx="750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színárnyalat (hue),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mit a hétköznapi értelemben egyszerűen színnek nevezünk,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a fény hullámhosszától függ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világosságot 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agy fényintenzitást (intensity)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a fényforrás energiasűrűsége határozza meg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Egy szín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telítettsége (saturation)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ttól függ, hogy mekkora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 a fehér-összetevője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ínkeverési eljár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330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Additív színkeverés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ény-színek szerint keverednek, újabb szín bekeverése a színerőt növeli. A színek keverését úgy lehet elképzelni, mintha újabb és újabb lámpákat kapcsolnánk b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Szubtraktív színkeverés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elnyelt színek szerint keverednek, újabb szín bekeverése a színerőt csökkenti. A színek keverését úgy lehet elképzelni, mintha újabb és újabb színű áttetsző fóliákat helyeznénk egymás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219640" y="1341360"/>
            <a:ext cx="312912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ínmélységek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Black and White (fekete-fehér)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képpontnak két állapota van, fekete és fehér. Egy képpont állapotának rögzítése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1 bitet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igény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16 Color (16 szín)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16 megadott színe lehet egy képpontnak,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4 bite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lehet tárolni egy képpont információjá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Grayscale (szürkeárnyalat)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képpont a szürke 256 árnyalatával rendelkezhet,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8 bite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lehet tárolni a képpont információ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256 Color (256 szín): 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256 megadott színe lehet egy képpontnak, 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8 biten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tárolja az információt. (Weblapok képeihez ajánlott színtartomá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zínmélység és fájlmér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1471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gy 320x240 pont méretű kép bittérképes állomány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11280" y="2421000"/>
          <a:ext cx="7787880" cy="1079280"/>
        </p:xfrm>
        <a:graphic>
          <a:graphicData uri="http://schemas.openxmlformats.org/drawingml/2006/table">
            <a:tbl>
              <a:tblPr/>
              <a:tblGrid>
                <a:gridCol w="1947240"/>
                <a:gridCol w="1946520"/>
                <a:gridCol w="1946880"/>
                <a:gridCol w="194724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zínmélység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ret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 400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8 00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304 00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apvető színrendszerek 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5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GB (vagy 24 Bit Color):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gy képpont a piros (Red), a zöld (Green), és a kék (Blue) 256 féle árnyalatából áll össze, összesen 16 millió színárnyalattal. 24 biten tárolja az információt. Ez additív színrendszer, tehát a három alapszín egyforma keverése fehér, hiányuk fekete színt eredményez. Ezeket a színeket használja minden elektronikus kivetítő eszköz (monitor, projekto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372360" y="2349360"/>
            <a:ext cx="19429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Bit, byte, Kb, Mb, sz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bit = (binary digit) az információ tárolás legkisebb egysé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8 bit = 1 by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1024 byte = 2</a:t>
            </a:r>
            <a:r>
              <a:rPr b="1" lang="hu-HU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 byte = 1 Kilobyte = 1 Kb = 8 K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1024 Kb = 1 Megabyte = 1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gy adott gépen : „n” byte = 1 szó (wo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apvető színrendszerek 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CMYK (vagy 32 Bit Colo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gy képpont a türkiz (Cyan), a bíbor (Magenta) a sárga (Yellow) (másodlagos alapszínek) és a fekete (Black) 256*4 féle árnyalatából áll össze. 32 biten (4 byte) tárolja az információt. 4,3 milliárd árnyalata lehet egy képpontnak. Nyomdai alkalmazásoknál (DTP programok) használ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804000" y="2492280"/>
            <a:ext cx="17334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éhány grafikus fájlformá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.BMP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- Windows / OS/2 bitmap. A Microsoft Windows saját bittérképes fájlformátuma, Tömörítetlen bittérkép. Maximum 24 bites színmélységet tá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.WMF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- Windows Metafile - Windows alkalmazások, közös használatára szolgáló grafikus fájlformátum. Vektoros és bittérképes is lehe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.EPS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- Encapsulated Postscript - nyomdai előkészítéshez használa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.TIF, .TIFF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- Tagged Image File Format - Támogatja a 16/24 bites színes palettát, a RGB, CMYK színmodelleket. Tömörítetlen, vagy RLE, LZW, Packbits, ill. JPEG típusú tömörítést használ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.JPG, .JPE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- Adatvesztő tömörítési eljárást használó formátum. A JPEG formátum 24 bites színmélységet képes kezelni, a tömörítési eljárás azonban az emberi szem becsaphatóságán alapul, és adatvesztéssel já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.GIF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- Graphics Interchange Format - max. 256 színű, vagy 256 fokozatú grayscale. Képes több képkocka egyetlen fájlban való tárolására (animált GIF), valamint az Internetes böngészőkben a lassabb hálózatokon hasznos azonnali (de nem részletes) megjelenítésre, majd a kép finomítására (interlaced GIF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.PN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- Portable Network Graphics - A harmadik fő internetes képfájl-formátum. Szabad formátumú (nem licencelt) internetes fájlformátu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.TG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- Targa - Fejlesztője: Truevision. 16/24/32 bit/pixel színmélységet tárolhat. Ipari szabvány (elvileg), a fontosabb grafikus programok kezelik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200" spc="-1" strike="noStrike">
                <a:solidFill>
                  <a:srgbClr val="000000"/>
                </a:solidFill>
                <a:latin typeface="Comic Sans MS"/>
              </a:rPr>
              <a:t>Shannon-Weaver féle kommunikációs modell /1938 /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66680" y="3124080"/>
            <a:ext cx="16765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áció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3124080"/>
            <a:ext cx="9144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124080"/>
            <a:ext cx="10666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ato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5880" y="3124080"/>
            <a:ext cx="7621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v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124080"/>
            <a:ext cx="13716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ímze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4495680"/>
            <a:ext cx="1752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ajforr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487692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029200" y="38862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743200" y="35053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35053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50532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858000" y="3505320"/>
            <a:ext cx="53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281952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67280" y="281952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86600" y="281952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05720" y="2438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üze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tt j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114800" y="24382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z információ-átadási folyama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eladat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írek, közlemények kialakítása (Hiszen Ő az információ forrá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ódolá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közlemények átalakítása jelekké a csatorna igényeinek megfelelő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v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eladat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kódolá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íre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közlemények) visszaalakítása a felhasználó számára értelmezhető formá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hírek közlemények felhasználása (információ nyeré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satorna leh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érbe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gyik helyről a másikra továbbítja az adatokat: pl.: telef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dőbeli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Az adatok tárolására és későbbi felhasználására ad lehetőséget: pl.: mágneslemez, memór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észe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l. idegro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sterség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l. telefonkáb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aló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l. a hanghullámokat hordozó levegő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gitál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l. a számítógép adatátvivő csatorná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7128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85080" cy="52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kódolási eljárá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z információ átadási folyamat legfontosabb problémája a kódolás és dekódolás művelete, ugyanis az információ átadás hűsége és gazdaságossága a kódolástól füg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forrás által szolgáltatott információ az úgynevezett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forrás-ABC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etűinek egymásután írásával adódó sorozatok formájában jelenik meg. Ezeket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özlemények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k nevezzük.  A csatornán a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csatorna-ABC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jeleiből alkotott különböző hosszúságú sorozatok formájában lehet információt átvinni. Ezeket a sorozatokat nevezzük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ódközlemén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nek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ódolási eljárás ölyan utasítás, amely minden lehetséges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özlemén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ez hozzárendel egy kódjelekből álló sorozatot, a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ódközlemén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kódolással szemben támasztott követelménye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lkalmas legyen minden közlemény 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egyértelmű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leképzésé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ömör legyen.   (Gazdaságosság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csatorna képes legyen a jelek továbbításá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9T16:10:30Z</dcterms:created>
  <dc:creator>LKG</dc:creator>
  <dc:description/>
  <dc:language>en-US</dc:language>
  <cp:lastModifiedBy>LKG</cp:lastModifiedBy>
  <dcterms:modified xsi:type="dcterms:W3CDTF">2005-04-10T11:49:32Z</dcterms:modified>
  <cp:revision>24</cp:revision>
  <dc:subject/>
  <dc:title>1. dia</dc:title>
</cp:coreProperties>
</file>