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128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36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540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88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128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540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88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36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128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36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540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88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128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540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88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368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368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28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6324480"/>
            <a:ext cx="725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910120" y="6323040"/>
            <a:ext cx="277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LKG</a:t>
            </a:r>
            <a:r>
              <a:rPr b="1" lang="en-US" sz="1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–HEFOP Szakmai Nap, 2007.03.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844640"/>
            <a:ext cx="7255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437120" y="3683520"/>
            <a:ext cx="38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fa0ce"/>
                </a:solidFill>
                <a:latin typeface="Verdana"/>
                <a:ea typeface="Arial"/>
              </a:rPr>
              <a:t>www.leovey.hu/hefop313</a:t>
            </a:r>
            <a:r>
              <a:rPr b="0" lang="hu-HU" sz="2000" spc="-1" strike="noStrike">
                <a:solidFill>
                  <a:srgbClr val="9fa0ce"/>
                </a:solidFill>
                <a:latin typeface="Verdana"/>
                <a:ea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12384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58104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6324480"/>
            <a:ext cx="725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10120" y="6323040"/>
            <a:ext cx="277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LKG</a:t>
            </a:r>
            <a:r>
              <a:rPr b="1" lang="en-US" sz="1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–HEFOP Szakmai Nap, 2007.03.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1437120" y="3683520"/>
            <a:ext cx="38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fa0ce"/>
                </a:solidFill>
                <a:latin typeface="Verdana"/>
                <a:ea typeface="Arial"/>
              </a:rPr>
              <a:t>www.leovey.hu/hefop313</a:t>
            </a:r>
            <a:r>
              <a:rPr b="0" lang="hu-HU" sz="2000" spc="-1" strike="noStrike">
                <a:solidFill>
                  <a:srgbClr val="9fa0ce"/>
                </a:solidFill>
                <a:latin typeface="Verdana"/>
                <a:ea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123840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73340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5260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79280" y="1052640"/>
            <a:ext cx="5810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.u-szeged.hu/bibl/opac/cd/tema/index.html" TargetMode="External"/><Relationship Id="rId2" Type="http://schemas.openxmlformats.org/officeDocument/2006/relationships/hyperlink" Target="http://www.bibl.u-szeged.hu/bibl/opac/cd/tema/index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Verdana"/>
              </a:rPr>
              <a:t>Mit keres(het) a számítógép a történelemórá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emléltetés informatikai eszközökk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Kauders Tamá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Verdana"/>
              </a:rPr>
              <a:t>Leövey Klára Gimnázi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zentáci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jó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Áttekinthetőbb vázl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önnyebben követhető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g és képi effektus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ontálisan: nagy létszámú osztályban is hatékony leh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ák megtanulhatja vázlatkészíté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ákok is készítsen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önnyen megtanulhat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érhetővé tenni többi diák számár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ezentáci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re ügyeljün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vesebb több le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k szöv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Színek (betű – hátté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kféle szerkez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kféle effekt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D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új lehetőség: SD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lentős (változatos minőségű)  tartal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k forr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áció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aktí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gész osztály – frontális mun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Verdana"/>
              </a:rPr>
              <a:t>Távoktatás (Moodle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üggetlen iskolai időbeosztástó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ciálás lehetősé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nkatempó „beállítása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onnali javí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gyre több diák számára hozzáférhet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Ókor és középk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91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övegek olvasása, interpretációk elsajátít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ák nem találkozik közvetlenü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ációv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jes passzivi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neszánsz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emléltetés pedagógiá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ztosítani a közvetlen tapasztalá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nár és diák szerepe is módos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nár: nem csak közvetít, megpróbál elvezetni a tudásho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ák: passzivitásuk csökken, de alapvetően megmar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ömegkommunikáció, internet, reklámok, stb. révén rengeteg vizuális hat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gyományos ismeretközlés monotonnak, unalmasnak, követhetetlennek tűn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ációkat jó részt vizuálisan szerző diákoknak nem nyújt elég élmény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zemlélteté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gye hatékonyabbá ismeretszerzé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zemléltetési mód igazodi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ag természetéhez, diákokho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njuk be diákokat a munká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bren tartani figyelmet, koncentráció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Óvakodni túlzásoktól (eltereli a figyelme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KT a szemléltetésb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D-ROM, DVD-RO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ntálisan jól használható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úl bőségesek, „vágni” kell (Szerzői jogok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öbbségük nem alkalmazkodik az iskolai oktatásho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gyon gazdag képanyag, illusztrációk, mozgó- és hangfájl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D-ROM, DVD-R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inkább a forrásokat tartalmazó CD-ék használható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aguk egyre inkább kiváltható internetes adatbázisokka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D-ROM, DVD-R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Adattárak, lexikon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</a:t>
            </a:r>
            <a:r>
              <a:rPr b="0" lang="hu-HU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://www.bibl.u-szeged.hu/bibl/opac/cd/tema/index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Verdana"/>
              </a:rPr>
              <a:t>Tematikus CD-ROM-o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Enciklopedia Humana:http://ehumana.hu/htm/megjel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Verdana"/>
              </a:rPr>
              <a:t>Folyóirat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Rubicon, Historia, Szem Tanú http://www.szemtanu.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9c3"/>
            </a:gs>
            <a:gs pos="100000">
              <a:srgbClr val="6b7c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D-ROM, DVD-R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Verdana"/>
              </a:rPr>
              <a:t>Interaktív CD-ROM-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Számuk cseké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Profi Töri sorozat: http://www.profi-media.com/profi/tori1/tori1_info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Verdana"/>
              </a:rPr>
              <a:t>Nehéz lépést tartani megjelenésekk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ttp://www.neumann-haz.hu/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Verdana"/>
              </a:rPr>
              <a:t>http://www.bibl.u-szeged.hu/bibl/opac/cd/tema/index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37:43Z</dcterms:created>
  <dc:creator>K.T.</dc:creator>
  <dc:description/>
  <dc:language>en-US</dc:language>
  <cp:lastModifiedBy>Leövey Klára Gimnázium</cp:lastModifiedBy>
  <dcterms:modified xsi:type="dcterms:W3CDTF">2007-03-22T12:21:41Z</dcterms:modified>
  <cp:revision>17</cp:revision>
  <dc:subject/>
  <dc:title>Mit keres(het) a számítógép a történelemórán</dc:title>
</cp:coreProperties>
</file>