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0FC-ECEF-4A06-A887-61C4C713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F95-7B31-43DA-B9F4-3F0CC10E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34B-3CA0-4551-871B-ACC925A8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F68-2EE8-4BEB-8CA4-9C69A9D8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238-192B-4D3A-8F14-E9DB47B4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F5E-1BED-478B-8BC8-C6B97710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38D-A941-45A8-961D-1A2A45B8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AA5-112A-4CE8-A617-58E5ABC1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C53-9DD8-47C7-96DB-25F48328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ADC-639D-4765-AEF3-A7A04CE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91D-ABC4-44E1-AAD2-E03096D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98C-58F7-48F1-BCFE-3CDE4E2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285-31B3-4564-BCCE-33775CE02F8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mberi tulajdonságok öröklődé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övey Klára Gimnázi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 cso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171520" cy="34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2171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057400"/>
            <a:ext cx="396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gkülönböztetünk autoszomális domináns, autoszomális receszszív, X-kromoszómához kötött domináns, X-kromoszómához kötött recesszív és Y-kromoszómához kötött öröklődé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600200"/>
            <a:ext cx="335268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utoszomális domináns öröklőd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14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örös-zöld színtéveszté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1557360"/>
            <a:ext cx="508968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vörös-zöld színtévesztés az X ivari kromoszómához kötötten öröklődő, recesszív jelleg. A rendellenességben szenvedők nem tudják elkülöníteni a vörös és zöld színeket. A színtévesztő nők csak a homozigóta recesszívek közül kerülnek ki, a heterozigótákban a domináns allél normális színlátást tesz lehetővé. Az allélpár hiánya miatt a jelleg férfiakban sokkal gyakori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879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zomsorvad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844640"/>
            <a:ext cx="3744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Duchenne-féle izomdisztrófia X-hez kötött recesszív gén által meghatározott öröklődő betegsé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 első tünetek általában 6 éves kor előtt jelentkeznek, s 12 évesen a kór már tolókocsihoz köti a beteget, aki 20 éves korára megh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066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2480" y="380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rcsoportok örök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371600"/>
          <a:ext cx="647712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64771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705720" y="1371600"/>
            <a:ext cx="22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ércsoportok aránya Magyarorszá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124080"/>
            <a:ext cx="830556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) Mekkora a valószínűsége annak, hogy egy magyar ember 0 Rh+ vércsoportú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27,2 % erre az esé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Milyen allélt jelöl hibásan a felada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em volt jó a feladata, nem működö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Mi lenne a helyes jelölé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em volt jó a feladat, nem működö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Milyen geno- és fenotíus arány várható AB és 0 vércsoportú ember utódainá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g:f:2:2,  2 db A-s 2 db B-s vércsoportú gyerm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404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örös-zöld színtévesztés öröklődési fela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197000"/>
            <a:ext cx="84963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) A genotípusok ismerete nélkül honnan lehetne megállapítani, hogy a tulajdonság nemhez kötöt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ciprok kereszteződéssel, ill. a született egyedek nemenkénti vizsgálatával 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üleikkel történő összevetésé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) A családfa alapján elönthető-e egyértelműen, hogy az X vagy Y kromoszómán van a tulajdonság allélja? Válaszotokat indokoljáto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gen, hiszen férfiaknál csak 1 db nemi X kromoszóma van, és ha ez recesszí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lélt hordoz, akkor kialakul a színtévesztés, míg nőknél ehhez 2 szüksé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) Milyen genotípusú lehetne a III/1 egyed képzeletbeli ikertestvére, ha egypetéjű illetve képetéjűek lennéne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gypetéjű: domináns hemizigó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étpetéjű: domináns hemizigóta vagy recesszív hemizigóta vagy heterozigóta vagy domináns homozigó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108080"/>
            <a:ext cx="9261360" cy="1089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79640" y="234936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É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9:25:46Z</dcterms:created>
  <dc:creator>Leovey Klara</dc:creator>
  <dc:description/>
  <dc:language>en-US</dc:language>
  <cp:lastModifiedBy>Sebőkné Orosz Katalin</cp:lastModifiedBy>
  <dcterms:modified xsi:type="dcterms:W3CDTF">2006-02-23T18:11:06Z</dcterms:modified>
  <cp:revision>5</cp:revision>
  <dc:subject/>
  <dc:title>Az emberi tulajdonságok öröklődése Leövey Klára Gimnázium 12. G V. csoport</dc:title>
</cp:coreProperties>
</file>