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3FA8-20CB-46DE-B01C-9742384F9A3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EF6-DE40-4F45-8C1E-65189C8F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34F-C5A2-42E2-AEA5-163602FD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9743-7647-40AC-B05D-D0D3E41D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54D-D303-45B0-B4FB-68524615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4F58-46EE-4D90-A252-EAAED708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830-2596-46DF-839D-C90AA7BC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EC8-A947-427F-B781-A42B366A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369-8232-4BBF-9E59-B92C7709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2259-6BEA-43DC-9DF7-A4E7EFB9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404-1909-4035-B4B6-5485A8FB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B903-FD85-4E4D-8B9E-28D801B4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B9B-5FC0-4B13-A17B-6D36E196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E7F3-1F0F-4D79-A27A-D5843187443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cc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Jellegze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zárvatermő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övénye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emuta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szítet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orcsák Tü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avkó Nikol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őri-Dani F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dei ciklá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673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umós erdei ével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vél: Kerekded vagy vese alakú (5-8 cm), színén halvány, márványozott mintával. Fonákja sötétvörö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irág: Világoslila, hosszú kocsányú. A porzók háromszögű pikkelyszerűek, ráfekszenek a bibeszálra. Júliustól szeptemberig virí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rmés: A terméses kocsány megcsavarodo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lőhely: A Nyugat-Dunántúl bükköseinek és gyertyános-tölgyeseinek védett növény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sztály: Kétszikű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22800" y="1484280"/>
            <a:ext cx="3241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csányos töl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38844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et: Széles koronájú, durva kérgű, hosszú életű f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él: Tojásdad alak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ágzat: A barkák április-májusban jelennek m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és: Hosszú kocsányú, többnyire kettesével-hármasával fejlődő mak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lőhely: Száraz, nedves lomberdők. Alföldi maradvány tölgyeseink uralkodó f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ztály: Kétszikűe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36198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9933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ánykökörc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3456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rmet: Alacsony, 10-20 cm maga, ével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vél: Tőlevelei szürkészöldek. Csak a virágzás után jelennek meg. A virágot murvalevelek veszik kö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irág: Felálló, nem bókoló. Hattagú, kékeslila, bozontos. A porzók élénksárgák. Március-áprilisban virí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rmés: Repítőszőrös aszm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lőhely: Mészköves, sziklás helyek, száraz rétek, sziklagyepek védett fa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sztály: Kétszikű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381636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50000">
              <a:srgbClr val="ffffff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olper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1687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et: 15-30 cm magas, lágy szárú ével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él: Sötétzöld, 2-3 mm széles, csúcsban végződő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ág: Az összes pelyva tompa, a toklászok lehetnek kihegyezettek. Májustól augusztusig virí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és: Szemterm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lőhely: Üde vagy nedves területeken találhat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ztály: Egyszikű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3332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09:49:00Z</dcterms:created>
  <dc:creator>Leövey Klára Gimn. és Szki</dc:creator>
  <dc:description/>
  <dc:language>en-US</dc:language>
  <cp:lastModifiedBy>Sebőkné Orosz Katalin</cp:lastModifiedBy>
  <dcterms:modified xsi:type="dcterms:W3CDTF">2006-03-21T18:06:04Z</dcterms:modified>
  <cp:revision>2</cp:revision>
  <dc:subject/>
  <dc:title>Jellegzetes zárvatermő növények bemutatása</dc:title>
</cp:coreProperties>
</file>