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pptx" ContentType="application/vnd.openxmlformats-officedocument.presentationml.presentation"/>
  <Override PartName="/ppt/media/image10.jpeg" ContentType="image/jpeg"/>
  <Override PartName="/ppt/media/image5.png" ContentType="image/png"/>
  <Override PartName="/ppt/media/image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7453A-7173-47CA-9410-3BB3920424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987640" y="475920"/>
            <a:ext cx="605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4933c"/>
              </a:solidFill>
              <a:latin typeface="TradeGothic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312080"/>
            <a:ext cx="77724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468F3-1B84-49B9-BBC3-D8EAE44F6E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987640" y="475920"/>
            <a:ext cx="605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4933c"/>
              </a:solidFill>
              <a:latin typeface="TradeGothicM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23619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31208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31208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4E6AD-2FBD-4CE8-A3F0-BC559E886E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987640" y="475920"/>
            <a:ext cx="605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4933c"/>
              </a:solidFill>
              <a:latin typeface="TradeGothic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236196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236196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31208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31208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31208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550EC-56EA-4076-B8D9-80CE9B0177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BDAB67-D88D-428E-9DB5-CA5E24AA7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987640" y="475920"/>
            <a:ext cx="605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4933c"/>
              </a:solidFill>
              <a:latin typeface="TradeGothic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97A7AA-00EE-464F-9800-1456775A5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987640" y="475920"/>
            <a:ext cx="605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4933c"/>
              </a:solidFill>
              <a:latin typeface="TradeGothicM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9F9233-BFBD-41B9-BED0-3B0770CC1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987640" y="475920"/>
            <a:ext cx="605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4933c"/>
              </a:solidFill>
              <a:latin typeface="TradeGothic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36196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3DB838-55A9-488D-AE3A-F159B31A5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987640" y="475920"/>
            <a:ext cx="605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4933c"/>
              </a:solidFill>
              <a:latin typeface="TradeGothic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975AC2-6026-49BC-A73C-11A93B307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2987640" y="475920"/>
            <a:ext cx="605016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A02F16-1943-4997-A6C0-1D205E452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987640" y="475920"/>
            <a:ext cx="605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4933c"/>
              </a:solidFill>
              <a:latin typeface="TradeGothic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36196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31208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92FB9A-4BD3-4B69-94D3-847E2282B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87640" y="475920"/>
            <a:ext cx="605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4933c"/>
              </a:solidFill>
              <a:latin typeface="TradeGothic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55CD6-E4A4-4B9C-9D88-4D15F4AF69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987640" y="475920"/>
            <a:ext cx="605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4933c"/>
              </a:solidFill>
              <a:latin typeface="TradeGothic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23619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31208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4193A3-718E-49F2-B46B-64615F38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987640" y="475920"/>
            <a:ext cx="605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4933c"/>
              </a:solidFill>
              <a:latin typeface="TradeGothic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3619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312080"/>
            <a:ext cx="77724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75F350-CFEB-4C1D-BAA5-6C2C5C7B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987640" y="475920"/>
            <a:ext cx="605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4933c"/>
              </a:solidFill>
              <a:latin typeface="TradeGothic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312080"/>
            <a:ext cx="77724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FED6C3-6E69-4D7F-A2DF-ED8C64130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987640" y="475920"/>
            <a:ext cx="605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4933c"/>
              </a:solidFill>
              <a:latin typeface="TradeGothicM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23619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31208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31208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3CA12E-8BF3-4891-AC50-D49F2ED60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87640" y="475920"/>
            <a:ext cx="605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4933c"/>
              </a:solidFill>
              <a:latin typeface="TradeGothicM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236196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236196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31208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31208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31208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BD493E-96C0-4CC7-9580-BD7FB078C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987640" y="475920"/>
            <a:ext cx="605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4933c"/>
              </a:solidFill>
              <a:latin typeface="TradeGothic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AE63D-84E6-40B6-9EAD-74B5AA61F1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987640" y="475920"/>
            <a:ext cx="605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4933c"/>
              </a:solidFill>
              <a:latin typeface="TradeGothicM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236196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17F5B-4AC7-41C8-B8F7-7BB5F0A197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987640" y="475920"/>
            <a:ext cx="605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4933c"/>
              </a:solidFill>
              <a:latin typeface="TradeGothic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F841D-FC9D-472B-B232-9E899FC492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987640" y="475920"/>
            <a:ext cx="605016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85CCA-0317-494B-8996-784EE9AD7F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987640" y="475920"/>
            <a:ext cx="605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4933c"/>
              </a:solidFill>
              <a:latin typeface="TradeGothic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36196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31208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E4C1C-BB58-4E69-A3DA-84E60203E9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87640" y="475920"/>
            <a:ext cx="605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4933c"/>
              </a:solidFill>
              <a:latin typeface="TradeGothic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3619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31208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97678-D26D-417F-AD5D-3D27915A85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87640" y="475920"/>
            <a:ext cx="605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4933c"/>
              </a:solidFill>
              <a:latin typeface="TradeGothic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23619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312080"/>
            <a:ext cx="77724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509D7-899A-4A74-89CD-E54CE972FE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pptx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package" Target="../embeddings/oleObject1.pptx"/><Relationship Id="rId3" Type="http://schemas.openxmlformats.org/officeDocument/2006/relationships/image" Target="../media/image5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5580000" cy="342900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55800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" name="" descr=""/>
          <p:cNvPicPr/>
          <p:nvPr/>
        </p:nvPicPr>
        <p:blipFill>
          <a:blip r:embed="rId4"/>
          <a:srcRect l="7692" t="91996" r="0" b="0"/>
          <a:stretch/>
        </p:blipFill>
        <p:spPr>
          <a:xfrm>
            <a:off x="0" y="6308640"/>
            <a:ext cx="9144000" cy="54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987640" y="475920"/>
            <a:ext cx="605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4933c"/>
                </a:solidFill>
                <a:latin typeface="TradeGothicM"/>
              </a:rPr>
              <a:t>Click to edit the title text format</a:t>
            </a:r>
            <a:endParaRPr b="1" lang="en-US" sz="4000" spc="-1" strike="noStrike">
              <a:solidFill>
                <a:srgbClr val="24933c"/>
              </a:solidFill>
              <a:latin typeface="TradeGothic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976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76"/>
                </a:solidFill>
                <a:latin typeface="TradeGothicM"/>
              </a:rPr>
              <a:t>Click to edit the outline text format</a:t>
            </a: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  <a:p>
            <a:pPr lvl="1" marL="743040" indent="-285840">
              <a:spcBef>
                <a:spcPts val="601"/>
              </a:spcBef>
              <a:buClr>
                <a:srgbClr val="003976"/>
              </a:buClr>
              <a:buFont typeface="TradeGothic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76"/>
                </a:solidFill>
                <a:latin typeface="TradeGothicM"/>
              </a:rPr>
              <a:t>Second Outline Level</a:t>
            </a: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  <a:p>
            <a:pPr lvl="2" marL="1143000" indent="-228600">
              <a:spcBef>
                <a:spcPts val="601"/>
              </a:spcBef>
              <a:buClr>
                <a:srgbClr val="003976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76"/>
                </a:solidFill>
                <a:latin typeface="TradeGothicM"/>
              </a:rPr>
              <a:t>Third Outline Level</a:t>
            </a: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  <a:p>
            <a:pPr lvl="3" marL="1600200" indent="-228600">
              <a:spcBef>
                <a:spcPts val="601"/>
              </a:spcBef>
              <a:buClr>
                <a:srgbClr val="003976"/>
              </a:buClr>
              <a:buFont typeface="TradeGothic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76"/>
                </a:solidFill>
                <a:latin typeface="TradeGothicM"/>
              </a:rPr>
              <a:t>Fourth Outline Level</a:t>
            </a: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  <a:p>
            <a:pPr lvl="4" marL="2057400" indent="-228600">
              <a:spcBef>
                <a:spcPts val="601"/>
              </a:spcBef>
              <a:buClr>
                <a:srgbClr val="003976"/>
              </a:buClr>
              <a:buFont typeface="TradeGothic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76"/>
                </a:solidFill>
                <a:latin typeface="TradeGothicM"/>
              </a:rPr>
              <a:t>Fifth Outline Level</a:t>
            </a: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radeGothic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76"/>
                </a:solidFill>
                <a:latin typeface="TradeGothicM"/>
              </a:rPr>
              <a:t>Sixth Outline Level</a:t>
            </a: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radeGothic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76"/>
                </a:solidFill>
                <a:latin typeface="TradeGothicM"/>
              </a:rPr>
              <a:t>Seventh Outline Level</a:t>
            </a: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684360" y="6524640"/>
            <a:ext cx="352728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3924360" y="6524640"/>
            <a:ext cx="190512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A9CD0-751E-4EF9-8B25-7EB5A0B1C485}" type="slidenum">
              <a:rPr b="1" lang="en-US" sz="12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0" y="0"/>
            <a:ext cx="2943360" cy="226692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6"/>
          <a:stretch/>
        </p:blipFill>
        <p:spPr>
          <a:xfrm>
            <a:off x="5934240" y="6353280"/>
            <a:ext cx="3209760" cy="504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0" y="0"/>
          <a:ext cx="7927920" cy="541332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7927920" cy="54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49326"/>
                </a:solidFill>
                <a:latin typeface="TradeGothicM"/>
              </a:rPr>
              <a:t>Click to edit the title text format</a:t>
            </a:r>
            <a:endParaRPr b="1" lang="en-US" sz="4800" spc="-1" strike="noStrike">
              <a:solidFill>
                <a:srgbClr val="249326"/>
              </a:solidFill>
              <a:latin typeface="TradeGothicM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FB947-FD8B-415F-88DC-15AEA0F150BF}" type="slidenum"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067280" cy="30686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76"/>
                </a:solidFill>
                <a:latin typeface="TradeGothicM"/>
              </a:rPr>
              <a:t>Click to edit the outline text format</a:t>
            </a: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976"/>
                </a:solidFill>
                <a:latin typeface="TradeGothicM"/>
              </a:rPr>
              <a:t>Second Outline Level</a:t>
            </a:r>
            <a:endParaRPr b="1" lang="en-US" sz="2200" spc="-1" strike="noStrike">
              <a:solidFill>
                <a:srgbClr val="003976"/>
              </a:solidFill>
              <a:latin typeface="TradeGothicM"/>
            </a:endParaRPr>
          </a:p>
          <a:p>
            <a:pPr lvl="2" marL="914400" algn="ctr">
              <a:spcBef>
                <a:spcPts val="451"/>
              </a:spcBef>
              <a:buClr>
                <a:srgbClr val="003976"/>
              </a:buClr>
              <a:buFont typeface="TradeGothicM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976"/>
                </a:solidFill>
                <a:latin typeface="TradeGothicM"/>
              </a:rPr>
              <a:t>Third Outline Level</a:t>
            </a:r>
            <a:endParaRPr b="1" lang="en-US" sz="1800" spc="-1" strike="noStrike">
              <a:solidFill>
                <a:srgbClr val="003976"/>
              </a:solidFill>
              <a:latin typeface="TradeGothicM"/>
            </a:endParaRPr>
          </a:p>
          <a:p>
            <a:pPr lvl="3" marL="1371600" algn="ctr">
              <a:spcBef>
                <a:spcPts val="400"/>
              </a:spcBef>
              <a:buClr>
                <a:srgbClr val="003976"/>
              </a:buClr>
              <a:buFont typeface="TradeGothicM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976"/>
                </a:solidFill>
                <a:latin typeface="TradeGothicM"/>
              </a:rPr>
              <a:t>Fourth Outline Level</a:t>
            </a:r>
            <a:endParaRPr b="1" lang="en-US" sz="1600" spc="-1" strike="noStrike">
              <a:solidFill>
                <a:srgbClr val="003976"/>
              </a:solidFill>
              <a:latin typeface="TradeGothicM"/>
            </a:endParaRPr>
          </a:p>
          <a:p>
            <a:pPr lvl="4" marL="1828800" algn="ctr">
              <a:spcBef>
                <a:spcPts val="349"/>
              </a:spcBef>
              <a:buClr>
                <a:srgbClr val="003976"/>
              </a:buClr>
              <a:buFont typeface="TradeGothicM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976"/>
                </a:solidFill>
                <a:latin typeface="TradeGothicM"/>
              </a:rPr>
              <a:t>Fifth Outline Level</a:t>
            </a:r>
            <a:endParaRPr b="1" lang="en-US" sz="1400" spc="-1" strike="noStrike">
              <a:solidFill>
                <a:srgbClr val="003976"/>
              </a:solidFill>
              <a:latin typeface="TradeGothicM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TradeGothic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976"/>
                </a:solidFill>
                <a:latin typeface="TradeGothicM"/>
              </a:rPr>
              <a:t>Sixth Outline Level</a:t>
            </a:r>
            <a:endParaRPr b="1" lang="en-US" sz="1400" spc="-1" strike="noStrike">
              <a:solidFill>
                <a:srgbClr val="003976"/>
              </a:solidFill>
              <a:latin typeface="TradeGothicM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TradeGothic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976"/>
                </a:solidFill>
                <a:latin typeface="TradeGothicM"/>
              </a:rPr>
              <a:t>Seventh Outline Level</a:t>
            </a:r>
            <a:endParaRPr b="1" lang="en-US" sz="1400" spc="-1" strike="noStrike">
              <a:solidFill>
                <a:srgbClr val="003976"/>
              </a:solidFill>
              <a:latin typeface="TradeGothic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b2_lkg.ppt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fak.dir" TargetMode="External"/><Relationship Id="rId2" Type="http://schemas.openxmlformats.org/officeDocument/2006/relationships/hyperlink" Target="file:///b1%5B1%5D_lkg.doc" TargetMode="External"/><Relationship Id="rId3" Type="http://schemas.openxmlformats.org/officeDocument/2006/relationships/hyperlink" Target="file:///fel3.doc" TargetMode="Externa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sulinet.hu/" TargetMode="External"/><Relationship Id="rId2" Type="http://schemas.openxmlformats.org/officeDocument/2006/relationships/hyperlink" Target="http://www.sulinet.hu/" TargetMode="External"/><Relationship Id="rId3" Type="http://schemas.openxmlformats.org/officeDocument/2006/relationships/hyperlink" Target="http://www.sulinet.hu/" TargetMode="External"/><Relationship Id="rId4" Type="http://schemas.openxmlformats.org/officeDocument/2006/relationships/hyperlink" Target="file:///moodle.JPG" TargetMode="External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tevekenyseg.JPG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keringes/keringes.ppt" TargetMode="External"/><Relationship Id="rId2" Type="http://schemas.openxmlformats.org/officeDocument/2006/relationships/hyperlink" Target="file:///ppt5-2_LKG.ppt" TargetMode="External"/><Relationship Id="rId3" Type="http://schemas.openxmlformats.org/officeDocument/2006/relationships/hyperlink" Target="http://www.e-szamok.hu/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ulinet.hu/" TargetMode="External"/><Relationship Id="rId2" Type="http://schemas.openxmlformats.org/officeDocument/2006/relationships/hyperlink" Target="http://www.google.co.hu/" TargetMode="External"/><Relationship Id="rId3" Type="http://schemas.openxmlformats.org/officeDocument/2006/relationships/hyperlink" Target="http://www.altavizsla.hu/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eszt3.jpg" TargetMode="External"/><Relationship Id="rId2" Type="http://schemas.openxmlformats.org/officeDocument/2006/relationships/hyperlink" Target="file:///fel1.doc" TargetMode="External"/><Relationship Id="rId3" Type="http://schemas.openxmlformats.org/officeDocument/2006/relationships/hyperlink" Target="file:///csfainter1.dir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eundp.digitalbrain.com/sebokkata.eundp/web/noveny/index.html" TargetMode="External"/><Relationship Id="rId2" Type="http://schemas.openxmlformats.org/officeDocument/2006/relationships/hyperlink" Target="file:///fel2.doc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49326"/>
                </a:solidFill>
                <a:latin typeface="TradeGothicM"/>
              </a:rPr>
              <a:t>Az IKT eszközök felhasználási lehetőségei </a:t>
            </a:r>
            <a:br>
              <a:rPr sz="4400"/>
            </a:br>
            <a:r>
              <a:rPr b="1" lang="en-US" sz="4400" spc="-1" strike="noStrike">
                <a:solidFill>
                  <a:srgbClr val="249326"/>
                </a:solidFill>
                <a:latin typeface="TradeGothicM"/>
              </a:rPr>
              <a:t>a tanórán</a:t>
            </a:r>
            <a:endParaRPr b="1" lang="en-US" sz="4400" spc="-1" strike="noStrike">
              <a:solidFill>
                <a:srgbClr val="249326"/>
              </a:solidFill>
              <a:latin typeface="TradeGothic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221000"/>
            <a:ext cx="6400800" cy="18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76"/>
                </a:solidFill>
                <a:latin typeface="TradeGothicM"/>
              </a:rPr>
              <a:t>Leövey Klára Gimnázium</a:t>
            </a: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76"/>
                </a:solidFill>
                <a:latin typeface="TradeGothicM"/>
              </a:rPr>
              <a:t>Sebőkné Orosz Katalin</a:t>
            </a: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987640" y="475920"/>
            <a:ext cx="605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4933c"/>
                </a:solidFill>
                <a:latin typeface="TradeGothicM"/>
              </a:rPr>
              <a:t>Tanóra a számítógépteremben</a:t>
            </a:r>
            <a:endParaRPr b="1" lang="en-US" sz="4000" spc="-1" strike="noStrike">
              <a:solidFill>
                <a:srgbClr val="24933c"/>
              </a:solidFill>
              <a:latin typeface="TradeGothic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8920" y="1981080"/>
            <a:ext cx="871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3976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76"/>
                </a:solidFill>
                <a:latin typeface="TradeGothicM"/>
              </a:rPr>
              <a:t>Lehet hatékonyabb együttműködésre nevelni a számítógéppel?</a:t>
            </a: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  <a:p>
            <a:pPr marL="335880" indent="-335880">
              <a:spcBef>
                <a:spcPts val="601"/>
              </a:spcBef>
              <a:buClr>
                <a:srgbClr val="b2b2b2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radeGothicM"/>
              </a:rPr>
              <a:t>2/2. A csoportmunka</a:t>
            </a: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  <a:p>
            <a:pPr marL="335880" indent="-335880">
              <a:spcBef>
                <a:spcPts val="601"/>
              </a:spcBef>
              <a:buClr>
                <a:srgbClr val="b2b2b2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radeGothicM"/>
              </a:rPr>
              <a:t>A csoporttagok egymásra nagy hatással vannak</a:t>
            </a: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  <a:p>
            <a:pPr marL="335880" indent="-335880">
              <a:spcBef>
                <a:spcPts val="601"/>
              </a:spcBef>
              <a:buClr>
                <a:srgbClr val="b2b2b2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radeGothicM"/>
              </a:rPr>
              <a:t>A csoportban mindenkinek </a:t>
            </a:r>
            <a:r>
              <a:rPr b="1" lang="en-US" sz="2400" spc="-1" strike="noStrike" u="sng">
                <a:solidFill>
                  <a:srgbClr val="ccccff"/>
                </a:solidFill>
                <a:uFillTx/>
                <a:latin typeface="TradeGothicM"/>
                <a:hlinkClick r:id="rId1"/>
              </a:rPr>
              <a:t>kijelölt szerepe </a:t>
            </a:r>
            <a:r>
              <a:rPr b="1" lang="en-US" sz="2400" spc="-1" strike="noStrike" u="sng">
                <a:solidFill>
                  <a:srgbClr val="b2b2b2"/>
                </a:solidFill>
                <a:uFillTx/>
                <a:latin typeface="TradeGothicM"/>
              </a:rPr>
              <a:t>van, amiért felelősséggel tartozik a többiek felé</a:t>
            </a: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  <a:p>
            <a:pPr marL="335880" indent="-335880">
              <a:spcBef>
                <a:spcPts val="601"/>
              </a:spcBef>
              <a:buClr>
                <a:srgbClr val="b2b2b2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radeGothicM"/>
              </a:rPr>
              <a:t>A csoport sikere a csoporttagok lelkiismeretes munkájától függ</a:t>
            </a: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  <a:p>
            <a:pPr marL="335880" indent="-335880">
              <a:spcBef>
                <a:spcPts val="601"/>
              </a:spcBef>
              <a:buClr>
                <a:srgbClr val="b2b2b2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radeGothicM"/>
              </a:rPr>
              <a:t>Ezért minden csoporttag végig aktív a tanulási folyamat alatt</a:t>
            </a: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D78D7-B733-4D3D-BBDF-386B55FFF15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987640" y="475920"/>
            <a:ext cx="605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4933c"/>
                </a:solidFill>
                <a:latin typeface="TradeGothicM"/>
              </a:rPr>
              <a:t>Tanóra a számítógépteremben</a:t>
            </a:r>
            <a:endParaRPr b="1" lang="en-US" sz="4000" spc="-1" strike="noStrike">
              <a:solidFill>
                <a:srgbClr val="24933c"/>
              </a:solidFill>
              <a:latin typeface="TradeGothic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981080"/>
            <a:ext cx="885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76"/>
                </a:solidFill>
                <a:latin typeface="TradeGothicM"/>
              </a:rPr>
              <a:t>Minden csoport ugyanazt csinálja?</a:t>
            </a: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  <a:p>
            <a:pPr marL="609480" indent="-609480">
              <a:spcBef>
                <a:spcPts val="601"/>
              </a:spcBef>
              <a:buClr>
                <a:srgbClr val="b2b2b2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radeGothicM"/>
              </a:rPr>
              <a:t>Ez a céltól függ.</a:t>
            </a: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  <a:p>
            <a:pPr marL="609480" indent="-609480">
              <a:spcBef>
                <a:spcPts val="601"/>
              </a:spcBef>
              <a:buClr>
                <a:srgbClr val="b2b2b2"/>
              </a:buClr>
              <a:buFont typeface="TradeGothic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radeGothicM"/>
              </a:rPr>
              <a:t>Mindenkivel el szeretném sajátítani az ismeretet – </a:t>
            </a:r>
            <a:r>
              <a:rPr b="1" lang="en-US" sz="2400" spc="-1" strike="noStrike" u="sng">
                <a:solidFill>
                  <a:srgbClr val="ccccff"/>
                </a:solidFill>
                <a:uFillTx/>
                <a:latin typeface="TradeGothicM"/>
                <a:hlinkClick r:id="rId1"/>
              </a:rPr>
              <a:t>egyforma csoportfeladat</a:t>
            </a: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  <a:p>
            <a:pPr marL="609480" indent="-609480">
              <a:spcBef>
                <a:spcPts val="601"/>
              </a:spcBef>
              <a:buClr>
                <a:srgbClr val="b2b2b2"/>
              </a:buClr>
              <a:buFont typeface="TradeGothic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radeGothicM"/>
              </a:rPr>
              <a:t>Bővíteni szeretném mindenki ismeretkörét a témában – </a:t>
            </a:r>
            <a:r>
              <a:rPr b="1" lang="en-US" sz="2400" spc="-1" strike="noStrike" u="sng">
                <a:solidFill>
                  <a:srgbClr val="ccccff"/>
                </a:solidFill>
                <a:uFillTx/>
                <a:latin typeface="TradeGothicM"/>
                <a:hlinkClick r:id="rId2"/>
              </a:rPr>
              <a:t>differenciált csoportfeladat</a:t>
            </a: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  <a:p>
            <a:pPr marL="609480" indent="-609480">
              <a:spcBef>
                <a:spcPts val="601"/>
              </a:spcBef>
              <a:buClr>
                <a:srgbClr val="b2b2b2"/>
              </a:buClr>
              <a:buFont typeface="TradeGothic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radeGothicM"/>
              </a:rPr>
              <a:t>Eltérő érdeklődésű vagy képességű csoportok – </a:t>
            </a:r>
            <a:r>
              <a:rPr b="1" lang="en-US" sz="2400" spc="-1" strike="noStrike" u="sng">
                <a:solidFill>
                  <a:srgbClr val="ccccff"/>
                </a:solidFill>
                <a:uFillTx/>
                <a:latin typeface="TradeGothicM"/>
                <a:hlinkClick r:id="rId3"/>
              </a:rPr>
              <a:t>differenciált csoportfeladat</a:t>
            </a: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A96F1-2D8E-4F74-862E-B59A8B4393A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987640" y="475920"/>
            <a:ext cx="605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4933c"/>
                </a:solidFill>
                <a:latin typeface="TradeGothicM"/>
              </a:rPr>
              <a:t>Tanóra a számítógépteremben</a:t>
            </a:r>
            <a:endParaRPr b="1" lang="en-US" sz="4000" spc="-1" strike="noStrike">
              <a:solidFill>
                <a:srgbClr val="24933c"/>
              </a:solidFill>
              <a:latin typeface="TradeGothic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7854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976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3976"/>
                </a:solidFill>
                <a:latin typeface="TradeGothicM"/>
              </a:rPr>
              <a:t>Hogyan használjam az SDT anyagait?</a:t>
            </a: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b2b2b2"/>
                </a:solidFill>
                <a:latin typeface="TradeGothicM"/>
              </a:rPr>
              <a:t>Legegyszerűbb előre letölteni és bemutatóba ágyazni.</a:t>
            </a: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b2b2b2"/>
                </a:solidFill>
                <a:latin typeface="TradeGothicM"/>
              </a:rPr>
              <a:t>Használható</a:t>
            </a:r>
            <a:r>
              <a:rPr b="1" lang="hu-HU" sz="2400" spc="-1" strike="noStrike" u="sng">
                <a:solidFill>
                  <a:srgbClr val="ccccff"/>
                </a:solidFill>
                <a:uFillTx/>
                <a:latin typeface="TradeGothicM"/>
                <a:hlinkClick r:id="rId1"/>
              </a:rPr>
              <a:t> </a:t>
            </a:r>
            <a:r>
              <a:rPr b="1" lang="hu-HU" sz="2400" spc="-1" strike="noStrike" u="sng">
                <a:solidFill>
                  <a:srgbClr val="ccccff"/>
                </a:solidFill>
                <a:uFillTx/>
                <a:latin typeface="TradeGothicM"/>
                <a:hlinkClick r:id="rId2"/>
              </a:rPr>
              <a:t>on-line</a:t>
            </a:r>
            <a:r>
              <a:rPr b="1" lang="hu-HU" sz="2400" spc="-1" strike="noStrike" u="sng">
                <a:solidFill>
                  <a:srgbClr val="ccccff"/>
                </a:solidFill>
                <a:uFillTx/>
                <a:latin typeface="TradeGothicM"/>
                <a:hlinkClick r:id="rId3"/>
              </a:rPr>
              <a:t> </a:t>
            </a:r>
            <a:r>
              <a:rPr b="1" lang="hu-HU" sz="2400" spc="-1" strike="noStrike">
                <a:solidFill>
                  <a:srgbClr val="b2b2b2"/>
                </a:solidFill>
                <a:latin typeface="TradeGothicM"/>
              </a:rPr>
              <a:t>(ilyenkor a feladatlapban pontosítani kell a navigálást)</a:t>
            </a: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b2b2b2"/>
                </a:solidFill>
                <a:latin typeface="TradeGothicM"/>
              </a:rPr>
              <a:t>Használható a </a:t>
            </a:r>
            <a:r>
              <a:rPr b="1" lang="hu-HU" sz="2400" spc="-1" strike="noStrike" u="sng">
                <a:solidFill>
                  <a:srgbClr val="ccccff"/>
                </a:solidFill>
                <a:uFillTx/>
                <a:latin typeface="TradeGothicM"/>
                <a:hlinkClick r:id="rId4"/>
              </a:rPr>
              <a:t>Moodle keretrendszerbe </a:t>
            </a:r>
            <a:r>
              <a:rPr b="1" lang="hu-HU" sz="2400" spc="-1" strike="noStrike">
                <a:solidFill>
                  <a:srgbClr val="b2b2b2"/>
                </a:solidFill>
                <a:latin typeface="TradeGothicM"/>
              </a:rPr>
              <a:t>ágyazva (letöltött elemek, on-line használathoz linkek)</a:t>
            </a: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C43C5-0057-419C-B765-6A91AF3C4E8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987640" y="475920"/>
            <a:ext cx="605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4933c"/>
                </a:solidFill>
                <a:latin typeface="TradeGothicM"/>
              </a:rPr>
              <a:t>Tanóra a gépteremben</a:t>
            </a:r>
            <a:endParaRPr b="1" lang="en-US" sz="4000" spc="-1" strike="noStrike">
              <a:solidFill>
                <a:srgbClr val="24933c"/>
              </a:solidFill>
              <a:latin typeface="TradeGothicM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7854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976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76"/>
                </a:solidFill>
                <a:latin typeface="TradeGothicM"/>
              </a:rPr>
              <a:t>Mi az a Moodle?</a:t>
            </a: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TradeGothicM"/>
              </a:rPr>
              <a:t>Egy távoktatásra tervezett program.</a:t>
            </a: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TradeGothicM"/>
              </a:rPr>
              <a:t>Előre megtervezhető és elkészíthető vele a tanóra.</a:t>
            </a: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ccff"/>
                </a:solidFill>
                <a:uFillTx/>
                <a:latin typeface="TradeGothicM"/>
                <a:hlinkClick r:id="rId1"/>
              </a:rPr>
              <a:t>Sokféle tevékenységet</a:t>
            </a:r>
            <a:r>
              <a:rPr b="1" lang="en-US" sz="2000" spc="-1" strike="noStrike" u="sng">
                <a:solidFill>
                  <a:srgbClr val="b2b2b2"/>
                </a:solidFill>
                <a:uFillTx/>
                <a:latin typeface="TradeGothicM"/>
              </a:rPr>
              <a:t>, forráselérést biztosít.</a:t>
            </a: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TradeGothicM"/>
              </a:rPr>
              <a:t>Nincsenek navigálási problémák.</a:t>
            </a: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TradeGothicM"/>
              </a:rPr>
              <a:t>Egy kurzust csak az lát, akinek szánom.</a:t>
            </a: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TradeGothicM"/>
              </a:rPr>
              <a:t>Könnyen irányítható vele a diák.</a:t>
            </a: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TradeGothicM"/>
              </a:rPr>
              <a:t>A tanulói aktivitás és tevékenység hatékonysága egy adatbázis segítségével nyomon követhető. </a:t>
            </a: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42823-9002-44A2-96C4-AAF2F7795AD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987640" y="475920"/>
            <a:ext cx="605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4933c"/>
                </a:solidFill>
                <a:latin typeface="TradeGothicM"/>
              </a:rPr>
              <a:t>Tanóra a gépteremben</a:t>
            </a:r>
            <a:endParaRPr b="1" lang="en-US" sz="4000" spc="-1" strike="noStrike">
              <a:solidFill>
                <a:srgbClr val="24933c"/>
              </a:solidFill>
              <a:latin typeface="TradeGothic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57880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976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76"/>
                </a:solidFill>
                <a:latin typeface="TradeGothicM"/>
              </a:rPr>
              <a:t>Milyen típusú órákat lehet számítógéppel segíteni?</a:t>
            </a: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radeGothicM"/>
              </a:rPr>
              <a:t>Új anyag közlő órát</a:t>
            </a: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radeGothicM"/>
              </a:rPr>
              <a:t>Gyakoroltató órát</a:t>
            </a: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radeGothicM"/>
              </a:rPr>
              <a:t>Összefoglaló-rendszerező órát</a:t>
            </a: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radeGothicM"/>
              </a:rPr>
              <a:t>Ellenőrző órát</a:t>
            </a: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E93CC-F22B-47A6-ADEA-9FC95407FE3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987640" y="475920"/>
            <a:ext cx="605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4933c"/>
                </a:solidFill>
                <a:latin typeface="TradeGothicM"/>
              </a:rPr>
              <a:t>Jó ez nekem vagy a diáknak?</a:t>
            </a:r>
            <a:endParaRPr b="1" lang="en-US" sz="4000" spc="-1" strike="noStrike">
              <a:solidFill>
                <a:srgbClr val="24933c"/>
              </a:solidFill>
              <a:latin typeface="TradeGothicM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976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76"/>
                </a:solidFill>
                <a:latin typeface="TradeGothicM"/>
              </a:rPr>
              <a:t>Mennyi időt vesz igénybe az előkészítés?</a:t>
            </a: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TradeGothicM"/>
              </a:rPr>
              <a:t>Sokat (tervkészítés, letöltés, kurzusóra megszerkesztése, tanulói feladatok pontozása stb.)</a:t>
            </a: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TradeGothicM"/>
              </a:rPr>
              <a:t>Megéri!</a:t>
            </a: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TradeGothicM"/>
              </a:rPr>
              <a:t>Később is felhasználható!</a:t>
            </a: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TradeGothicM"/>
              </a:rPr>
              <a:t>Esztétikus!</a:t>
            </a: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TradeGothicM"/>
              </a:rPr>
              <a:t>A tanulók számára is élvezetes!</a:t>
            </a: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TradeGothicM"/>
              </a:rPr>
              <a:t>Egész órán aktív marad a diák!</a:t>
            </a: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TradeGothicM"/>
              </a:rPr>
              <a:t>Tapasztalatokra építi a tudását!</a:t>
            </a: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TradeGothicM"/>
              </a:rPr>
              <a:t>Egymástól is tanulnak!</a:t>
            </a: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TradeGothicM"/>
              </a:rPr>
              <a:t>Toleranciára nevel!</a:t>
            </a: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TradeGothicM"/>
              </a:rPr>
              <a:t>Az IKT eszközök használatának képessége fejleszthető ezzel!</a:t>
            </a: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86792-DBCF-4AF0-975E-E60FE079ABD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987640" y="475920"/>
            <a:ext cx="605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4933c"/>
                </a:solidFill>
                <a:latin typeface="TradeGothicM"/>
              </a:rPr>
              <a:t>Konkrét SDT órák (a valóság)</a:t>
            </a:r>
            <a:endParaRPr b="1" lang="en-US" sz="3600" spc="-1" strike="noStrike">
              <a:solidFill>
                <a:srgbClr val="24933c"/>
              </a:solidFill>
              <a:latin typeface="TradeGothic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0256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976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76"/>
                </a:solidFill>
                <a:latin typeface="TradeGothicM"/>
              </a:rPr>
              <a:t>Egy SDT alapú óra (nyomtatott feladatlap)</a:t>
            </a: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-343080">
              <a:spcBef>
                <a:spcPts val="499"/>
              </a:spcBef>
              <a:buClr>
                <a:srgbClr val="003976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76"/>
                </a:solidFill>
                <a:latin typeface="TradeGothicM"/>
              </a:rPr>
              <a:t>Egy Moodle keretrendszerbe ágyazott SDT óra</a:t>
            </a: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258920" y="620640"/>
            <a:ext cx="6499080" cy="58755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1692360" y="298440"/>
            <a:ext cx="6624720" cy="63705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1403280" y="189000"/>
            <a:ext cx="6753240" cy="64674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611280" y="115920"/>
            <a:ext cx="8035920" cy="66168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5"/>
          <a:stretch/>
        </p:blipFill>
        <p:spPr>
          <a:xfrm>
            <a:off x="539640" y="136440"/>
            <a:ext cx="8209080" cy="65325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6"/>
          <a:stretch/>
        </p:blipFill>
        <p:spPr>
          <a:xfrm>
            <a:off x="611280" y="115920"/>
            <a:ext cx="8208720" cy="66261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7"/>
          <a:stretch/>
        </p:blipFill>
        <p:spPr>
          <a:xfrm>
            <a:off x="611280" y="189000"/>
            <a:ext cx="8281800" cy="64087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8"/>
          <a:stretch/>
        </p:blipFill>
        <p:spPr>
          <a:xfrm>
            <a:off x="611280" y="260280"/>
            <a:ext cx="7313400" cy="295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9E335-762E-45B0-AAA5-6B4C109D2BC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5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0" dur="2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10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5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2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0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3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87640" y="475920"/>
            <a:ext cx="605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4933c"/>
                </a:solidFill>
                <a:latin typeface="TradeGothicM"/>
              </a:rPr>
              <a:t>Tanulói tapasztalatok</a:t>
            </a:r>
            <a:endParaRPr b="1" lang="en-US" sz="4000" spc="-1" strike="noStrike">
              <a:solidFill>
                <a:srgbClr val="24933c"/>
              </a:solidFill>
              <a:latin typeface="TradeGothicM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976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3976"/>
                </a:solidFill>
                <a:latin typeface="TradeGothicM"/>
              </a:rPr>
              <a:t>Minden órámon pozitív visszajelzés</a:t>
            </a: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976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3976"/>
                </a:solidFill>
                <a:latin typeface="TradeGothicM"/>
              </a:rPr>
              <a:t>„</a:t>
            </a:r>
            <a:r>
              <a:rPr b="1" lang="hu-HU" sz="2000" spc="-1" strike="noStrike">
                <a:solidFill>
                  <a:srgbClr val="003976"/>
                </a:solidFill>
                <a:latin typeface="TradeGothicM"/>
              </a:rPr>
              <a:t>Így valahogy jobban megértem.”</a:t>
            </a: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976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3976"/>
                </a:solidFill>
                <a:latin typeface="TradeGothicM"/>
              </a:rPr>
              <a:t>„</a:t>
            </a:r>
            <a:r>
              <a:rPr b="1" lang="hu-HU" sz="2000" spc="-1" strike="noStrike">
                <a:solidFill>
                  <a:srgbClr val="003976"/>
                </a:solidFill>
                <a:latin typeface="TradeGothicM"/>
              </a:rPr>
              <a:t>Jó egész órán együttdolgozni.”</a:t>
            </a: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976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3976"/>
                </a:solidFill>
                <a:latin typeface="TradeGothicM"/>
              </a:rPr>
              <a:t>„</a:t>
            </a:r>
            <a:r>
              <a:rPr b="1" lang="hu-HU" sz="2000" spc="-1" strike="noStrike">
                <a:solidFill>
                  <a:srgbClr val="003976"/>
                </a:solidFill>
                <a:latin typeface="TradeGothicM"/>
              </a:rPr>
              <a:t>Tanárnő! Ez tök izgi óra volt!”</a:t>
            </a: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976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3976"/>
                </a:solidFill>
                <a:latin typeface="TradeGothicM"/>
              </a:rPr>
              <a:t>„</a:t>
            </a:r>
            <a:r>
              <a:rPr b="1" lang="hu-HU" sz="2000" spc="-1" strike="noStrike">
                <a:solidFill>
                  <a:srgbClr val="003976"/>
                </a:solidFill>
                <a:latin typeface="TradeGothicM"/>
              </a:rPr>
              <a:t>Jaj! Még hadd csináljuuuuk!”</a:t>
            </a: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976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3976"/>
                </a:solidFill>
                <a:latin typeface="TradeGothicM"/>
              </a:rPr>
              <a:t>„</a:t>
            </a:r>
            <a:r>
              <a:rPr b="1" lang="hu-HU" sz="2000" spc="-1" strike="noStrike">
                <a:solidFill>
                  <a:srgbClr val="003976"/>
                </a:solidFill>
                <a:latin typeface="TradeGothicM"/>
              </a:rPr>
              <a:t>Tanárnő! Tegnap nem mertem belemenni a Moodle-ba, nehogy kizárjon a mai óráról!”</a:t>
            </a: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976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3976"/>
                </a:solidFill>
                <a:latin typeface="TradeGothicM"/>
              </a:rPr>
              <a:t>„</a:t>
            </a:r>
            <a:r>
              <a:rPr b="1" lang="hu-HU" sz="2000" spc="-1" strike="noStrike">
                <a:solidFill>
                  <a:srgbClr val="003976"/>
                </a:solidFill>
                <a:latin typeface="TradeGothicM"/>
              </a:rPr>
              <a:t>Ugye nem baj, hogy este még írtam a fórumra?”</a:t>
            </a: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976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3976"/>
                </a:solidFill>
                <a:latin typeface="TradeGothicM"/>
              </a:rPr>
              <a:t>„</a:t>
            </a:r>
            <a:r>
              <a:rPr b="1" lang="hu-HU" sz="2000" spc="-1" strike="noStrike">
                <a:solidFill>
                  <a:srgbClr val="003976"/>
                </a:solidFill>
                <a:latin typeface="TradeGothicM"/>
              </a:rPr>
              <a:t>Ezek a legklasszabb biosz órák!”</a:t>
            </a: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3976"/>
                </a:solidFill>
                <a:latin typeface="TradeGothicM"/>
              </a:rPr>
              <a:t>Kell ennél több egy tanárnak?</a:t>
            </a: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C0C96-B49C-4ED9-A069-F2B081DDE84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2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7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2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7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2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7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2" dur="5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7" dur="500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987640" y="475920"/>
            <a:ext cx="605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4933c"/>
              </a:solidFill>
              <a:latin typeface="TradeGothic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radeGothicM"/>
              </a:rPr>
              <a:t>Köszönöm szépen a figyelmet!</a:t>
            </a:r>
            <a:endParaRPr b="1" lang="en-US" sz="32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04C37-A2B1-4733-8A29-1C60AA2B87F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4" dur="indefinite" restart="never" nodeType="tmRoot">
          <p:childTnLst>
            <p:seq>
              <p:cTn id="995" dur="indefinite" nodeType="mainSeq">
                <p:childTnLst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987640" y="475920"/>
            <a:ext cx="605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4933c"/>
                </a:solidFill>
                <a:latin typeface="TradeGothicM"/>
              </a:rPr>
              <a:t>Amiről szó lesz…</a:t>
            </a:r>
            <a:endParaRPr b="1" lang="en-US" sz="4000" spc="-1" strike="noStrike">
              <a:solidFill>
                <a:srgbClr val="24933c"/>
              </a:solidFill>
              <a:latin typeface="TradeGothicM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82072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003976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76"/>
                </a:solidFill>
                <a:latin typeface="TradeGothicM"/>
              </a:rPr>
              <a:t>IKT – kell ez nekünk?</a:t>
            </a: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003976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76"/>
                </a:solidFill>
                <a:latin typeface="TradeGothicM"/>
              </a:rPr>
              <a:t>Adottságok, lehetőségek egy innovatív iskolában</a:t>
            </a: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003976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76"/>
                </a:solidFill>
                <a:latin typeface="TradeGothicM"/>
              </a:rPr>
              <a:t>Az IKT (SDT) elemek alkalmazási lehetőségei a tanórán (a megszerzett tapasztalatok alapján)</a:t>
            </a: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003976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76"/>
                </a:solidFill>
                <a:latin typeface="TradeGothicM"/>
              </a:rPr>
              <a:t>Konkrét példák két megvalósított tanórából (és egyéb ötletek)</a:t>
            </a: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003976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76"/>
                </a:solidFill>
                <a:latin typeface="TradeGothicM"/>
              </a:rPr>
              <a:t>Tanulói tapasztalatok</a:t>
            </a: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6517F-F973-475D-BD5B-B5D4035FF9C7}" type="slidenum">
              <a:t>2</a:t>
            </a:fld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55640" y="475920"/>
            <a:ext cx="6481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4933c"/>
                </a:solidFill>
                <a:latin typeface="TradeGothicM"/>
              </a:rPr>
              <a:t>IKT - kell ez nekünk?</a:t>
            </a:r>
            <a:endParaRPr b="1" lang="en-US" sz="4000" spc="-1" strike="noStrike">
              <a:solidFill>
                <a:srgbClr val="24933c"/>
              </a:solidFill>
              <a:latin typeface="TradeGothic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003976"/>
                </a:solidFill>
                <a:latin typeface="TradeGothicM"/>
              </a:rPr>
              <a:t>Igen</a:t>
            </a:r>
            <a:endParaRPr b="1" lang="en-US" sz="2100" spc="-1" strike="noStrike">
              <a:solidFill>
                <a:srgbClr val="003976"/>
              </a:solidFill>
              <a:latin typeface="TradeGothicM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003976"/>
                </a:solidFill>
                <a:latin typeface="TradeGothicM"/>
              </a:rPr>
              <a:t>kommunikáció, információszerzés, munkavégzés</a:t>
            </a:r>
            <a:endParaRPr b="1" lang="en-US" sz="2100" spc="-1" strike="noStrike">
              <a:solidFill>
                <a:srgbClr val="003976"/>
              </a:solidFill>
              <a:latin typeface="TradeGothicM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3976"/>
                </a:solidFill>
                <a:latin typeface="TradeGothicM"/>
              </a:rPr>
              <a:t>távmunka, távoktatás</a:t>
            </a: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3976"/>
                </a:solidFill>
                <a:latin typeface="TradeGothicM"/>
              </a:rPr>
              <a:t>digitális írástudás a tanár részéről</a:t>
            </a: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3976"/>
                </a:solidFill>
                <a:latin typeface="TradeGothicM"/>
              </a:rPr>
              <a:t>digitális írástudás a tanuló részéről</a:t>
            </a: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3976"/>
                </a:solidFill>
                <a:latin typeface="TradeGothicM"/>
              </a:rPr>
              <a:t>HEFOP 3.1.3. projekt</a:t>
            </a: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3976"/>
                </a:solidFill>
                <a:latin typeface="TradeGothicM"/>
              </a:rPr>
              <a:t>NAT 2007 – IKT kulcskompetencia</a:t>
            </a:r>
            <a:endParaRPr b="1" lang="en-US" sz="20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EA549-54FD-4805-9E8D-AB915F9C1D4B}" type="slidenum">
              <a:t>3</a:t>
            </a:fld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987640" y="475920"/>
            <a:ext cx="605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4933c"/>
                </a:solidFill>
                <a:latin typeface="TradeGothicM"/>
              </a:rPr>
              <a:t>Lehetőségek, adottságok egy innovatív iskolában</a:t>
            </a:r>
            <a:endParaRPr b="1" lang="en-US" sz="3600" spc="-1" strike="noStrike">
              <a:solidFill>
                <a:srgbClr val="24933c"/>
              </a:solidFill>
              <a:latin typeface="TradeGothicM"/>
            </a:endParaRPr>
          </a:p>
        </p:txBody>
      </p:sp>
      <p:sp>
        <p:nvSpPr>
          <p:cNvPr id="97" name=""/>
          <p:cNvSpPr/>
          <p:nvPr/>
        </p:nvSpPr>
        <p:spPr>
          <a:xfrm>
            <a:off x="3924360" y="1916280"/>
            <a:ext cx="1368360" cy="45972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9a18"/>
                </a:solidFill>
                <a:latin typeface="Times New Roman"/>
              </a:rPr>
              <a:t>ISKO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87280" y="3500280"/>
            <a:ext cx="1584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659640" y="3429000"/>
            <a:ext cx="1441440" cy="4597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TUD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4797360"/>
            <a:ext cx="2160720" cy="459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ARTAL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91628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ép- és rendszerfejlesz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724360" y="19162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zoftver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19640" y="2133720"/>
            <a:ext cx="360360" cy="0"/>
          </a:xfrm>
          <a:prstGeom prst="line">
            <a:avLst/>
          </a:prstGeom>
          <a:ln w="9360">
            <a:solidFill>
              <a:srgbClr val="1e9a1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363640" y="2133720"/>
            <a:ext cx="360360" cy="0"/>
          </a:xfrm>
          <a:prstGeom prst="line">
            <a:avLst/>
          </a:prstGeom>
          <a:ln w="9360">
            <a:solidFill>
              <a:srgbClr val="1e9a1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92360" y="2421000"/>
            <a:ext cx="0" cy="1008000"/>
          </a:xfrm>
          <a:prstGeom prst="line">
            <a:avLst/>
          </a:prstGeom>
          <a:ln w="9360">
            <a:solidFill>
              <a:srgbClr val="1e9a1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2195280" y="2276640"/>
            <a:ext cx="3671640" cy="1152360"/>
          </a:xfrm>
          <a:prstGeom prst="line">
            <a:avLst/>
          </a:prstGeom>
          <a:ln w="9360">
            <a:solidFill>
              <a:srgbClr val="1e9a1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380360" y="25653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ná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451640" y="2923920"/>
            <a:ext cx="287280" cy="431640"/>
          </a:xfrm>
          <a:prstGeom prst="line">
            <a:avLst/>
          </a:prstGeom>
          <a:ln w="9360">
            <a:solidFill>
              <a:srgbClr val="1e9a1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380360" y="422100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nuló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451640" y="4005360"/>
            <a:ext cx="360360" cy="358560"/>
          </a:xfrm>
          <a:prstGeom prst="line">
            <a:avLst/>
          </a:prstGeom>
          <a:ln w="9360">
            <a:solidFill>
              <a:srgbClr val="1e9a1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516720" y="2276640"/>
            <a:ext cx="649080" cy="1152360"/>
          </a:xfrm>
          <a:prstGeom prst="line">
            <a:avLst/>
          </a:prstGeom>
          <a:ln w="9360">
            <a:solidFill>
              <a:srgbClr val="1e9a1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5651640" y="3933720"/>
            <a:ext cx="1296720" cy="79056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0" y="2421000"/>
            <a:ext cx="0" cy="230328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84360" y="4005360"/>
            <a:ext cx="1008000" cy="71892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79280" y="5805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eleb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331640" y="5300640"/>
            <a:ext cx="2089080" cy="5047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403280" y="58053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cc"/>
                </a:solidFill>
                <a:latin typeface="Times New Roman"/>
              </a:rPr>
              <a:t>SDT verzió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2555640" y="5300640"/>
            <a:ext cx="934920" cy="5763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987640" y="58053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cc"/>
                </a:solidFill>
                <a:latin typeface="Times New Roman"/>
              </a:rPr>
              <a:t>SDT foglalkoz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356000" y="5300640"/>
            <a:ext cx="0" cy="5763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148360" y="580536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jekt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64000" y="5300640"/>
            <a:ext cx="503280" cy="5763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372360" y="580536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cc"/>
                </a:solidFill>
                <a:latin typeface="Times New Roman"/>
              </a:rPr>
              <a:t>Calib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651640" y="5300640"/>
            <a:ext cx="1296720" cy="5763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740720" y="5157720"/>
            <a:ext cx="15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ktatási keret-rendszer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96000" y="5300640"/>
            <a:ext cx="1871640" cy="5047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619280" y="1125360"/>
            <a:ext cx="6694560" cy="53564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900000" y="549360"/>
            <a:ext cx="7702560" cy="6161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48707-1A11-4642-AFD5-DC3DEE37B19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5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987640" y="475920"/>
            <a:ext cx="605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4933c"/>
              </a:solidFill>
              <a:latin typeface="TradeGothic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96472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3976"/>
                </a:solidFill>
                <a:latin typeface="TradeGothicM"/>
              </a:rPr>
              <a:t>IKT elemek a tanórán</a:t>
            </a:r>
            <a:endParaRPr b="1" lang="en-US" sz="72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3976"/>
                </a:solidFill>
                <a:latin typeface="TradeGothicM"/>
              </a:rPr>
              <a:t>(a tapasztalat)</a:t>
            </a:r>
            <a:endParaRPr b="1" lang="en-US" sz="72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89EB7-BD85-4207-B755-030D7A7C1E8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4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9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987640" y="475920"/>
            <a:ext cx="605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4933c"/>
                </a:solidFill>
                <a:latin typeface="TradeGothicM"/>
              </a:rPr>
              <a:t>Projektor használata a tanórán</a:t>
            </a:r>
            <a:endParaRPr b="1" lang="en-US" sz="4000" spc="-1" strike="noStrike">
              <a:solidFill>
                <a:srgbClr val="24933c"/>
              </a:solidFill>
              <a:latin typeface="TradeGothic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8000" y="1981080"/>
            <a:ext cx="885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976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76"/>
                </a:solidFill>
                <a:latin typeface="TradeGothicM"/>
              </a:rPr>
              <a:t>Félek a számítógéptől, mit tegyek?</a:t>
            </a: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radeGothicM"/>
              </a:rPr>
              <a:t>Képek, animációk, feladatok stb. kivetítése – bátortalanoknak</a:t>
            </a: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976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76"/>
                </a:solidFill>
                <a:latin typeface="TradeGothicM"/>
              </a:rPr>
              <a:t>Már használtam az oktatáshoz számítógépet?</a:t>
            </a: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ccff"/>
                </a:solidFill>
                <a:uFillTx/>
                <a:latin typeface="TradeGothicM"/>
                <a:hlinkClick r:id="rId1"/>
              </a:rPr>
              <a:t>Tanári bemutató </a:t>
            </a:r>
            <a:r>
              <a:rPr b="1" lang="en-US" sz="2400" spc="-1" strike="noStrike" u="sng">
                <a:solidFill>
                  <a:srgbClr val="b2b2b2"/>
                </a:solidFill>
                <a:uFillTx/>
                <a:latin typeface="TradeGothicM"/>
              </a:rPr>
              <a:t>készítése a tanórához</a:t>
            </a: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976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76"/>
                </a:solidFill>
                <a:latin typeface="TradeGothicM"/>
              </a:rPr>
              <a:t>Adjak valami értelmes munkát a gyereknek?</a:t>
            </a: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ccff"/>
                </a:solidFill>
                <a:uFillTx/>
                <a:latin typeface="TradeGothicM"/>
                <a:hlinkClick r:id="rId2"/>
              </a:rPr>
              <a:t>Tanulói bemutató </a:t>
            </a:r>
            <a:r>
              <a:rPr b="1" lang="en-US" sz="2400" spc="-1" strike="noStrike" u="sng">
                <a:solidFill>
                  <a:srgbClr val="b2b2b2"/>
                </a:solidFill>
                <a:uFillTx/>
                <a:latin typeface="TradeGothicM"/>
              </a:rPr>
              <a:t>készítése a tanórához</a:t>
            </a: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976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76"/>
                </a:solidFill>
                <a:latin typeface="TradeGothicM"/>
              </a:rPr>
              <a:t>Valami nagyon érdekeset szeretnék mutatni a gyerekeknek?</a:t>
            </a: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radeGothicM"/>
              </a:rPr>
              <a:t>Távoli szerver is </a:t>
            </a:r>
            <a:r>
              <a:rPr b="1" lang="en-US" sz="2400" spc="-1" strike="noStrike" u="sng">
                <a:solidFill>
                  <a:srgbClr val="ccccff"/>
                </a:solidFill>
                <a:uFillTx/>
                <a:latin typeface="TradeGothicM"/>
                <a:hlinkClick r:id="rId3"/>
              </a:rPr>
              <a:t>gyorsan elérhető</a:t>
            </a: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62B7B-5C78-4A3D-B908-79ADDAE69613}" type="slidenum">
              <a:t>6</a:t>
            </a:fld>
          </a:p>
        </p:txBody>
      </p:sp>
    </p:spTree>
  </p:cSld>
  <p:transition>
    <p:comb dir="horz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987640" y="475920"/>
            <a:ext cx="605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4933c"/>
                </a:solidFill>
                <a:latin typeface="TradeGothicM"/>
              </a:rPr>
              <a:t>Tanóra a számítógépteremben </a:t>
            </a:r>
            <a:endParaRPr b="1" lang="en-US" sz="4000" spc="-1" strike="noStrike">
              <a:solidFill>
                <a:srgbClr val="24933c"/>
              </a:solidFill>
              <a:latin typeface="TradeGothicM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1844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976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3976"/>
                </a:solidFill>
                <a:latin typeface="TradeGothicM"/>
              </a:rPr>
              <a:t>Miért érdemes a gépterem használata?</a:t>
            </a:r>
            <a:endParaRPr b="1" lang="en-US" sz="18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b2b2b2"/>
                </a:solidFill>
                <a:latin typeface="TradeGothicM"/>
              </a:rPr>
              <a:t>A tanulók érdeklődve néznek az óra elébe.</a:t>
            </a:r>
            <a:endParaRPr b="1" lang="en-US" sz="18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976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3976"/>
                </a:solidFill>
                <a:latin typeface="TradeGothicM"/>
              </a:rPr>
              <a:t>Hol keressek megfelelő tananyagot?</a:t>
            </a:r>
            <a:endParaRPr b="1" lang="en-US" sz="18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b2b2b2"/>
                </a:solidFill>
                <a:latin typeface="TradeGothicM"/>
              </a:rPr>
              <a:t>A </a:t>
            </a:r>
            <a:r>
              <a:rPr b="1" lang="hu-HU" sz="1800" spc="-1" strike="noStrike" u="sng">
                <a:solidFill>
                  <a:srgbClr val="ccccff"/>
                </a:solidFill>
                <a:uFillTx/>
                <a:latin typeface="TradeGothicM"/>
                <a:hlinkClick r:id="rId1"/>
              </a:rPr>
              <a:t>Sulinet honlapja </a:t>
            </a:r>
            <a:r>
              <a:rPr b="1" lang="hu-HU" sz="1800" spc="-1" strike="noStrike">
                <a:solidFill>
                  <a:srgbClr val="b2b2b2"/>
                </a:solidFill>
                <a:latin typeface="TradeGothicM"/>
              </a:rPr>
              <a:t>, </a:t>
            </a:r>
            <a:endParaRPr b="1" lang="en-US" sz="18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b2b2b2"/>
                </a:solidFill>
                <a:latin typeface="TradeGothicM"/>
              </a:rPr>
              <a:t>A Calibrate honlapja sokféle lehetőséget ad</a:t>
            </a:r>
            <a:endParaRPr b="1" lang="en-US" sz="18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b2b2b2"/>
                </a:solidFill>
                <a:latin typeface="TradeGothicM"/>
              </a:rPr>
              <a:t>Bármilyen általános keresőprogrammal találhatok ilyet (</a:t>
            </a:r>
            <a:r>
              <a:rPr b="1" lang="hu-HU" sz="1800" spc="-1" strike="noStrike" u="sng">
                <a:solidFill>
                  <a:srgbClr val="ccccff"/>
                </a:solidFill>
                <a:uFillTx/>
                <a:latin typeface="TradeGothicM"/>
                <a:hlinkClick r:id="rId2"/>
              </a:rPr>
              <a:t>www.google.co.hu</a:t>
            </a:r>
            <a:r>
              <a:rPr b="1" lang="hu-HU" sz="1800" spc="-1" strike="noStrike">
                <a:solidFill>
                  <a:srgbClr val="000099"/>
                </a:solidFill>
                <a:latin typeface="TradeGothicM"/>
              </a:rPr>
              <a:t>, </a:t>
            </a:r>
            <a:r>
              <a:rPr b="1" lang="hu-HU" sz="1800" spc="-1" strike="noStrike" u="sng">
                <a:solidFill>
                  <a:srgbClr val="ccccff"/>
                </a:solidFill>
                <a:uFillTx/>
                <a:latin typeface="TradeGothicM"/>
                <a:hlinkClick r:id="rId3"/>
              </a:rPr>
              <a:t>www.altavizsla.hu</a:t>
            </a:r>
            <a:r>
              <a:rPr b="1" lang="hu-HU" sz="1800" spc="-1" strike="noStrike">
                <a:solidFill>
                  <a:srgbClr val="003976"/>
                </a:solidFill>
                <a:latin typeface="TradeGothicM"/>
              </a:rPr>
              <a:t>)</a:t>
            </a:r>
            <a:endParaRPr b="1" lang="en-US" sz="18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976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3976"/>
                </a:solidFill>
                <a:latin typeface="TradeGothicM"/>
              </a:rPr>
              <a:t>Mennyi ideig dolgozzanak a gyerekek a gépen?</a:t>
            </a:r>
            <a:endParaRPr b="1" lang="en-US" sz="18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b2b2b2"/>
                </a:solidFill>
                <a:latin typeface="TradeGothicM"/>
              </a:rPr>
              <a:t>Az óra céljától, az anyag jellegétől, a használható digitális tananyagok kínálatától függően eltérő</a:t>
            </a:r>
            <a:r>
              <a:rPr b="1" lang="hu-HU" sz="1800" spc="-1" strike="noStrike">
                <a:solidFill>
                  <a:srgbClr val="003976"/>
                </a:solidFill>
                <a:latin typeface="TradeGothicM"/>
              </a:rPr>
              <a:t>.</a:t>
            </a:r>
            <a:endParaRPr b="1" lang="en-US" sz="18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976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3976"/>
                </a:solidFill>
                <a:latin typeface="TradeGothicM"/>
              </a:rPr>
              <a:t>Elegendő-e csak a számítógép használata az órához?</a:t>
            </a:r>
            <a:endParaRPr b="1" lang="en-US" sz="18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b2b2b2"/>
                </a:solidFill>
                <a:latin typeface="TradeGothicM"/>
              </a:rPr>
              <a:t>Tanári magyarázat és legalább nyomtatott feladatlap szükséges.</a:t>
            </a:r>
            <a:endParaRPr b="1" lang="en-US" sz="18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976"/>
              </a:solidFill>
              <a:latin typeface="TradeGothicM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976"/>
              </a:solidFill>
              <a:latin typeface="TradeGothicM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1979640" y="404640"/>
            <a:ext cx="5357880" cy="597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0F856-7132-4ED7-A9F2-0086BC2D7FA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0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987640" y="475920"/>
            <a:ext cx="605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4933c"/>
                </a:solidFill>
                <a:latin typeface="TradeGothicM"/>
              </a:rPr>
              <a:t>Tanóra a számítógépteremben</a:t>
            </a:r>
            <a:endParaRPr b="1" lang="en-US" sz="4000" spc="-1" strike="noStrike">
              <a:solidFill>
                <a:srgbClr val="24933c"/>
              </a:solidFill>
              <a:latin typeface="TradeGothic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362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976"/>
                </a:solidFill>
                <a:latin typeface="TradeGothicM"/>
              </a:rPr>
              <a:t>Milyen módszert használjak a számítógépes feladathoz?</a:t>
            </a:r>
            <a:endParaRPr b="1" lang="en-US" sz="1800" spc="-1" strike="noStrike">
              <a:solidFill>
                <a:srgbClr val="003976"/>
              </a:solidFill>
              <a:latin typeface="TradeGothicM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TradeGothicM"/>
              </a:rPr>
              <a:t>Ez feladattípustól, az elérendő céltól függ.</a:t>
            </a:r>
            <a:endParaRPr b="1" lang="en-US" sz="1800" spc="-1" strike="noStrike">
              <a:solidFill>
                <a:srgbClr val="003976"/>
              </a:solidFill>
              <a:latin typeface="TradeGothicM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TradeGothic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TradeGothicM"/>
              </a:rPr>
              <a:t>Az egyéni munkaforma javasolt</a:t>
            </a:r>
            <a:r>
              <a:rPr b="1" lang="en-US" sz="1800" spc="-1" strike="noStrike">
                <a:solidFill>
                  <a:srgbClr val="b2b2b2"/>
                </a:solidFill>
                <a:latin typeface="TradeGothicM"/>
              </a:rPr>
              <a:t>:</a:t>
            </a:r>
            <a:endParaRPr b="1" lang="en-US" sz="1800" spc="-1" strike="noStrike">
              <a:solidFill>
                <a:srgbClr val="003976"/>
              </a:solidFill>
              <a:latin typeface="TradeGothicM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TradeGothicM"/>
              </a:rPr>
              <a:t> </a:t>
            </a:r>
            <a:r>
              <a:rPr b="1" lang="en-US" sz="1800" spc="-1" strike="noStrike">
                <a:solidFill>
                  <a:srgbClr val="b2b2b2"/>
                </a:solidFill>
                <a:latin typeface="TradeGothicM"/>
              </a:rPr>
              <a:t>- </a:t>
            </a:r>
            <a:r>
              <a:rPr b="1" lang="en-US" sz="1800" spc="-1" strike="noStrike" u="sng">
                <a:solidFill>
                  <a:srgbClr val="ccccff"/>
                </a:solidFill>
                <a:uFillTx/>
                <a:latin typeface="TradeGothicM"/>
                <a:hlinkClick r:id="rId1"/>
              </a:rPr>
              <a:t>teszt feladatoknál</a:t>
            </a:r>
            <a:r>
              <a:rPr b="1" lang="en-US" sz="1800" spc="-1" strike="noStrike" u="sng">
                <a:solidFill>
                  <a:srgbClr val="b2b2b2"/>
                </a:solidFill>
                <a:uFillTx/>
                <a:latin typeface="TradeGothicM"/>
              </a:rPr>
              <a:t>,</a:t>
            </a:r>
            <a:endParaRPr b="1" lang="en-US" sz="1800" spc="-1" strike="noStrike">
              <a:solidFill>
                <a:srgbClr val="003976"/>
              </a:solidFill>
              <a:latin typeface="TradeGothicM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TradeGothicM"/>
              </a:rPr>
              <a:t> </a:t>
            </a:r>
            <a:r>
              <a:rPr b="1" lang="en-US" sz="1800" spc="-1" strike="noStrike">
                <a:solidFill>
                  <a:srgbClr val="b2b2b2"/>
                </a:solidFill>
                <a:latin typeface="TradeGothicM"/>
              </a:rPr>
              <a:t>- </a:t>
            </a:r>
            <a:r>
              <a:rPr b="1" lang="en-US" sz="1800" spc="-1" strike="noStrike" u="sng">
                <a:solidFill>
                  <a:srgbClr val="ccccff"/>
                </a:solidFill>
                <a:uFillTx/>
                <a:latin typeface="TradeGothicM"/>
                <a:hlinkClick r:id="rId2"/>
              </a:rPr>
              <a:t>információkeresés</a:t>
            </a:r>
            <a:r>
              <a:rPr b="1" lang="en-US" sz="1800" spc="-1" strike="noStrike" u="sng">
                <a:solidFill>
                  <a:srgbClr val="b2b2b2"/>
                </a:solidFill>
                <a:uFillTx/>
                <a:latin typeface="TradeGothicM"/>
              </a:rPr>
              <a:t> és rendszerezés fejlesztéséhez, </a:t>
            </a:r>
            <a:endParaRPr b="1" lang="en-US" sz="1800" spc="-1" strike="noStrike">
              <a:solidFill>
                <a:srgbClr val="003976"/>
              </a:solidFill>
              <a:latin typeface="TradeGothicM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TradeGothicM"/>
              </a:rPr>
              <a:t> </a:t>
            </a:r>
            <a:r>
              <a:rPr b="1" lang="en-US" sz="1800" spc="-1" strike="noStrike">
                <a:solidFill>
                  <a:srgbClr val="b2b2b2"/>
                </a:solidFill>
                <a:latin typeface="TradeGothicM"/>
              </a:rPr>
              <a:t>- </a:t>
            </a:r>
            <a:r>
              <a:rPr b="1" lang="en-US" sz="1800" spc="-1" strike="noStrike" u="sng">
                <a:solidFill>
                  <a:srgbClr val="ccccff"/>
                </a:solidFill>
                <a:uFillTx/>
                <a:latin typeface="TradeGothicM"/>
                <a:hlinkClick r:id="rId3"/>
              </a:rPr>
              <a:t>problémamegoldó feladatoknál</a:t>
            </a:r>
            <a:r>
              <a:rPr b="1" lang="en-US" sz="1800" spc="-1" strike="noStrike" u="sng">
                <a:solidFill>
                  <a:srgbClr val="b2b2b2"/>
                </a:solidFill>
                <a:uFillTx/>
                <a:latin typeface="TradeGothicM"/>
              </a:rPr>
              <a:t>,</a:t>
            </a:r>
            <a:endParaRPr b="1" lang="en-US" sz="1800" spc="-1" strike="noStrike">
              <a:solidFill>
                <a:srgbClr val="003976"/>
              </a:solidFill>
              <a:latin typeface="TradeGothicM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TradeGothicM"/>
              </a:rPr>
              <a:t> </a:t>
            </a:r>
            <a:r>
              <a:rPr b="1" lang="en-US" sz="1800" spc="-1" strike="noStrike">
                <a:solidFill>
                  <a:srgbClr val="b2b2b2"/>
                </a:solidFill>
                <a:latin typeface="TradeGothicM"/>
              </a:rPr>
              <a:t>- szövegelemzési, értelmezési feladatoknál,</a:t>
            </a:r>
            <a:endParaRPr b="1" lang="en-US" sz="1800" spc="-1" strike="noStrike">
              <a:solidFill>
                <a:srgbClr val="003976"/>
              </a:solidFill>
              <a:latin typeface="TradeGothicM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TradeGothicM"/>
              </a:rPr>
              <a:t> </a:t>
            </a:r>
            <a:r>
              <a:rPr b="1" lang="en-US" sz="1800" spc="-1" strike="noStrike">
                <a:solidFill>
                  <a:srgbClr val="b2b2b2"/>
                </a:solidFill>
                <a:latin typeface="TradeGothicM"/>
              </a:rPr>
              <a:t>- az önálló tanulást segítő feladatoknál.</a:t>
            </a:r>
            <a:endParaRPr b="1" lang="en-US" sz="1800" spc="-1" strike="noStrike">
              <a:solidFill>
                <a:srgbClr val="003976"/>
              </a:solidFill>
              <a:latin typeface="TradeGothicM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976"/>
                </a:solidFill>
                <a:latin typeface="TradeGothicM"/>
              </a:rPr>
              <a:t>Mindenki ugyanazt csinálja?</a:t>
            </a:r>
            <a:endParaRPr b="1" lang="en-US" sz="1800" spc="-1" strike="noStrike">
              <a:solidFill>
                <a:srgbClr val="003976"/>
              </a:solidFill>
              <a:latin typeface="TradeGothicM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TradeGothicM"/>
              </a:rPr>
              <a:t>Megteremthető a differenciálás lehetősége:</a:t>
            </a:r>
            <a:endParaRPr b="1" lang="en-US" sz="1800" spc="-1" strike="noStrike">
              <a:solidFill>
                <a:srgbClr val="003976"/>
              </a:solidFill>
              <a:latin typeface="TradeGothicM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TradeGothicM"/>
              </a:rPr>
              <a:t> </a:t>
            </a:r>
            <a:r>
              <a:rPr b="1" lang="en-US" sz="1800" spc="-1" strike="noStrike">
                <a:solidFill>
                  <a:srgbClr val="b2b2b2"/>
                </a:solidFill>
                <a:latin typeface="TradeGothicM"/>
              </a:rPr>
              <a:t>- érdeklődés szerint</a:t>
            </a:r>
            <a:endParaRPr b="1" lang="en-US" sz="1800" spc="-1" strike="noStrike">
              <a:solidFill>
                <a:srgbClr val="003976"/>
              </a:solidFill>
              <a:latin typeface="TradeGothicM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TradeGothicM"/>
              </a:rPr>
              <a:t> </a:t>
            </a:r>
            <a:r>
              <a:rPr b="1" lang="en-US" sz="1800" spc="-1" strike="noStrike">
                <a:solidFill>
                  <a:srgbClr val="b2b2b2"/>
                </a:solidFill>
                <a:latin typeface="TradeGothicM"/>
              </a:rPr>
              <a:t>- tudás szerint</a:t>
            </a:r>
            <a:endParaRPr b="1" lang="en-US" sz="1800" spc="-1" strike="noStrike">
              <a:solidFill>
                <a:srgbClr val="003976"/>
              </a:solidFill>
              <a:latin typeface="TradeGothicM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976"/>
                </a:solidFill>
                <a:latin typeface="TradeGothicM"/>
              </a:rPr>
              <a:t>Miért jobb ez, mint a hagyományos munka?</a:t>
            </a:r>
            <a:endParaRPr b="1" lang="en-US" sz="1800" spc="-1" strike="noStrike">
              <a:solidFill>
                <a:srgbClr val="003976"/>
              </a:solidFill>
              <a:latin typeface="TradeGothicM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TradeGothicM"/>
              </a:rPr>
              <a:t>A tanulót több hatás éri, aktív az egész órán.</a:t>
            </a:r>
            <a:endParaRPr b="1" lang="en-US" sz="1800" spc="-1" strike="noStrike">
              <a:solidFill>
                <a:srgbClr val="003976"/>
              </a:solidFill>
              <a:latin typeface="TradeGothicM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TradeGothicM"/>
              </a:rPr>
              <a:t>A játszva tanulás elve nagy hatékonyságú.</a:t>
            </a:r>
            <a:endParaRPr b="1" lang="en-US" sz="1800" spc="-1" strike="noStrike">
              <a:solidFill>
                <a:srgbClr val="003976"/>
              </a:solidFill>
              <a:latin typeface="TradeGothicM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976"/>
              </a:solidFill>
              <a:latin typeface="TradeGothicM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4645080" y="2712960"/>
            <a:ext cx="3813120" cy="3032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CDB08-C624-4115-9E4D-F216D3E33EA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3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987640" y="475920"/>
            <a:ext cx="605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4933c"/>
                </a:solidFill>
                <a:latin typeface="TradeGothicM"/>
              </a:rPr>
              <a:t>Tanóra a számítógépteremben</a:t>
            </a:r>
            <a:endParaRPr b="1" lang="en-US" sz="4000" spc="-1" strike="noStrike">
              <a:solidFill>
                <a:srgbClr val="24933c"/>
              </a:solidFill>
              <a:latin typeface="TradeGothic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91440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spcBef>
                <a:spcPts val="601"/>
              </a:spcBef>
              <a:buClr>
                <a:srgbClr val="003976"/>
              </a:buClr>
              <a:buFont typeface="TradeGothic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76"/>
                </a:solidFill>
                <a:latin typeface="TradeGothicM"/>
              </a:rPr>
              <a:t>Milyen módszert használjak a számítógépes feladathoz?</a:t>
            </a: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radeGothicM"/>
              </a:rPr>
              <a:t>2. Kooperatív módszerek:</a:t>
            </a: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radeGothicM"/>
              </a:rPr>
              <a:t>2/1. Pármunka: </a:t>
            </a: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radeGothicM"/>
              </a:rPr>
              <a:t> </a:t>
            </a:r>
            <a:r>
              <a:rPr b="1" lang="en-US" sz="2400" spc="-1" strike="noStrike">
                <a:solidFill>
                  <a:srgbClr val="b2b2b2"/>
                </a:solidFill>
                <a:latin typeface="TradeGothicM"/>
              </a:rPr>
              <a:t>- a rendszer túlterhelésének elkerülése érdekében</a:t>
            </a: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radeGothicM"/>
              </a:rPr>
              <a:t> </a:t>
            </a:r>
            <a:r>
              <a:rPr b="1" lang="en-US" sz="2400" spc="-1" strike="noStrike">
                <a:solidFill>
                  <a:srgbClr val="b2b2b2"/>
                </a:solidFill>
                <a:latin typeface="TradeGothicM"/>
              </a:rPr>
              <a:t>- a </a:t>
            </a:r>
            <a:r>
              <a:rPr b="1" lang="en-US" sz="2400" spc="-1" strike="noStrike" u="sng">
                <a:solidFill>
                  <a:srgbClr val="ccccff"/>
                </a:solidFill>
                <a:uFillTx/>
                <a:latin typeface="TradeGothicM"/>
                <a:hlinkClick r:id="rId1"/>
              </a:rPr>
              <a:t>problémafeladat gyorsabb megoldása </a:t>
            </a:r>
            <a:r>
              <a:rPr b="1" lang="en-US" sz="2400" spc="-1" strike="noStrike" u="sng">
                <a:solidFill>
                  <a:srgbClr val="b2b2b2"/>
                </a:solidFill>
                <a:uFillTx/>
                <a:latin typeface="TradeGothicM"/>
              </a:rPr>
              <a:t>érdekében</a:t>
            </a: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radeGothicM"/>
              </a:rPr>
              <a:t> </a:t>
            </a:r>
            <a:r>
              <a:rPr b="1" lang="en-US" sz="2400" spc="-1" strike="noStrike">
                <a:solidFill>
                  <a:srgbClr val="b2b2b2"/>
                </a:solidFill>
                <a:latin typeface="TradeGothicM"/>
              </a:rPr>
              <a:t>- az </a:t>
            </a:r>
            <a:r>
              <a:rPr b="1" lang="en-US" sz="2400" spc="-1" strike="noStrike" u="sng">
                <a:solidFill>
                  <a:srgbClr val="ccccff"/>
                </a:solidFill>
                <a:uFillTx/>
                <a:latin typeface="TradeGothicM"/>
                <a:hlinkClick r:id="rId2"/>
              </a:rPr>
              <a:t>egymástól tanulás érdekében </a:t>
            </a: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  <a:p>
            <a:pPr lvl="1" marL="970560" indent="-522720">
              <a:spcBef>
                <a:spcPts val="575"/>
              </a:spcBef>
              <a:buClr>
                <a:srgbClr val="b2b2b2"/>
              </a:buClr>
              <a:buFont typeface="TradeGothicM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b2b2b2"/>
                </a:solidFill>
                <a:latin typeface="TradeGothicM"/>
              </a:rPr>
              <a:t>gyengébbek felzárkóztatása tanulótárs segítségével </a:t>
            </a:r>
            <a:endParaRPr b="1" lang="en-US" sz="2300" spc="-1" strike="noStrike">
              <a:solidFill>
                <a:srgbClr val="003976"/>
              </a:solidFill>
              <a:latin typeface="TradeGothicM"/>
            </a:endParaRPr>
          </a:p>
          <a:p>
            <a:pPr lvl="1" marL="970560" indent="-522720">
              <a:spcBef>
                <a:spcPts val="575"/>
              </a:spcBef>
              <a:buClr>
                <a:srgbClr val="b2b2b2"/>
              </a:buClr>
              <a:buFont typeface="TradeGothicM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b2b2b2"/>
                </a:solidFill>
                <a:latin typeface="TradeGothicM"/>
              </a:rPr>
              <a:t>egymás ellenőrzése érdekében</a:t>
            </a:r>
            <a:endParaRPr b="1" lang="en-US" sz="2300" spc="-1" strike="noStrike">
              <a:solidFill>
                <a:srgbClr val="003976"/>
              </a:solidFill>
              <a:latin typeface="TradeGothicM"/>
            </a:endParaRPr>
          </a:p>
          <a:p>
            <a:pPr lvl="1" marL="970560" indent="-522720">
              <a:spcBef>
                <a:spcPts val="575"/>
              </a:spcBef>
              <a:buClr>
                <a:srgbClr val="b2b2b2"/>
              </a:buClr>
              <a:buFont typeface="TradeGothicM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b2b2b2"/>
                </a:solidFill>
                <a:latin typeface="TradeGothicM"/>
              </a:rPr>
              <a:t>közös vélemény kialakítása érdekében</a:t>
            </a:r>
            <a:endParaRPr b="1" lang="en-US" sz="2300" spc="-1" strike="noStrike">
              <a:solidFill>
                <a:srgbClr val="003976"/>
              </a:solidFill>
              <a:latin typeface="TradeGothicM"/>
            </a:endParaRPr>
          </a:p>
          <a:p>
            <a:pPr lvl="1" marL="970560" indent="-522720">
              <a:spcBef>
                <a:spcPts val="575"/>
              </a:spcBef>
              <a:buClr>
                <a:srgbClr val="b2b2b2"/>
              </a:buClr>
              <a:buFont typeface="TradeGothicM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b2b2b2"/>
                </a:solidFill>
                <a:latin typeface="TradeGothicM"/>
              </a:rPr>
              <a:t>érvek, ellenérvek a vitában </a:t>
            </a:r>
            <a:endParaRPr b="1" lang="en-US" sz="2300" spc="-1" strike="noStrike">
              <a:solidFill>
                <a:srgbClr val="003976"/>
              </a:solidFill>
              <a:latin typeface="TradeGothicM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976"/>
              </a:solidFill>
              <a:latin typeface="TradeGothic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C8A3F-9497-406E-AB78-222987AA9A2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8T15:04:05Z</dcterms:created>
  <dc:creator>EDUWEB Rt.</dc:creator>
  <dc:description/>
  <dc:language>en-US</dc:language>
  <cp:lastModifiedBy>Sebőkné Orosz Katalin</cp:lastModifiedBy>
  <dcterms:modified xsi:type="dcterms:W3CDTF">2007-10-30T11:25:20Z</dcterms:modified>
  <cp:revision>62</cp:revision>
  <dc:subject/>
  <dc:title>Tananyagfejlesztési folyamat</dc:title>
</cp:coreProperties>
</file>