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EDEB-2206-4805-AE40-6B0608E4F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23E9-C631-43E4-868D-EDCF4940F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5F2D-8F10-4A65-9A37-3BA4DA855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1C89-9978-4E1C-9A2A-E1B7CC8B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9324F-E13F-4DF7-A19A-0D72D61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53408-CC65-4901-B828-D50D302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5CEE-EBF2-4765-85D4-21D9C2D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D07F-2D30-4BA9-86B3-9C17AE0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D5BA8-F610-4BEF-8417-9BDE60DC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87640" y="475920"/>
            <a:ext cx="6050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87895-A2E1-45B8-A6BC-07E6D18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725D-EE74-4221-85E5-0C9A8B7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0D29-2B11-49AE-A9A8-1A14F45E4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A1685-7EB6-4D1A-B579-5EB692A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6874-AE8F-426B-BBA4-6B3CD36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3D8E3-3589-4B3C-913E-EAE30E8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39F3-0333-46C4-ACF3-DAD102E9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2896-05C1-4C0C-843E-DABD8F28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358A-F667-45A9-95B0-CD0BD2BB9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2663-3AA2-4C6C-86DB-80CC9AAE8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1CCE-17F6-40D6-A5A0-54934DA92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87640" y="475920"/>
            <a:ext cx="6050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DE78-C82A-462B-A3E7-301C90C00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4BD0-F636-495A-9CDE-0A4F932A3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1B7F-EB99-42B8-B532-D0F44D210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73C9-9912-43A1-BFFF-5CF9A2B0B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5580000" cy="3429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580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rcRect l="7692" t="91996" r="0" b="0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Click to edit the title text format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Click to edit the outline text form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-285840">
              <a:spcBef>
                <a:spcPts val="601"/>
              </a:spcBef>
              <a:buClr>
                <a:srgbClr val="003976"/>
              </a:buClr>
              <a:buFont typeface="TradeGothic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cond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2" marL="11430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Third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3" marL="16002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Four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4" marL="20574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Fif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ix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ven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4360" y="6524640"/>
            <a:ext cx="35272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924360" y="6524640"/>
            <a:ext cx="19051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55B3-F5E8-463A-8116-31C8DF6F6734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7927920" cy="5413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9279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326"/>
                </a:solidFill>
                <a:latin typeface="TradeGothicM"/>
              </a:rPr>
              <a:t>Click to edit the title text format</a:t>
            </a:r>
            <a:endParaRPr b="1" lang="en-US" sz="4800" spc="-1" strike="noStrike">
              <a:solidFill>
                <a:srgbClr val="249326"/>
              </a:solidFill>
              <a:latin typeface="TradeGothic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881-FE21-45FA-AC8C-5DEF88A158BA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Click to edit the outline text form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76"/>
                </a:solidFill>
                <a:latin typeface="TradeGothicM"/>
              </a:rPr>
              <a:t>Second Outline Level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lvl="2" marL="914400" algn="ctr"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Third Outline Level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lvl="3" marL="1371600" algn="ctr">
              <a:spcBef>
                <a:spcPts val="400"/>
              </a:spcBef>
              <a:buClr>
                <a:srgbClr val="003976"/>
              </a:buClr>
              <a:buFont typeface="TradeGothic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Fourth Outline Level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4" marL="1828800" algn="ctr">
              <a:spcBef>
                <a:spcPts val="349"/>
              </a:spcBef>
              <a:buClr>
                <a:srgbClr val="003976"/>
              </a:buClr>
              <a:buFont typeface="TradeGothic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Fif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Six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Seven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keringes/keringes.ppt" TargetMode="External"/><Relationship Id="rId2" Type="http://schemas.openxmlformats.org/officeDocument/2006/relationships/hyperlink" Target="file:///ppt5-2_LKG.ppt" TargetMode="External"/><Relationship Id="rId3" Type="http://schemas.openxmlformats.org/officeDocument/2006/relationships/hyperlink" Target="http://www.e-szamok.hu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linet.hu/" TargetMode="External"/><Relationship Id="rId2" Type="http://schemas.openxmlformats.org/officeDocument/2006/relationships/hyperlink" Target="http://www.google.co.hu/" TargetMode="External"/><Relationship Id="rId3" Type="http://schemas.openxmlformats.org/officeDocument/2006/relationships/hyperlink" Target="http://www.altavizsla.hu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eszt3.jpg" TargetMode="External"/><Relationship Id="rId2" Type="http://schemas.openxmlformats.org/officeDocument/2006/relationships/hyperlink" Target="file:///fel1.doc" TargetMode="External"/><Relationship Id="rId3" Type="http://schemas.openxmlformats.org/officeDocument/2006/relationships/hyperlink" Target="file:///csfainter1.dir" TargetMode="External"/><Relationship Id="rId4" Type="http://schemas.openxmlformats.org/officeDocument/2006/relationships/hyperlink" Target="http://sdt.sulinet.hu/Player/default.aspx?p=&amp;g=c811b4f7-ccb5-4e3d-bada-f8fcb74f63ee&amp;v=1&amp;b=2&amp;t=lap&amp;cid=f2beff26-ea57-4372-8c7b-f72be613e6f3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undp.digitalbrain.com/sebokkata.eundp/web/noveny/index.html" TargetMode="External"/><Relationship Id="rId2" Type="http://schemas.openxmlformats.org/officeDocument/2006/relationships/hyperlink" Target="file:///fel2.doc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b2_lkg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ak.dir" TargetMode="External"/><Relationship Id="rId2" Type="http://schemas.openxmlformats.org/officeDocument/2006/relationships/hyperlink" Target="file:///b1%5B1%5D_lkg.doc" TargetMode="External"/><Relationship Id="rId3" Type="http://schemas.openxmlformats.org/officeDocument/2006/relationships/hyperlink" Target="file:///fel3.doc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9326"/>
                </a:solidFill>
                <a:latin typeface="TradeGothicM"/>
              </a:rPr>
              <a:t>Az IKT eszközök felhasználási lehetőségei </a:t>
            </a:r>
            <a:br>
              <a:rPr sz="4400"/>
            </a:br>
            <a:r>
              <a:rPr b="1" lang="en-US" sz="4400" spc="-1" strike="noStrike">
                <a:solidFill>
                  <a:srgbClr val="249326"/>
                </a:solidFill>
                <a:latin typeface="TradeGothicM"/>
              </a:rPr>
              <a:t>a tanórán</a:t>
            </a:r>
            <a:endParaRPr b="1" lang="en-US" sz="4400" spc="-1" strike="noStrike">
              <a:solidFill>
                <a:srgbClr val="249326"/>
              </a:solidFill>
              <a:latin typeface="TradeGothic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Leövey Klára Gimnázium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bőkné Orosz Katalin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Projektor használata a tanórá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Félek a számítógéptől, mit tegye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Képek, animációk, feladatok stb. kivetítése – bátortalanoknak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ár használtam az oktatáshoz számítógépet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Tanári bemutató </a:t>
            </a:r>
            <a:r>
              <a:rPr b="1" lang="en-US" sz="2000" spc="-1" strike="noStrike" u="sng">
                <a:solidFill>
                  <a:srgbClr val="b2b2b2"/>
                </a:solidFill>
                <a:uFillTx/>
                <a:latin typeface="TradeGothicM"/>
              </a:rPr>
              <a:t>készítése a tanórához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Adjak valami értelmes munkát a gyerekne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Tanulói bemutató </a:t>
            </a:r>
            <a:r>
              <a:rPr b="1" lang="en-US" sz="2000" spc="-1" strike="noStrike" u="sng">
                <a:solidFill>
                  <a:srgbClr val="b2b2b2"/>
                </a:solidFill>
                <a:uFillTx/>
                <a:latin typeface="TradeGothicM"/>
              </a:rPr>
              <a:t>készítése a tanórához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Valami nagyon érdekeset szeretnék mutatni a gyerekekne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Távoli szerver is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gyorsan elérhető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277D-C715-44B1-827E-1890A81645EC}" type="slidenum">
              <a:t>10</a:t>
            </a:fld>
          </a:p>
        </p:txBody>
      </p:sp>
    </p:spTree>
  </p:cSld>
  <p:transition>
    <p:comb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 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Miért érdemes a gépterem használata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 tanulók érdeklődve néznek az óra elébe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Hol keressek megfelelő tananyagot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Sulinet honlapja </a:t>
            </a: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sokféle lehetőséget ad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Bármilyen általános keresőprogrammal találhatok ilyet (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www.google.co.hu</a:t>
            </a:r>
            <a:r>
              <a:rPr b="1" lang="hu-HU" sz="1800" spc="-1" strike="noStrike">
                <a:solidFill>
                  <a:srgbClr val="000099"/>
                </a:solidFill>
                <a:latin typeface="TradeGothicM"/>
              </a:rPr>
              <a:t>,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www.altavizsla.hu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Mennyi ideig dolgozzanak a gyerekek a gépen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z óra céljától, az anyag jellegétől, a használható digitális tananyagok kínálatától függően eltérő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Elegendő-e csak a számítógép használata az órához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Tanári magyarázat és legalább nyomtatott feladatlap szükséges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979640" y="404640"/>
            <a:ext cx="5357880" cy="59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AFC3-2D21-4C81-AB62-30865F23E0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Milyen módszert használjak a számítógépes feladathoz?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Ez feladattípustól, az elérendő céltól függ.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cc99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radeGothicM"/>
              </a:rPr>
              <a:t>Az egyéni munkaforma javasolt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: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teszt feladatoknál</a:t>
            </a:r>
            <a:r>
              <a:rPr b="1" lang="en-US" sz="1600" spc="-1" strike="noStrike" u="sng">
                <a:solidFill>
                  <a:srgbClr val="b2b2b2"/>
                </a:solidFill>
                <a:uFillTx/>
                <a:latin typeface="TradeGothicM"/>
              </a:rPr>
              <a:t>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információkeresés</a:t>
            </a:r>
            <a:r>
              <a:rPr b="1" lang="en-US" sz="1600" spc="-1" strike="noStrike" u="sng">
                <a:solidFill>
                  <a:srgbClr val="b2b2b2"/>
                </a:solidFill>
                <a:uFillTx/>
                <a:latin typeface="TradeGothicM"/>
              </a:rPr>
              <a:t> és rendszerezés fejlesztéséhez, 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problémamegoldó feladatoknál</a:t>
            </a:r>
            <a:r>
              <a:rPr b="1" lang="en-US" sz="1600" spc="-1" strike="noStrike" u="sng">
                <a:solidFill>
                  <a:srgbClr val="b2b2b2"/>
                </a:solidFill>
                <a:uFillTx/>
                <a:latin typeface="TradeGothicM"/>
              </a:rPr>
              <a:t>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szövegelemzési, értelmezési feladatoknál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az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TradeGothicM"/>
                <a:hlinkClick r:id="rId4"/>
              </a:rPr>
              <a:t>önálló tanulást </a:t>
            </a:r>
            <a:r>
              <a:rPr b="1" lang="en-US" sz="1600" spc="-1" strike="noStrike" u="sng">
                <a:solidFill>
                  <a:srgbClr val="b2b2b2"/>
                </a:solidFill>
                <a:uFillTx/>
                <a:latin typeface="TradeGothicM"/>
              </a:rPr>
              <a:t>segítő feladatoknál.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Mindenki ugyanazt csinálja?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Megteremthető a differenciálás lehetősége: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érdeklődés szerint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- tudás szerint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Miért jobb ez mint a hagyományos munka?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A tanulót több hatás éri, aktív az egész órán.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radeGothicM"/>
              </a:rPr>
              <a:t>A játszva tanulás elve nagy hatékonyságú.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643280" y="2712960"/>
            <a:ext cx="381492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521E-F877-452C-B7F0-D66C2AC6C7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ilyen módszert használjak a számítógépes feladathoz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radeGothicM"/>
              </a:rPr>
              <a:t>2. Kooperatív módszerek: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2/1. Pármunka: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a rendszer túlterhelésének elkerülése érdekébe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a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problémafeladat gyorsabb megoldása </a:t>
            </a:r>
            <a:r>
              <a:rPr b="1" lang="en-US" sz="2000" spc="-1" strike="noStrike" u="sng">
                <a:solidFill>
                  <a:srgbClr val="b2b2b2"/>
                </a:solidFill>
                <a:uFillTx/>
                <a:latin typeface="TradeGothicM"/>
              </a:rPr>
              <a:t>érdekébe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az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egymástól tanulás érdekében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gyengébbek felzárkóztatása tanulótárs segítségével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egymás ellenőrzése érdekébe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közös vélemény kialakítása érdekébe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- érvek, ellenérvek a vitában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1A86-392E-4E38-A66F-80B46A4C6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Lehet hatékonyabb együttműködésre nevelni a számítógéppel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2/2. A csoportmunk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csoporttagok egymásra nagy hatással vannak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csoportban mindenkinek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kijelölt szerepe </a:t>
            </a:r>
            <a:r>
              <a:rPr b="1" lang="en-US" sz="2000" spc="-1" strike="noStrike" u="sng">
                <a:solidFill>
                  <a:srgbClr val="b2b2b2"/>
                </a:solidFill>
                <a:uFillTx/>
                <a:latin typeface="TradeGothicM"/>
              </a:rPr>
              <a:t>van, amiért felelősséggel tartozik a többiek felé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csoport sikere a csoporttagok lelkiismeretes munkájától függ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zért minden csoporttag végig aktív a tanulási folyamat alatt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2B2B-CA76-47A5-8D29-A738DAAEB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inden csoport ugyanazt csinálja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z a céltól függ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Mindenkivel el szeretném sajátítani az ismeretet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egyforma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Bővíteni szeretném mindenki ismeretkörét a témában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differenciált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ltérő érdeklődésű vagy képességű csoportok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differenciált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8669-5E3A-4F36-B292-A97A3C6A9C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Hogyan használjam az SDT anyagait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Legegyszerűbb előre letölteni és bemutatóba ágyazni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Használható on-line (ilyenkor a feladatlapban pontosítani kell a navigálást)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Használható a Moodle keretrendszerbe ágyazva (letöltött elemek, on-line használathoz linkek)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3A19-811C-43A3-808B-E10973FFB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i az a Moodle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y távoktatásra tervezett program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lőre megtervezhető és elkészíthető vele a tanóra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Sokféle tevékenységet, forráselérést biztosít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Nincsenek navigálási problémák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y kurzust csak az lát, akinek szánom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Könnyen irányítható vele a diák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tanulói aktivitás és tevékenység hatékonysága egy adatbázis segítségével nyomon követhető.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6E15-D0F3-4BBB-A22D-067DFD13FF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578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ilyen típusú órákat lehet számítógéppel segíteni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Új anyag közl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Gyakoroltató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Összefoglaló-rendszerez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llenőrz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AE81-AD63-48B7-A4D8-9106DE1FC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Jó ez nekem vagy a diáknak?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Mennyi időt vesz igénybe az előkészítés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Sokat (tervkészítés, letöltés, kurzusóra megszerkesztése, tanulói feladatok pontozása stb.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Megéri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Később is felhasználható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Esztétikus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A tanulók számára is élvezetes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Egész órán aktív marad a diák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Tapasztalatokra építi a tudását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Egymástól is tanulnak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Toleranciára nevel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Az IKT eszközök használatának képessége fejleszthető ezzel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6FAC-FFD4-481F-92E2-F183AA5F5B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Amiről szó lesz…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IKT – kell ez nekün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Adottságok, lehetőségek egy innovatív iskolába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últ, jelen, jövő az IKT eszközök alkalmazásába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Az IKT (SDT) elemek alkalmazási lehetőségei a tanórán (a megszerzett tapasztalatok alapján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Konkrét példák két megvalósított tanórából (és egyéb ötletek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Tanulói tapasztalatok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4443-3A42-40F5-9041-413B1267222B}" type="slidenum">
              <a:t>2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933c"/>
                </a:solidFill>
                <a:latin typeface="TradeGothicM"/>
              </a:rPr>
              <a:t>Konkrét SDT órák (a valóság)</a:t>
            </a:r>
            <a:endParaRPr b="1" lang="en-US" sz="36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0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Egy SDT alapú óra (nyomtatott feladatlap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Egy Moodle keretrendszerbe ágyazott SDT ór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499080" cy="5875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298440"/>
            <a:ext cx="6624720" cy="637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753240" cy="646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11280" y="115920"/>
            <a:ext cx="8035920" cy="6616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9640" y="136440"/>
            <a:ext cx="8209080" cy="653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11280" y="115920"/>
            <a:ext cx="8208720" cy="662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611280" y="189000"/>
            <a:ext cx="8281800" cy="640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11280" y="260280"/>
            <a:ext cx="7313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8867-E493-4CDC-9857-4968C621F7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Egyéb ötletek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PowerPoint bemutató ugyanabban a témában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PowerPoint bemutató több csoport munkájábó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Excel használatának lehetősége – jó digitális kísérletek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Projekttémák (miniprojektek)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FA2B-AE12-4E79-A4BA-AC90C1D8E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ulói tapasztalatok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Minden órámon pozitív visszajelzés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Így valahogy jobban megértem.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Jó egész órán együttdolgozni.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nő! Ez tök izgi óra volt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Jaj! Még hadd csináljuuuuk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nő! Tegnap nem mertem belemenni a Moodle-ba, nehogy kizárjon a mai óráról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Ugye nem baj, hogy este még írtam a fórumra?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Ezek a legklasszabb biosz órák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Kell ennél több egy tanárna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2F4C-BF1C-4E93-B4FA-EE5C8AEB7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radeGothicM"/>
              </a:rPr>
              <a:t>Köszönöm szépen a figyelmet!</a:t>
            </a:r>
            <a:endParaRPr b="1" lang="en-US" sz="32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8A40-FDAB-4809-9A2E-A938ECA863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55640" y="475920"/>
            <a:ext cx="6481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IKT - kell ez nekünk?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76"/>
                </a:solidFill>
                <a:latin typeface="TradeGothicM"/>
              </a:rPr>
              <a:t>Számítógép + hálózat:</a:t>
            </a: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 jött, látott, győzöt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kommunikáció, információszerzés, munkavégzés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eszköze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2" marL="106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e-levelezés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2" marL="106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információgyűjtés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2" marL="106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csoportmunka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2" marL="106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távmunka,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2" marL="106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távoktatás, stb.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Symbol"/>
                <a:ea typeface="Symbol"/>
              </a:rPr>
              <a:t>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digitális írástudás</a:t>
            </a: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 </a:t>
            </a:r>
            <a:r>
              <a:rPr b="1" lang="en-US" sz="2000" spc="-1" strike="noStrike">
                <a:solidFill>
                  <a:srgbClr val="003976"/>
                </a:solidFill>
                <a:latin typeface="Symbol"/>
                <a:ea typeface="Symbol"/>
              </a:rPr>
              <a:t></a:t>
            </a: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 digitális analfabétizmus 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↕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diákjaink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életesélyei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2742-A728-4F4C-89F2-C6AF5CB0AD0D}" type="slidenum">
              <a:t>3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6410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Lehetőségek, adottságok egy innovatív iskolába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976"/>
                </a:solidFill>
                <a:latin typeface="TradeGothicM"/>
              </a:rPr>
              <a:t>Iskola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: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~ 18 M Ft gép- és rendszerfejlesztés (géptermek, tantermek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Otthon: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98%-os számítógép-, 72%-os internet-ellátottság !!! (</a:t>
            </a:r>
            <a:r>
              <a:rPr b="1" lang="hu-HU" sz="1800" spc="-1" strike="noStrike">
                <a:solidFill>
                  <a:srgbClr val="003976"/>
                </a:solidFill>
                <a:latin typeface="Symbol"/>
                <a:ea typeface="Symbol"/>
              </a:rPr>
              <a:t>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???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976"/>
                </a:solidFill>
                <a:latin typeface="TradeGothicM"/>
              </a:rPr>
              <a:t>Tudás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Diák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: hozza (?!), + alapozó informatika LKG-ban kezdő évfolyamokon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Tanár: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min. 50% min. alapfokú ismerettel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976"/>
                </a:solidFill>
                <a:latin typeface="TradeGothicM"/>
              </a:rPr>
              <a:t>Tartalom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egyre több oktatási célú portál érhető el (pl. SDT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Az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 eszközöket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(tárgyakat, tudást)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használni kell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–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nem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 informatika órán is!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1962-6818-4E26-94EB-E36CC3BA8CD1}" type="slidenum">
              <a:t>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Múlt, …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369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76"/>
                </a:solidFill>
                <a:latin typeface="TradeGothicM"/>
              </a:rPr>
              <a:t>CELEBRATE 1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2002/03,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digitális tananyagok fejlesztése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biológia, fizika, matematika: 10 tananyag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76"/>
                </a:solidFill>
                <a:latin typeface="TradeGothicM"/>
              </a:rPr>
              <a:t>CELEBRATE 2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2003/04,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tananyagok kipróbálása, fejlesztése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4 tanár, 8 tantárgy, 80 tanóra, 200 diák,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85 tananyag kipróbálása, 9 fejlesztése, 6 adaptálása</a:t>
            </a:r>
            <a:r>
              <a:rPr b="1" lang="en-US" sz="2200" spc="-1" strike="noStrike">
                <a:solidFill>
                  <a:srgbClr val="003976"/>
                </a:solidFill>
                <a:latin typeface="TradeGothicM"/>
              </a:rPr>
              <a:t> 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76"/>
                </a:solidFill>
                <a:latin typeface="TradeGothicM"/>
              </a:rPr>
              <a:t>SDT 1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2004/05,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Sulinet Digitális Tudásbázis tesztelése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5 tanár, 5 tantárgy, 50 tanóra, 160 diák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76"/>
                </a:solidFill>
                <a:latin typeface="TradeGothicM"/>
              </a:rPr>
              <a:t>(+ SCALE, ZORKA, „Földmérés”, „Parlagfű”, …)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2D11-68C6-44D7-815B-6D30D1F37F3A}" type="slidenum">
              <a:t>5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pasztalatok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752480"/>
            <a:ext cx="63691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diákok kedve, lelkesedése, érdeklődése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gyakorlat a IKT </a:t>
            </a:r>
            <a:r>
              <a:rPr b="0" lang="en-US" sz="2000" spc="-1" strike="noStrike">
                <a:solidFill>
                  <a:srgbClr val="003976"/>
                </a:solidFill>
                <a:latin typeface="TradeGothicM"/>
              </a:rPr>
              <a:t>értelmes</a:t>
            </a: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 használatában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idegen nyelv gyakorlása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élyebb, sokszínűbb tananyagismeret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sok előkészítő munka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szoftverek működési hiányosságai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némely anyag speciális szoftverigénye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diákok rugalmassága; segítőkészsége;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76"/>
                </a:solidFill>
                <a:latin typeface="Symbol"/>
                <a:ea typeface="Symbol"/>
              </a:rPr>
              <a:t>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976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 </a:t>
            </a: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tanárok kedve, lelkesedése, érdeklődése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DC3B-C2F4-4871-A2B6-94E23A737DB7}" type="slidenum">
              <a:t>6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640" y="189000"/>
            <a:ext cx="6050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SDT 2. – jelenlegi teendők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ccff"/>
                </a:solidFill>
                <a:latin typeface="TradeGothicM"/>
              </a:rPr>
              <a:t>SDT-monitor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: Informatikai eszközök alkalmazása a tanulási folyamatba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A kutatás célj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A projektindító tréning (két kooperatív technikát bemutató előadás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101 ötlet innovatív tanároknak (digitális formában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3976"/>
                </a:solidFill>
                <a:uFillTx/>
                <a:latin typeface="TradeGothicM"/>
              </a:rPr>
              <a:t>Feladat: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onként 10 előre megtervezett, tanmenetbe illesztett SDT óra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Keretrendszer-használat („</a:t>
            </a:r>
            <a:r>
              <a:rPr b="0" lang="hu-HU" sz="2000" spc="-1" strike="noStrike">
                <a:solidFill>
                  <a:srgbClr val="003976"/>
                </a:solidFill>
                <a:latin typeface="TradeGothicM"/>
              </a:rPr>
              <a:t>Moodle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”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i kutatási napló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Műhelymunk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840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3976"/>
                </a:solidFill>
                <a:latin typeface="TradeGothicM"/>
              </a:rPr>
              <a:t>Az iskolán belül (óralátogatás is)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lvl="1" marL="840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3976"/>
                </a:solidFill>
                <a:latin typeface="TradeGothicM"/>
              </a:rPr>
              <a:t>A mentorral (óralátogatás is)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lvl="1" marL="840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3976"/>
                </a:solidFill>
                <a:latin typeface="TradeGothicM"/>
              </a:rPr>
              <a:t>Az iskolák között (óralátogatás is)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976"/>
                </a:solidFill>
                <a:latin typeface="TradeGothicM"/>
              </a:rPr>
              <a:t>Moodle</a:t>
            </a:r>
            <a:r>
              <a:rPr b="1" lang="hu-HU" sz="2200" spc="-1" strike="noStrike">
                <a:solidFill>
                  <a:srgbClr val="003976"/>
                </a:solidFill>
                <a:latin typeface="TradeGothicM"/>
              </a:rPr>
              <a:t> oktatási keretrendszer: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lvl="1" marL="840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tartalomkezelő rendszer (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C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ontent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M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anagement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S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ystem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lvl="1" marL="840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tanulásmenedzsment rendszer (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L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earning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M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anagement </a:t>
            </a:r>
            <a:r>
              <a:rPr b="0" lang="hu-HU" sz="1800" spc="-1" strike="noStrike">
                <a:solidFill>
                  <a:srgbClr val="003976"/>
                </a:solidFill>
                <a:latin typeface="TradeGothicM"/>
              </a:rPr>
              <a:t>S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ystem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43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1878-459B-4E2F-B46F-C3B8474959B5}" type="slidenum">
              <a:t>7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A jövő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Az IKT eszközök további alkalmazása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A még tapasztalatlan kollégák, iskolák segítése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Új tananyagok fejlesztése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Új tananyagok kipróbálása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További módszertani fejlesztés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7774-2EC6-4874-A1DC-E5013C9CDDE0}" type="slidenum">
              <a:t>8</a:t>
            </a:fld>
          </a:p>
        </p:txBody>
      </p:sp>
    </p:spTree>
  </p:cSld>
  <p:transition>
    <p:comb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976"/>
                </a:solidFill>
                <a:latin typeface="TradeGothicM"/>
              </a:rPr>
              <a:t>SDT elemek a tanórán</a:t>
            </a:r>
            <a:endParaRPr b="1" lang="en-US" sz="72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976"/>
                </a:solidFill>
                <a:latin typeface="TradeGothicM"/>
              </a:rPr>
              <a:t>(a tapasztalat)</a:t>
            </a:r>
            <a:endParaRPr b="1" lang="en-US" sz="72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nanyagfejlesztés folyam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6F1F-D146-472F-91E2-9434EDEE21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15:04:05Z</dcterms:created>
  <dc:creator>EDUWEB Rt.</dc:creator>
  <dc:description/>
  <dc:language>en-US</dc:language>
  <cp:lastModifiedBy>Sebőkné Orosz Katalin</cp:lastModifiedBy>
  <dcterms:modified xsi:type="dcterms:W3CDTF">2006-05-11T19:34:20Z</dcterms:modified>
  <cp:revision>59</cp:revision>
  <dc:subject/>
  <dc:title>Tananyagfejlesztési folyamat</dc:title>
</cp:coreProperties>
</file>