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B4C-D4B4-455F-822D-08A6FDB5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3DC-F082-451A-8C58-6710F78E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015-74D6-4050-AC4F-6CF61F79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3BA-64A4-4690-ABB3-AF9BC056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373-B50E-4E41-B799-AA2BD9A0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13C-3AB6-45F6-9484-9AB12373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17F-4A3F-41C8-A706-274B8D86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F17-DC2B-4A95-A0BD-FAA01CB2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D45-8138-4613-B8EB-D3E25B64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076-78B5-430B-BAB7-790C239C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34E-2E13-4C51-B426-019F32E0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81E-EB05-4E5A-A1CB-6A74334F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536C-31EA-4E47-9C5E-DBB62BFD6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ir.hu/intezmeny/intreszl.asp?om10kod=029801" TargetMode="External"/><Relationship Id="rId2" Type="http://schemas.openxmlformats.org/officeDocument/2006/relationships/hyperlink" Target="http://server.mora-szeged.sulinet.hu/" TargetMode="External"/><Relationship Id="rId3" Type="http://schemas.openxmlformats.org/officeDocument/2006/relationships/hyperlink" Target="http://www.kir.hu/intezmeny/intreszl.asp?om10kod=102930" TargetMode="External"/><Relationship Id="rId4" Type="http://schemas.openxmlformats.org/officeDocument/2006/relationships/hyperlink" Target="http://www.almasi.hu/" TargetMode="External"/><Relationship Id="rId5" Type="http://schemas.openxmlformats.org/officeDocument/2006/relationships/hyperlink" Target="http://www.kir.hu/intezmeny/intreszl.asp?om10kod=035415" TargetMode="External"/><Relationship Id="rId6" Type="http://schemas.openxmlformats.org/officeDocument/2006/relationships/hyperlink" Target="http://www.kalmar.hu/" TargetMode="External"/><Relationship Id="rId7" Type="http://schemas.openxmlformats.org/officeDocument/2006/relationships/hyperlink" Target="http://www.kir.hu/intezmeny/intreszl.asp?om10kod=035235" TargetMode="External"/><Relationship Id="rId8" Type="http://schemas.openxmlformats.org/officeDocument/2006/relationships/hyperlink" Target="http://www.kir.hu/intezmeny/intreszl.asp?om10kod=035235" TargetMode="External"/><Relationship Id="rId9" Type="http://schemas.openxmlformats.org/officeDocument/2006/relationships/hyperlink" Target="http://nov.lkg-bp.sulinet.hu/01start/start.htm" TargetMode="External"/><Relationship Id="rId10" Type="http://schemas.openxmlformats.org/officeDocument/2006/relationships/hyperlink" Target="http://www.kir.hu/intezmeny/intreszl.asp?om10kod=031933" TargetMode="External"/><Relationship Id="rId11" Type="http://schemas.openxmlformats.org/officeDocument/2006/relationships/hyperlink" Target="http://www.eotvos-tata.sulinet.hu/" TargetMode="Externa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Arial"/>
              </a:rPr>
              <a:t>SDT-mon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kai eszközök alkalmazása a tanulási folyamat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apest, 2006. febr. 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72692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táridő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pló bevezető, tervezéssel: II.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rák: II. 15. – V. 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ső látogatások: tetszés sze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sik iskola látogatása: márc. – áp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kola tréningek: febr. vége, márc. vé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kolai műhelymunka: szükség sze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összevont tréning: április el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i látogatások: megbeszélés sze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0000"/>
                </a:solidFill>
                <a:latin typeface="Arial"/>
              </a:rPr>
              <a:t>Jó munkát, sok siker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unya Má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unyam@oki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utatási és fejlesztési ter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5203800"/>
        </p:xfrm>
        <a:graphic>
          <a:graphicData uri="http://schemas.openxmlformats.org/drawingml/2006/table">
            <a:tbl>
              <a:tblPr/>
              <a:tblGrid>
                <a:gridCol w="1019160"/>
                <a:gridCol w="3456000"/>
                <a:gridCol w="3754440"/>
              </a:tblGrid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tatási feladat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jlesztési feladat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é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 innovatív iskolai kör megtalálása és felmérése, kontrollcsoportos vizsgál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kiválasztott iskola fejlesztése mentorok és tréningek segítségével, iskolafejlesztési szemlélett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é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iskolák teljes körének felmérése 2 alkalommal: az IKT eszközhasználatra koncentrálv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iskolák műhelyekké fejlesztése, e műhelymunka támogatása; közhasznú kézikönyv létrehozás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é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iskolák teljes körének felmérése: az IKT eszközhasználatra koncentrálva a 3 éves változások elemz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IKT-tanártovábbképz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ácsadás, főként a kézikönyv használatában, ped. intézetekkel együttműköd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utatási hipotézisek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5156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potéz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érőeszköz és indiká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duk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 egy olyan innovatív iskolai kör Magyarországon, amely műhellyé válva mintául szolgálhat a követő iskolák számár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hívásos jelentkeztetés Műhelyek kialakítása A műhelyek sikeressé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ejlesztésben résztvevő iskolák kö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étrejött műhely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éves munkát összefoglaló tanulm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zek az innovatív iskolák maguk is igénylik a segítséget a továbbfejlődéshez.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űhelyek sikeressé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zvétel a tréningek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entori segítség igénybevét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éves munkát összefoglaló tanulm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utatási hipotézisek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potéz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érőeszköz és indiká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duk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z informatikai eszközök szak- és korszerű alkalmazásának tudatos segítése emeli a digitális eszközök használatának pedagógiai színvonalát és az eszközhasználat intenzitását, ugyanakkor hatással van az iskolai munka egészére 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meneti és záró kérdőí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jú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ori látogatás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ravázlatok, feladatlap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kolaportrék, valam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z éves munkát összefoglaló tanulmá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tet (kézikönyv) a 2. évb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motivált, de tapasztalatlan iskolákban a fejlesztő folyamat hatékonyab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utatási hipotézisek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341360"/>
          <a:ext cx="8229600" cy="5338800"/>
        </p:xfrm>
        <a:graphic>
          <a:graphicData uri="http://schemas.openxmlformats.org/drawingml/2006/table">
            <a:tbl>
              <a:tblPr/>
              <a:tblGrid>
                <a:gridCol w="3610080"/>
                <a:gridCol w="2449440"/>
                <a:gridCol w="2170080"/>
              </a:tblGrid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potéz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érőeszköz és indiká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duk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jó gyakorlatok összegyűjtése és terjesztése képes az informatikai eszközök tanórai alkalmazásának katalizálásár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érdőív, interjú a 2. év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éziköny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új eszközök alkalmat adnak a pedagógiai paradigmaváltás – a kooperatív tanulás – felgyorsítására, az iskolafejlesztésre. Ezt a célt jól szolgálják a kollaboratív platformok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alátogatások, óravázlatok, feladatlapok, kérdőív, interj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éziköny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utatási hipotézisek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potéz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érőeszköz és indiká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duk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IKT-eszközöket tanórán használó tanárok, illetve az ilyen órák száma kb. duplájára nő a 3 éves időszakba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ő éves bemeneti és záró mér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szágos mérések rendszere (3 alk.)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enkénti „Jelentés” az IKT tanórai alkalmazásáról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atékony IKT-tanártovábbképzés rendszere kialakul a projekt 3. évé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umentumelemzés, kérdőív, interj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entés a 3. évb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csapat felép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9080" y="2233440"/>
            <a:ext cx="8839080" cy="3483720"/>
            <a:chOff x="289080" y="2233440"/>
            <a:chExt cx="8839080" cy="3483720"/>
          </a:xfrm>
        </p:grpSpPr>
        <p:cxnSp>
          <p:nvCxnSpPr>
            <p:cNvPr id="56" name="_s44100"/>
            <p:cNvCxnSpPr>
              <a:stCxn id="57" idx="1"/>
              <a:endCxn id="58" idx="2"/>
            </p:cNvCxnSpPr>
            <p:nvPr/>
          </p:nvCxnSpPr>
          <p:spPr>
            <a:xfrm rot="10800000">
              <a:off x="4708440" y="2581560"/>
              <a:ext cx="175680" cy="35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44098"/>
            <p:cNvCxnSpPr>
              <a:stCxn id="60" idx="3"/>
              <a:endCxn id="58" idx="2"/>
            </p:cNvCxnSpPr>
            <p:nvPr/>
          </p:nvCxnSpPr>
          <p:spPr>
            <a:xfrm flipV="1">
              <a:off x="4530600" y="2581560"/>
              <a:ext cx="178920" cy="35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44095"/>
            <p:cNvCxnSpPr>
              <a:stCxn id="62" idx="1"/>
              <a:endCxn id="63" idx="2"/>
            </p:cNvCxnSpPr>
            <p:nvPr/>
          </p:nvCxnSpPr>
          <p:spPr>
            <a:xfrm rot="10800000">
              <a:off x="7891200" y="4150080"/>
              <a:ext cx="175680" cy="139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44093"/>
            <p:cNvCxnSpPr>
              <a:stCxn id="65" idx="1"/>
              <a:endCxn id="63" idx="2"/>
            </p:cNvCxnSpPr>
            <p:nvPr/>
          </p:nvCxnSpPr>
          <p:spPr>
            <a:xfrm rot="10800000">
              <a:off x="7891200" y="4150080"/>
              <a:ext cx="175680" cy="87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44091"/>
            <p:cNvCxnSpPr>
              <a:stCxn id="67" idx="1"/>
              <a:endCxn id="63" idx="2"/>
            </p:cNvCxnSpPr>
            <p:nvPr/>
          </p:nvCxnSpPr>
          <p:spPr>
            <a:xfrm rot="10800000">
              <a:off x="7891200" y="4150080"/>
              <a:ext cx="175680" cy="35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4089"/>
            <p:cNvCxnSpPr>
              <a:stCxn id="69" idx="1"/>
              <a:endCxn id="70" idx="2"/>
            </p:cNvCxnSpPr>
            <p:nvPr/>
          </p:nvCxnSpPr>
          <p:spPr>
            <a:xfrm rot="10800000">
              <a:off x="6476760" y="4150080"/>
              <a:ext cx="176400" cy="139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44087"/>
            <p:cNvCxnSpPr>
              <a:stCxn id="72" idx="1"/>
              <a:endCxn id="70" idx="2"/>
            </p:cNvCxnSpPr>
            <p:nvPr/>
          </p:nvCxnSpPr>
          <p:spPr>
            <a:xfrm rot="10800000">
              <a:off x="6476760" y="4150080"/>
              <a:ext cx="176400" cy="87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44085"/>
            <p:cNvCxnSpPr>
              <a:stCxn id="74" idx="1"/>
              <a:endCxn id="70" idx="2"/>
            </p:cNvCxnSpPr>
            <p:nvPr/>
          </p:nvCxnSpPr>
          <p:spPr>
            <a:xfrm rot="10800000">
              <a:off x="6476760" y="4150080"/>
              <a:ext cx="176400" cy="35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44081"/>
            <p:cNvCxnSpPr>
              <a:stCxn id="76" idx="1"/>
              <a:endCxn id="77" idx="2"/>
            </p:cNvCxnSpPr>
            <p:nvPr/>
          </p:nvCxnSpPr>
          <p:spPr>
            <a:xfrm rot="10800000">
              <a:off x="5062320" y="4150080"/>
              <a:ext cx="175680" cy="139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44079"/>
            <p:cNvCxnSpPr>
              <a:stCxn id="79" idx="1"/>
              <a:endCxn id="77" idx="2"/>
            </p:cNvCxnSpPr>
            <p:nvPr/>
          </p:nvCxnSpPr>
          <p:spPr>
            <a:xfrm rot="10800000">
              <a:off x="5062320" y="4150080"/>
              <a:ext cx="175680" cy="87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44077"/>
            <p:cNvCxnSpPr>
              <a:stCxn id="81" idx="1"/>
              <a:endCxn id="77" idx="2"/>
            </p:cNvCxnSpPr>
            <p:nvPr/>
          </p:nvCxnSpPr>
          <p:spPr>
            <a:xfrm rot="10800000">
              <a:off x="5062320" y="4150080"/>
              <a:ext cx="175680" cy="35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44075"/>
            <p:cNvCxnSpPr>
              <a:stCxn id="83" idx="1"/>
              <a:endCxn id="84" idx="2"/>
            </p:cNvCxnSpPr>
            <p:nvPr/>
          </p:nvCxnSpPr>
          <p:spPr>
            <a:xfrm rot="10800000">
              <a:off x="3647880" y="4150080"/>
              <a:ext cx="176400" cy="139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44073"/>
            <p:cNvCxnSpPr>
              <a:stCxn id="86" idx="1"/>
              <a:endCxn id="84" idx="2"/>
            </p:cNvCxnSpPr>
            <p:nvPr/>
          </p:nvCxnSpPr>
          <p:spPr>
            <a:xfrm rot="10800000">
              <a:off x="3647880" y="4150080"/>
              <a:ext cx="176400" cy="87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4071"/>
            <p:cNvCxnSpPr>
              <a:stCxn id="88" idx="1"/>
              <a:endCxn id="84" idx="2"/>
            </p:cNvCxnSpPr>
            <p:nvPr/>
          </p:nvCxnSpPr>
          <p:spPr>
            <a:xfrm rot="10800000">
              <a:off x="3647880" y="4150080"/>
              <a:ext cx="176400" cy="35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44069"/>
            <p:cNvCxnSpPr>
              <a:stCxn id="90" idx="1"/>
              <a:endCxn id="91" idx="2"/>
            </p:cNvCxnSpPr>
            <p:nvPr/>
          </p:nvCxnSpPr>
          <p:spPr>
            <a:xfrm rot="10800000">
              <a:off x="2233440" y="4150080"/>
              <a:ext cx="176400" cy="139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44067"/>
            <p:cNvCxnSpPr>
              <a:stCxn id="93" idx="1"/>
              <a:endCxn id="91" idx="2"/>
            </p:cNvCxnSpPr>
            <p:nvPr/>
          </p:nvCxnSpPr>
          <p:spPr>
            <a:xfrm rot="10800000">
              <a:off x="2233440" y="4150080"/>
              <a:ext cx="176400" cy="87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44065"/>
            <p:cNvCxnSpPr>
              <a:stCxn id="95" idx="1"/>
              <a:endCxn id="91" idx="2"/>
            </p:cNvCxnSpPr>
            <p:nvPr/>
          </p:nvCxnSpPr>
          <p:spPr>
            <a:xfrm rot="10800000">
              <a:off x="2233440" y="4150080"/>
              <a:ext cx="176400" cy="35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44063"/>
            <p:cNvCxnSpPr>
              <a:stCxn id="97" idx="1"/>
              <a:endCxn id="98" idx="2"/>
            </p:cNvCxnSpPr>
            <p:nvPr/>
          </p:nvCxnSpPr>
          <p:spPr>
            <a:xfrm rot="10800000">
              <a:off x="817560" y="4150080"/>
              <a:ext cx="177480" cy="139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44061"/>
            <p:cNvCxnSpPr>
              <a:stCxn id="100" idx="1"/>
              <a:endCxn id="98" idx="2"/>
            </p:cNvCxnSpPr>
            <p:nvPr/>
          </p:nvCxnSpPr>
          <p:spPr>
            <a:xfrm rot="10800000">
              <a:off x="817560" y="4150080"/>
              <a:ext cx="177480" cy="87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44059"/>
            <p:cNvCxnSpPr>
              <a:stCxn id="102" idx="1"/>
              <a:endCxn id="98" idx="2"/>
            </p:cNvCxnSpPr>
            <p:nvPr/>
          </p:nvCxnSpPr>
          <p:spPr>
            <a:xfrm rot="10800000">
              <a:off x="817560" y="4150080"/>
              <a:ext cx="177480" cy="35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44057"/>
            <p:cNvCxnSpPr>
              <a:stCxn id="63" idx="0"/>
              <a:endCxn id="104" idx="2"/>
            </p:cNvCxnSpPr>
            <p:nvPr/>
          </p:nvCxnSpPr>
          <p:spPr>
            <a:xfrm flipV="1" rot="16200000">
              <a:off x="7626960" y="3536640"/>
              <a:ext cx="175320" cy="354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44055"/>
            <p:cNvCxnSpPr>
              <a:stCxn id="70" idx="0"/>
              <a:endCxn id="104" idx="2"/>
            </p:cNvCxnSpPr>
            <p:nvPr/>
          </p:nvCxnSpPr>
          <p:spPr>
            <a:xfrm flipH="1" flipV="1" rot="5400000">
              <a:off x="6920280" y="3183480"/>
              <a:ext cx="175320" cy="1061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44053"/>
            <p:cNvCxnSpPr>
              <a:stCxn id="77" idx="0"/>
              <a:endCxn id="107" idx="2"/>
            </p:cNvCxnSpPr>
            <p:nvPr/>
          </p:nvCxnSpPr>
          <p:spPr>
            <a:xfrm flipV="1" rot="16200000">
              <a:off x="4798080" y="3536640"/>
              <a:ext cx="175320" cy="354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44051"/>
            <p:cNvCxnSpPr>
              <a:stCxn id="84" idx="0"/>
              <a:endCxn id="107" idx="2"/>
            </p:cNvCxnSpPr>
            <p:nvPr/>
          </p:nvCxnSpPr>
          <p:spPr>
            <a:xfrm flipH="1" flipV="1" rot="5400000">
              <a:off x="4091400" y="3183480"/>
              <a:ext cx="175320" cy="1061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44049"/>
            <p:cNvCxnSpPr>
              <a:stCxn id="91" idx="0"/>
              <a:endCxn id="110" idx="2"/>
            </p:cNvCxnSpPr>
            <p:nvPr/>
          </p:nvCxnSpPr>
          <p:spPr>
            <a:xfrm flipV="1" rot="16200000">
              <a:off x="1968480" y="3535920"/>
              <a:ext cx="175320" cy="355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44047"/>
            <p:cNvCxnSpPr>
              <a:stCxn id="98" idx="0"/>
              <a:endCxn id="110" idx="2"/>
            </p:cNvCxnSpPr>
            <p:nvPr/>
          </p:nvCxnSpPr>
          <p:spPr>
            <a:xfrm flipH="1" flipV="1" rot="5400000">
              <a:off x="1261080" y="3183480"/>
              <a:ext cx="175320" cy="1061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44045"/>
            <p:cNvCxnSpPr>
              <a:stCxn id="104" idx="0"/>
              <a:endCxn id="58" idx="2"/>
            </p:cNvCxnSpPr>
            <p:nvPr/>
          </p:nvCxnSpPr>
          <p:spPr>
            <a:xfrm flipV="1" rot="16200000">
              <a:off x="5774400" y="1515960"/>
              <a:ext cx="697680" cy="2829240"/>
            </a:xfrm>
            <a:prstGeom prst="bentConnector3">
              <a:avLst>
                <a:gd name="adj1" fmla="val 163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44044"/>
            <p:cNvCxnSpPr>
              <a:stCxn id="107" idx="0"/>
              <a:endCxn id="58" idx="2"/>
            </p:cNvCxnSpPr>
            <p:nvPr/>
          </p:nvCxnSpPr>
          <p:spPr>
            <a:xfrm flipV="1">
              <a:off x="4708800" y="2581920"/>
              <a:ext cx="1800" cy="69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44043"/>
            <p:cNvCxnSpPr>
              <a:stCxn id="110" idx="0"/>
              <a:endCxn id="58" idx="2"/>
            </p:cNvCxnSpPr>
            <p:nvPr/>
          </p:nvCxnSpPr>
          <p:spPr>
            <a:xfrm flipH="1" flipV="1" rot="5400000">
              <a:off x="2944800" y="1515240"/>
              <a:ext cx="697680" cy="2830680"/>
            </a:xfrm>
            <a:prstGeom prst="bentConnector3">
              <a:avLst>
                <a:gd name="adj1" fmla="val 163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44039"/>
            <p:cNvSpPr/>
            <p:nvPr/>
          </p:nvSpPr>
          <p:spPr>
            <a:xfrm>
              <a:off x="4178160" y="2233440"/>
              <a:ext cx="1060200" cy="34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émavezet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4040"/>
            <p:cNvSpPr/>
            <p:nvPr/>
          </p:nvSpPr>
          <p:spPr>
            <a:xfrm>
              <a:off x="1349280" y="327960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Dancsó Tün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4041"/>
            <p:cNvSpPr/>
            <p:nvPr/>
          </p:nvSpPr>
          <p:spPr>
            <a:xfrm>
              <a:off x="4178160" y="3279600"/>
              <a:ext cx="10602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Csibi Erzséb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4042"/>
            <p:cNvSpPr/>
            <p:nvPr/>
          </p:nvSpPr>
          <p:spPr>
            <a:xfrm>
              <a:off x="7007040" y="3279600"/>
              <a:ext cx="10602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ószegi End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44046"/>
            <p:cNvSpPr/>
            <p:nvPr/>
          </p:nvSpPr>
          <p:spPr>
            <a:xfrm>
              <a:off x="289080" y="3801960"/>
              <a:ext cx="1060200" cy="34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9999"/>
                  </a:solidFill>
                  <a:uFillTx/>
                  <a:latin typeface="Arial"/>
                  <a:hlinkClick r:id="rId1"/>
                </a:rPr>
                <a:t>Móra</a:t>
              </a: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 - </a:t>
              </a:r>
              <a:r>
                <a:rPr b="0" lang="en-US" sz="8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Szeg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4048"/>
            <p:cNvSpPr/>
            <p:nvPr/>
          </p:nvSpPr>
          <p:spPr>
            <a:xfrm>
              <a:off x="1703160" y="3801960"/>
              <a:ext cx="1060560" cy="34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Almási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lang="hu-HU" sz="8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Mak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44050"/>
            <p:cNvSpPr/>
            <p:nvPr/>
          </p:nvSpPr>
          <p:spPr>
            <a:xfrm>
              <a:off x="3117600" y="3801960"/>
              <a:ext cx="1060560" cy="34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zabó L. – Bp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44052"/>
            <p:cNvSpPr/>
            <p:nvPr/>
          </p:nvSpPr>
          <p:spPr>
            <a:xfrm>
              <a:off x="4532400" y="3801960"/>
              <a:ext cx="1060200" cy="34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Kalmár L. </a:t>
              </a: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– </a:t>
              </a:r>
              <a:r>
                <a:rPr b="0" lang="en-US" sz="8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Bp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44054"/>
            <p:cNvSpPr/>
            <p:nvPr/>
          </p:nvSpPr>
          <p:spPr>
            <a:xfrm>
              <a:off x="5946480" y="3801960"/>
              <a:ext cx="1060560" cy="34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Leövey</a:t>
              </a:r>
              <a:r>
                <a:rPr b="0" lang="hu-HU" sz="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 K. 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hu-HU" sz="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Bp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4056"/>
            <p:cNvSpPr/>
            <p:nvPr/>
          </p:nvSpPr>
          <p:spPr>
            <a:xfrm>
              <a:off x="7360920" y="3801960"/>
              <a:ext cx="1060200" cy="34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Eötvös J. </a:t>
              </a: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- </a:t>
              </a:r>
              <a:r>
                <a:rPr b="0" lang="en-US" sz="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T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44058"/>
            <p:cNvSpPr/>
            <p:nvPr/>
          </p:nvSpPr>
          <p:spPr>
            <a:xfrm>
              <a:off x="995400" y="432576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5 taná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44060"/>
            <p:cNvSpPr/>
            <p:nvPr/>
          </p:nvSpPr>
          <p:spPr>
            <a:xfrm>
              <a:off x="995400" y="484812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Pasztuhov Baláz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44062"/>
            <p:cNvSpPr/>
            <p:nvPr/>
          </p:nvSpPr>
          <p:spPr>
            <a:xfrm>
              <a:off x="995400" y="537012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klós M.-n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44064"/>
            <p:cNvSpPr/>
            <p:nvPr/>
          </p:nvSpPr>
          <p:spPr>
            <a:xfrm>
              <a:off x="2409840" y="432576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5 taná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44066"/>
            <p:cNvSpPr/>
            <p:nvPr/>
          </p:nvSpPr>
          <p:spPr>
            <a:xfrm>
              <a:off x="2409840" y="484812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lmási Pá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4068"/>
            <p:cNvSpPr/>
            <p:nvPr/>
          </p:nvSpPr>
          <p:spPr>
            <a:xfrm>
              <a:off x="2409840" y="537012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lmási Pá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4070"/>
            <p:cNvSpPr/>
            <p:nvPr/>
          </p:nvSpPr>
          <p:spPr>
            <a:xfrm>
              <a:off x="3824280" y="4325760"/>
              <a:ext cx="10602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5 taná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44072"/>
            <p:cNvSpPr/>
            <p:nvPr/>
          </p:nvSpPr>
          <p:spPr>
            <a:xfrm>
              <a:off x="3824280" y="4848120"/>
              <a:ext cx="10602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riss Tamá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44074"/>
            <p:cNvSpPr/>
            <p:nvPr/>
          </p:nvSpPr>
          <p:spPr>
            <a:xfrm>
              <a:off x="3824280" y="5370120"/>
              <a:ext cx="10602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oltán 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44076"/>
            <p:cNvSpPr/>
            <p:nvPr/>
          </p:nvSpPr>
          <p:spPr>
            <a:xfrm>
              <a:off x="5238720" y="432576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5 taná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44078"/>
            <p:cNvSpPr/>
            <p:nvPr/>
          </p:nvSpPr>
          <p:spPr>
            <a:xfrm>
              <a:off x="5238720" y="484812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Krizsán Atti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44080"/>
            <p:cNvSpPr/>
            <p:nvPr/>
          </p:nvSpPr>
          <p:spPr>
            <a:xfrm>
              <a:off x="5238720" y="537012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Dr. Stúr D.-n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44084"/>
            <p:cNvSpPr/>
            <p:nvPr/>
          </p:nvSpPr>
          <p:spPr>
            <a:xfrm>
              <a:off x="6653160" y="4325760"/>
              <a:ext cx="10602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5 taná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44086"/>
            <p:cNvSpPr/>
            <p:nvPr/>
          </p:nvSpPr>
          <p:spPr>
            <a:xfrm>
              <a:off x="6653160" y="4848120"/>
              <a:ext cx="10602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Kauders Tamá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4088"/>
            <p:cNvSpPr/>
            <p:nvPr/>
          </p:nvSpPr>
          <p:spPr>
            <a:xfrm>
              <a:off x="6653160" y="5370120"/>
              <a:ext cx="10602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Bánhegyesi Z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4090"/>
            <p:cNvSpPr/>
            <p:nvPr/>
          </p:nvSpPr>
          <p:spPr>
            <a:xfrm>
              <a:off x="8067600" y="432576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5 taná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44092"/>
            <p:cNvSpPr/>
            <p:nvPr/>
          </p:nvSpPr>
          <p:spPr>
            <a:xfrm>
              <a:off x="8067600" y="484812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ál Bot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44094"/>
            <p:cNvSpPr/>
            <p:nvPr/>
          </p:nvSpPr>
          <p:spPr>
            <a:xfrm>
              <a:off x="8067600" y="537012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atona Már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44097"/>
            <p:cNvSpPr/>
            <p:nvPr/>
          </p:nvSpPr>
          <p:spPr>
            <a:xfrm>
              <a:off x="3470400" y="2757240"/>
              <a:ext cx="10602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000000"/>
                  </a:solidFill>
                  <a:latin typeface="Arial"/>
                </a:rPr>
                <a:t>Vollárné F Tün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44099"/>
            <p:cNvSpPr/>
            <p:nvPr/>
          </p:nvSpPr>
          <p:spPr>
            <a:xfrm>
              <a:off x="4884840" y="2757240"/>
              <a:ext cx="106056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eretrendszer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tanárok, iskolák feladat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anáronként 10 előre megtervezett, tanmenetbe illesztett SDT-s óra (Napló bevezető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eretrendszer-haszná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anári kutatási napló (óránkén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űhelymu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skolán belül (óralátogatás 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ntorral (óralátogatás 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skolák között (óralátogatás 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onkrét felad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vétel  2 összevont trén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vétel 2 iskolai trén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lózás (10 óra, - 5 szerkesztet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más látogatása jegyzőkönyvv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zerváció másik iskolában (2 ó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ső műhelymunk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sszefoglaló jelen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mutató tanítás (1 ó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0:14:56Z</dcterms:created>
  <dc:creator>HMK</dc:creator>
  <dc:description/>
  <dc:language>en-US</dc:language>
  <cp:lastModifiedBy>HMK</cp:lastModifiedBy>
  <dcterms:modified xsi:type="dcterms:W3CDTF">2006-02-05T20:09:42Z</dcterms:modified>
  <cp:revision>30</cp:revision>
  <dc:subject/>
  <dc:title>A fejlesztő értékelés eszközei</dc:title>
</cp:coreProperties>
</file>