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D33F-C527-4DB2-9F40-489546F6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C2C8-502A-4B0B-90BB-2BA7A36D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94D4-4AB9-4935-B167-3F679F0D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E707-136E-46E7-A7F9-FAE66AED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E621-5B3C-4991-9972-F527161A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FC82-D4E9-422D-B066-C27685DA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119A-E75F-40E5-873F-5C946FE5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CDA9-5028-4667-96D7-FCC8DE32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8C0E-2D6F-4770-A4D5-FF9EC19E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ABAE-9C5E-4440-B747-080C5939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CC52-AA4E-4B8C-8D08-576E7EDB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E763-D89C-4627-9FAF-14D405FC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72E0-6837-4C0D-A1A3-682DC2F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3E84-1078-4049-851C-22727492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4EA6-EEB0-4E11-B4B0-553F8728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E251-7DD5-44D8-A3BF-A12BA04E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52B3-A245-43A4-BD03-B36072A8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5368-6128-45A7-8EC2-A98BBFF6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8DBB-5A7C-4527-97FD-A45538B3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001A-A8BD-45D3-8CBD-11CE0012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6BC2-D1EE-4146-A2B1-746A4387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717B-78EA-46F6-8AAD-D4BA282B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C704-0AC5-45F9-8445-2BA613A0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70D9-6A36-4C11-A700-A540FDB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EA53-FACE-43E9-88A2-239D008C21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8F4D-40E3-446B-97C0-3E8AEC16182C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823F-FA14-4AB9-86B6-0AAB576E6F16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DDE8-5C28-4FB0-B757-B01B44E79B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szivciklus.dir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zamver.dcr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bypass.mpeg" TargetMode="External"/><Relationship Id="rId2" Type="http://schemas.openxmlformats.org/officeDocument/2006/relationships/hyperlink" Target="file:///bypass.mpeg" TargetMode="External"/><Relationship Id="rId3" Type="http://schemas.openxmlformats.org/officeDocument/2006/relationships/hyperlink" Target="file:///bypass.mpeg" TargetMode="External"/><Relationship Id="rId4" Type="http://schemas.openxmlformats.org/officeDocument/2006/relationships/hyperlink" Target="file:///ballon.mpe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ingvezeto.sw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linet.hu/sunflower/SMS/start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z ember keringési rendszer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bőkné Orosz Kata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3D25DDA-EB64-48A6-819C-B8D22340C32F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ffffcc"/>
                </a:solidFill>
                <a:latin typeface="Tahoma"/>
              </a:rPr>
              <a:t>A szívciklus a bal szívfélb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amra vérnyomása a telítődés miatt is n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e jelentősebben az ingerületvezetési késéssel a saját falának összehúzódása okoz benne vérnyomás-emelkedé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miatt bezár a vitorlás billentyű, kinyílik a zsebes billentyű – a pitvar ekkorra már elernyed, újra telítődni kez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amra izomzata erőteljesen összehúzódik és vértartalma 60%-át (75-80 ml vért= pulzustérfogat) kilöki az aortá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A kamra is elernyed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miközben esik a vérnyomása, ezért a nagyobb vérnyomású ér felől bezár a zsebes billenty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szívhangokat a billentyűk keltik (a vitorlás billentyű záródása halk bu, a zsebes billentyűé tup hangzás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74D0F0-BF40-4111-BF90-9C56724198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z érrendszer jellemző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2aa68"/>
                </a:solidFill>
                <a:latin typeface="Tahoma"/>
              </a:rPr>
              <a:t>Artéria: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ör alakú átmérő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ülső rétege lazarostos kötőszövet és zsírszövet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özépső rétege (simaizomszövet (körkörös és spirális lefutású) és a külső rugalmas rostos kötőszöveti hárt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első rétege endothél és belső rugalmas rostos hárt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isebb artériákban kevesebb a rugalmas rost, több a simaiz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1666800" cy="2476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1273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741DD0-FA17-4C44-9AB2-84CBBE3DC2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z érrendszer jellemző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5832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2aa68"/>
                </a:solidFill>
                <a:latin typeface="Tahoma"/>
              </a:rPr>
              <a:t>A véna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ülönbség: a középős réteg vékony, kevés izomsejttel, kollagén rost van a faláb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zért kevésbé rugalmas, de táguléko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Átmérője inkább ová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Zsebes billentyűk vannak a nagyobb vénákb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2aa68"/>
                </a:solidFill>
                <a:latin typeface="Tahoma"/>
              </a:rPr>
              <a:t>Kapillári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ala endothél, szétszórtan kötőszöveti- és simaizomsejtekk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5-7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  <a:ea typeface="Tahoma"/>
              </a:rPr>
              <a:t>m az átmérő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  <a:ea typeface="Tahoma"/>
              </a:rPr>
              <a:t>Típusai: artériás-vénás kapilláris és az őket összekötő, simaizomgyűrűvel ellátott valódi kapillá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66688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A556C7-A0C0-46DB-9618-2CA1EF49FD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ffffcc"/>
                </a:solidFill>
                <a:latin typeface="Tahoma"/>
              </a:rPr>
              <a:t>A vérnyomá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vérnyomás a vérnek az érfalra gyakorolt nyom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ülső légköri nyomáshoz viszonyítjuk, amit 0-nak veszünk (valójában 101 kPa=760 Hgm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ügg a szívmunka erejétől és az érfal ellenállóképességétő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al kamrában a diasztolés vérnyomás 1 kPa (8 Hgmm), szisztolés vérnyomása 16 kPa (120 Hgm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orta „üres” állapotbeli vérnyomása 11 kPa (80 Hgmm), telítődés után 16 kPa (120 Hgm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88E99B-FAF4-491A-AB09-0E956E819A4B}" type="datetime1">
              <a:rPr lang="en-US"/>
              <a:t>07/31/26</a:t>
            </a:fld>
          </a:p>
        </p:txBody>
      </p:sp>
    </p:spTree>
  </p:cSld>
  <p:transition>
    <p:comb dir="horz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nagyvérköri erek adata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72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2aa68"/>
                </a:solidFill>
                <a:latin typeface="Tahoma"/>
              </a:rPr>
              <a:t>A vérnyomáscsökkenés oka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vér belső súrlód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vér érfallal történő súrlód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Lüktetéskor fellépő mechanikai munkavégzés, így a vér veszít mozgási energiájábó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2aa68"/>
                </a:solidFill>
                <a:latin typeface="Tahoma"/>
              </a:rPr>
              <a:t>Vérnyomás az erekbe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apillárisok elején már csak 4 kPa (35 Hgmm), a végén 2 kPa (15 Hgm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venulákban kezdetben ilyen, a végéra kb. 1 kPa (6 Hgm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isvénákban ez tovább csökken 2 Hgmm-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88432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B6FF9F-68C8-45FB-B6F6-F0A4D8882E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énás visszaáramlást segítő tényezők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llvezeték nyirkot önt az alsó üres vénába, így 2 kPa-ra emeli a legvégén a vérnyomását (a jobb pitvaré 1 kPa alat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zívösszehúzódás alatt a vitorlás billentyű síkja a kamra felé tolódik (a pitvar tágabb, nyomása kiseb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zompum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égzés keltette szívóhatás (hasüregi túlnyomás + mellüregi negatív nyomás) a mellüregi vénák tágításával szívóhatást fejtenek 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énabillentyű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26E3A2-50BC-43D5-BFD7-C3AFD7A247D4}" type="datetime1">
              <a:rPr lang="en-US"/>
              <a:t>07/31/26</a:t>
            </a:fld>
          </a:p>
        </p:txBody>
      </p:sp>
    </p:spTree>
  </p:cSld>
  <p:transition>
    <p:comb dir="horz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vérnyomás szabályozás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2aa68"/>
                </a:solidFill>
                <a:latin typeface="Tahoma"/>
              </a:rPr>
              <a:t>A szívműködés szabályozásáv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getatív idegrendszer X. agyidege ingerlésével a szívfrekvencia csökken, ingerelhetősége, ingerületvezetése csök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cetil-kolin (gátló) hatására ugyan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háti gerincvelő szelvényekből kilépő szimpatikus axonokat tartalmazó idegek a paraszimpatikus hatás csökkentésé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agy adrenalin, noradrenalin felszabadításával (szimpatiko-adrenális rendsz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A7295C-514A-4FA5-A1F0-F5D589427A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vérnyomás szabályozás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108000" y="1341360"/>
            <a:ext cx="925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2aa68"/>
                </a:solidFill>
                <a:latin typeface="Tahoma"/>
              </a:rPr>
              <a:t>2. A nagyvérköri ellenállás befolyásolásával, főleg az artériák összkeresztmetszetével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szimpatikus határdúclánc felhasználásá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renalin, noradrenalin hatásával emelhet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vese renin-angiotenzin II. rendszerrel emelhet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vérnyomást, vagy a vér szén-dioxid szintjének növekedését mint ingert az aortaív és a nyaki verőér lévő nyomási és kemoreceptorok érzékelik, a IX. és X. agyideg révén juttatják az ingerületet a nyúltvelő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nyúltvelőben vérnyomás emelő kp (érszűkítő) és vérnyomás csökkentő kp (értágító) is v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űködését a híd vérnyomásszabályozó központja hangolja öss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zt szabályozza felül a hátulsó hipotalamusz hátulsó-oldalsó magcsoportja (szimpatikus) illetve elülső-oldalsó magcsoportja (paraszimpatik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zt még az agykéreg is felülszabályozhat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F490B8-C7A8-4932-8F6E-14EA975D33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77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7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7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77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77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77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77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0" dur="77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77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1" dur="77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3" dur="77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5" dur="77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77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3" dur="77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77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5" dur="77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9" dur="77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érkeringéssel kapcsolatos adatok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eringési perctérfogat =pulzustérfogat*pulzussz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yugalomban: 80 ml*70/perc=5600 ml/per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unkavégzéskor akár: 120 ml*180/perc= 21 600 ml/per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Felada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9598B7-F029-4A61-A78A-558DD5D44FB9}" type="datetime1">
              <a:rPr lang="en-US"/>
              <a:t>07/31/26</a:t>
            </a:fld>
          </a:p>
        </p:txBody>
      </p:sp>
    </p:spTree>
  </p:cSld>
  <p:transition>
    <p:comb dir="horz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48000" y="277920"/>
            <a:ext cx="533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Kapilláriskeringé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35280" y="1413000"/>
            <a:ext cx="55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kapillárisok falának áteresztőképessége a szervezetben nem egysé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agyban agy-vér gá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kapillárisok fala féligáteresztő hártyaként működi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hidrosztatikai nyomás (vérnyomás) a kapillárisok elején 35 Hgmm, a végén 15 Hg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környező szövetek nyomása közelítőleg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vérplazma és a szövetnedv között kb. 25 Hgmm ozmózisnyomás különbség van, amit a vérplazmafehérjék kolloid-ozmózis nyomása idéz elő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hidrosztatikai nyomáskülönbség és a kolloid ozmózisnyomás eredője határozza meg az anyagáramlás irányá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127320" cy="2189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128760" cy="36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2EE069-4DEA-4E99-9E24-FCAEECCC0D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két vérkö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711440" cy="396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3500280"/>
            <a:ext cx="2558880" cy="2909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508720" y="1341360"/>
            <a:ext cx="3097080" cy="42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60C890-3A72-4CB0-AEA3-C6503DD830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kapilláriskeringés zava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apillárisok vére és a szövetnedv között dinamikus egyensúly áll fenn (percenként a vérplazma térfogatának megfelelő mennyiségű szűrlet lép ki illetve be az érfal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izenyő (ödéma) alakul ki a szív teljesítményének romlásakor, magas hirdosztatikai nyomás mia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lyenkor a szövetnedv p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nyirokerek eldugulása is vizenyőt okoz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fehérje-anyagcsere zavara, esetleg éhezés miatt kevesebb a vérplazmafehérje, ezért kisebb a kolloid-ozmózis nyomás, emiatt csökken a vér szívóhat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F801EF-6099-4133-96EE-05E0E8B990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 véreloszlás és az erek megbetegedései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3538440" cy="3743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771640" y="3705120"/>
            <a:ext cx="4321440" cy="293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164360" y="1268280"/>
            <a:ext cx="1219320" cy="2189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2251080" cy="2189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8760" y="995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997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Köszönöm szépen a figyelme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4C9ED0-A39E-48B9-9C19-0EE14C066A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szív felépíté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llüregben a tüdővel együtt helyezkedik 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Ököl nagyság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gelye alul balra dő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2451240"/>
            <a:ext cx="4038480" cy="282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C29763-39C1-4064-9B92-887D64E3F427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szív felépíté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897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ívülről kétrétegű savós hártya (a belső a szívfalhoz nőtt, a külső a szívbur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ét réteg között folyadék található, ami súrlódáscsökkent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lattuk a szívizomszövet (a bal kamráé a legvastagabb, 12 m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szívfeleket kötőszövetes sövény választja el egymástól (ezen nyílás van magzati korban), a két kamra között már izmos szívsövé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Legbelül található a szívbelhártya (kötőszövet és hámréte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64320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C586C5-117A-45E4-982B-3AA279BC0F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szív felépíté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465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vitorlás billentyű a szívbelhártya felületnövelésével jön lé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aloldali 2 hegy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jobb oldali 3 hegy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ó hegyük az ínhúrokkal a szemölcsizmokhoz kapcsolód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yomáskülönbség idézi elő mozgásuk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vér egyirányú áramlását biztosítjá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kilépő erek határán zsebes (félhold alakú) billentyűk ugyanígy működn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44880" y="1600200"/>
            <a:ext cx="364356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9D4686-DB94-4330-B19E-06D44E802A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szív saját ere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500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nagy vérkör részeként koszorúerek gondoskodnak a szívfal anyagellátásáró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oszorúerekbe jutó vérből 15% a jobb szívfelet látja 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lzáródásuk szívizomszövet elhalást, infarktust eredmény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áthidaló erek beépítése segít </a:t>
            </a:r>
            <a:r>
              <a:rPr b="0" lang="hu-H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(</a:t>
            </a:r>
            <a:r>
              <a:rPr b="0" lang="hu-H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bypass</a:t>
            </a:r>
            <a:r>
              <a:rPr b="0" lang="hu-H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 műté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oszorúerek elmeszesedett, beszűkült falát </a:t>
            </a:r>
            <a:r>
              <a:rPr b="0" lang="hu-HU" sz="2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ballonos értágítással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s lehet módosít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2517840" cy="312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11280" y="4508640"/>
            <a:ext cx="234468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E78517-EB3D-460D-A7B4-F3EEB2A0F2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 szív működése: autogén működé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mbrionális szívizomszövetből képződő (több plazma, kevesebb miofibrillum) </a:t>
            </a:r>
            <a:r>
              <a:rPr b="0" lang="hu-H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ingerületképző-, és vezető rendszer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- miogé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szinusz csomó spontán ingerületi frekvenciája 70/per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Utána az ingerület végigfut a pitvarfal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léri a pitvar-kamrai csomót, aminek saját ingerületi frekvenciája 45/per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nen rátevődik a szívsövényben futó His-kötegre, majd a Tawara szárakra, majd a Purkinje rostokra, amik ingerlik a kamrafal izomzatát, így az összehúzódik (enélkül a kamrák 25-30/perc frekvenciájúak lennéne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Lekötéssel igazolható a saját frekv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acemaker segítheti az ingerületképzé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DD503-044A-4055-95B6-681DD4F0F4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 szívizom néhány ingerületi sajátosság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171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minden vagy semmi törvénye alapján, de ingerülete spontán alakul 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em képes tartós összehúzódás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ngerület szétterjed az egész izomza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összehúzódás mértéke arányos az elernyedés alatt bekövetkezett megnyúlás mértéké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lektromos aktivitását az elektrokradiogram rajzolja 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2496960"/>
            <a:ext cx="4038480" cy="27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9392FD-C32F-4634-B057-CCE8BFCF8E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ffffcc"/>
                </a:solidFill>
                <a:latin typeface="Tahoma"/>
              </a:rPr>
              <a:t>A szívciklus a bal szívfélb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 elernyedés (diasztolé) és egy összehúzódás(szisztol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sulinet.hu/sunflower/SMS/start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elernyedt pitvarba (nagy térfogat, kis nyomás) a tüdővéna felől vér áraml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telítődés miatt nő a vérnyomása, a vitorlás billentyű nyílik és a vér az elernyedő kamrába áraml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kkor terjed az ingerület a szinusz csomó felől a pitvar falára, amitől összehúzódik, még tovább nő a vérnyomása, még több vért nyom át a már teljesen elernyedt kamrá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96BB63-D995-4CEF-A103-BE5A2988B1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09:19:26Z</dcterms:created>
  <dc:creator>Sebőkné Orosz Katalin</dc:creator>
  <dc:description/>
  <dc:language>en-US</dc:language>
  <cp:lastModifiedBy>Sebőkné Orosz Katalin</cp:lastModifiedBy>
  <dcterms:modified xsi:type="dcterms:W3CDTF">2006-03-15T13:09:16Z</dcterms:modified>
  <cp:revision>5</cp:revision>
  <dc:subject/>
  <dc:title>Az ember keringési rendszere</dc:title>
</cp:coreProperties>
</file>