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F88-222A-4B1F-B908-E94A77EA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63691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3782160"/>
            <a:ext cx="63691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9B4-EEBB-44B5-87DB-A7C465EB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378216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78216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3D1-E01B-4567-BD78-0DA742F9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6800" y="175212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0320" y="175212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378216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6800" y="378216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0320" y="378216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1B6-8890-4CE1-995D-89BABB1E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852B-8ABB-42FF-AD9E-F2CF82D0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1752120"/>
            <a:ext cx="6369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3C55-D5F0-42D5-AE9C-45351014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6369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6DA8-56A2-4DC9-BD4B-74DE4BD7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3107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107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9908-9570-4A37-80F6-40B84C16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40E6-958E-432E-862F-EB8752EC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819000"/>
            <a:ext cx="5791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1E16-F99D-4A30-B062-160DE5CB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107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378216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C8DD-6403-4026-A627-9EC7D3B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1752120"/>
            <a:ext cx="6369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A17-9B79-40AF-B5E1-E91C6CAA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3107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78216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F5C2-7780-4203-AE1A-859789DD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3782160"/>
            <a:ext cx="63691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DC36-9FDB-40F5-9481-AFA4809B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63691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3782160"/>
            <a:ext cx="63691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4E83-597E-44CB-997F-7A770CB7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78216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78216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C262-29C3-48CB-A9CA-79E1C6EC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6800" y="175212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0320" y="175212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378216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6800" y="378216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0320" y="3782160"/>
            <a:ext cx="2050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4F15-5605-49EA-B922-6F2F4260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6369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971-4A5F-43E5-B1D7-452B2D77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3107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107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19A-71C4-4358-9E71-9D4562A6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981-958E-4B59-9082-E206247E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819000"/>
            <a:ext cx="5791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6B9-87DF-4425-B060-05CE908C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107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378216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639-7598-401C-914B-57C6C33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3107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78216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F65-42CE-4A9D-877A-FCFC050D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107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3782160"/>
            <a:ext cx="63691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C94-9811-4DD7-B6D1-B991AD34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752120"/>
            <a:ext cx="6369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1500"/>
              </a:spcBef>
              <a:buClr>
                <a:srgbClr val="f8f8f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1500"/>
              </a:spcBef>
              <a:buClr>
                <a:srgbClr val="f8f8f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46A0-B5D9-467D-965A-6F3EB435B90D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115-22C9-4B8F-831B-A871908F2613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f8f8f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f8f8f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KG és a KI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Bánhegyesi Zoltá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KG és a KI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7584-7C02-4273-BA60-2EDA9BEB3B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.03.3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Jövő (most!) – „HEFOP 3.1.3.”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7280" y="1752120"/>
            <a:ext cx="6585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A kompetencia-alapú oktatás kiterjesztése a LKG-ban”</a:t>
            </a: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1. félév (2005/06, 2. félév!?)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felkészülés, 8 tanár továbbképzés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dokumentumok elkészítése, tájékoztatás, eszközbeszerzé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2. félév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implementációs tevékenység megkezdése, belső továbbképzések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3. félév: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tapasztalatok elemzése, megismertetése, zárókonferencia, kiadvány</a:t>
            </a:r>
            <a:r>
              <a:rPr b="0" lang="hu-H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4. félév:</a:t>
            </a: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pedagógusok felkészítése, tevékenység kiterjesztése új osztályokra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KG és a KI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365-C4CD-4200-8365-1B1D416209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.03.30</a:t>
            </a: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miről szó lesz…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6369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KIT – kell ez nekünk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Adottságok, lehetősége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Múlt, jelen, jövő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Konkrétan… (SOK – sok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Néhány apróság (talán…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KG és a KI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84D-86A2-4B9F-A30D-5AC66E9011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.03.3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ell ez nekünk?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6369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zámítógép + hálózat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jött, látott, győzöt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ommunikáció, információszerzés, munkavégzés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szköz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-levelezés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formációgyűjtés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soportmunka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ávmunka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ávoktatás, stb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gitális írástudá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igitális analfabétizmus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↕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ákjaink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életesélye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KG és a KI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3ED-648E-438E-A088-C245819DAC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.03.30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ehetőségek, adottságok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7280" y="1752120"/>
            <a:ext cx="6585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Vas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Iskola: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~ 18 M Ft, géptermek, tantermek, hálózat, inf. rendszer, „kütyük”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Otthon: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98%-os számítógép-, 72%-os internet-ellátottság !!! (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???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Tudá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Diák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: hozza (?!), + alapozó informatika LKG-ban kezdő évfolyamok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Tanár: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min. 50% min. alapfokú ismerett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Tartal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egyre több oktatási célú érhető el (pl. SD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Az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 eszközöket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(tárgyakat, tudást)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használni kell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nem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informatika órán is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KG és a KI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F2C-07E9-4276-970A-639A41EAE6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.03.30</a:t>
            </a: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 LKG az ENIS tagja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920" y="1752120"/>
            <a:ext cx="7058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uropean </a:t>
            </a: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etwork of </a:t>
            </a: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nnovative </a:t>
            </a: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chools (Európai Innovatív Iskolahálózat)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részt vesz nemzetközi és hazai projektekben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folyamatosan fejleszti a KIT integrálását és alkalmazását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megosztja tapasztalatait, együttműködik más iskolákkal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az iskola honlapját rendszeresen frissíti, beleértve a projekteket, tevékenységeket és a virtuális tanulási környezet minőségét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4-8 pedagógus részvételével alkotó műhelyt állít fel a projektek koordinálására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gyakorló terepet biztosít tanárképzési és tanár-továbbképzési programok számára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diákokból álló tanulócsoportokat hoz létre a programok kipróbálásár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KG és a KI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2F4-0836-4D71-8DA8-6DA6862D11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.03.3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últ, …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63691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CELEBRATE 1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2002/03, </a:t>
            </a: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digitális tananyagok fejleszté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biológia, fizika, matematika: 10 tananya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CELEBRATE 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2003/04, </a:t>
            </a: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tananyagok kipróbálása, fejleszté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4 tanár, 8 tantárgy, 80 tanóra, 200 diák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85 tananyag kipróbálása, 9 fejlesztése, 6 adaptálása</a:t>
            </a:r>
            <a:r>
              <a:rPr b="0" lang="hu-H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SDT 1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2004/05, </a:t>
            </a: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Sulinet Digitális Tudásbázis tesztelé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5 tanár, 5 tantárgy, 50 tanóra, 160 diá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 Narrow"/>
              </a:rPr>
              <a:t>(+ SCALE, ZORKA, „Földmérés”, „Parlagfű”, …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KG és a KI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8FF-E677-4254-B17A-47E50A3757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.03.30</a:t>
            </a: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apasztalatok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752480"/>
            <a:ext cx="6369120" cy="419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ákok kedve, lelkesedése, érdeklődése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yakorlat a KI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értelm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használatában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degen nyelv gyakorlása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élyebb, sokszínűbb tananyagismeret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k előkészítő munka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zoftverek működési hiányosságai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émely anyag speciális szoftverigénye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ákok rugalmassága; segítőkészsége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nárok kedve, lelkesedése, érdeklődé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KG és a KI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683-123B-4D78-B91D-3CC191759B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.03.30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Jelen – SDT 2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3280" y="1752480"/>
            <a:ext cx="6369120" cy="30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Informatikai eszközök alkalmazása a tanulási folyamatban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1. év</a:t>
            </a: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: 6 kiválasztott iskola fejlesztése mentorok és tréningek segítségével, iskolafejlesztési szemlélettel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2. év</a:t>
            </a: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: az iskolák műhelyekké fejlesztése, e műhelymunka támogatása; közhasznú kézikönyv létrehozása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3. év</a:t>
            </a: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: tanácsadás, főként a kézikönyv használatában, ped. intézetekkel együttműködv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KG és a KI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D6C-E427-40F1-A60E-97AE643B5B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.03.30</a:t>
            </a: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DT 2. – jelenlegi teendők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1752120"/>
            <a:ext cx="6369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Tanáronként 10 előre megtervezett, tanmenetbe illesztett SDT óra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Keretrendszer-használat („</a:t>
            </a: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Moodle</a:t>
            </a: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Tanári kutatási napló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Műhelymunk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76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Az iskolán belül (óralátogatás i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76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A mentorral (óralátogatás i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76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Az iskolák között (óralátogatás i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Moodle</a:t>
            </a:r>
            <a:r>
              <a:rPr b="0" lang="hu-HU" sz="2200" spc="-1" strike="noStrike">
                <a:solidFill>
                  <a:srgbClr val="000000"/>
                </a:solidFill>
                <a:latin typeface="Arial Narrow"/>
              </a:rPr>
              <a:t> oktatási keretrendszer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8762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tartalomkezelő rendszer (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ontent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anagement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ystem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762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tanulásmenedzsment rendszer (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earning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anagement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ystem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KG és a KI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4D4-E9AC-44A8-A556-8499D9F2D6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.03.30</a:t>
            </a: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5:32:09Z</dcterms:created>
  <dc:creator>BZ</dc:creator>
  <dc:description/>
  <dc:language>en-US</dc:language>
  <cp:lastModifiedBy>Leövey Klára Gimnázium</cp:lastModifiedBy>
  <dcterms:modified xsi:type="dcterms:W3CDTF">2006-03-30T11:23:20Z</dcterms:modified>
  <cp:revision>23</cp:revision>
  <dc:subject/>
  <dc:title>LKG és a KIT</dc:title>
</cp:coreProperties>
</file>